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61800" y="621972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F72-B88B-4962-AC04-8C0109899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5B35965-83C8-4971-B5F3-65C4FC5C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920000">
            <a:off x="722160" y="2707920"/>
            <a:ext cx="7966080" cy="174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laufsprac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F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ie bediene ich den SFC-Trai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2920" y="2819520"/>
            <a:ext cx="2952720" cy="2124000"/>
            <a:chOff x="1042920" y="2819520"/>
            <a:chExt cx="2952720" cy="2124000"/>
          </a:xfrm>
        </p:grpSpPr>
        <p:sp>
          <p:nvSpPr>
            <p:cNvPr id="79" name=""/>
            <p:cNvSpPr/>
            <p:nvPr/>
          </p:nvSpPr>
          <p:spPr>
            <a:xfrm>
              <a:off x="1797120" y="2819520"/>
              <a:ext cx="2198520" cy="21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ff0066"/>
                  </a:solidFill>
                  <a:latin typeface="Times New Roman"/>
                </a:rPr>
                <a:t>Auswahl der Le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2920" y="342900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09880" y="2781360"/>
            <a:ext cx="2819520" cy="571320"/>
            <a:chOff x="3809880" y="2781360"/>
            <a:chExt cx="2819520" cy="571320"/>
          </a:xfrm>
        </p:grpSpPr>
        <p:sp>
          <p:nvSpPr>
            <p:cNvPr id="82" name=""/>
            <p:cNvSpPr/>
            <p:nvPr/>
          </p:nvSpPr>
          <p:spPr>
            <a:xfrm>
              <a:off x="4140360" y="2781360"/>
              <a:ext cx="24890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Inh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09880" y="3048120"/>
              <a:ext cx="304920" cy="304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809880" y="3357720"/>
            <a:ext cx="2819520" cy="305280"/>
            <a:chOff x="3809880" y="3357720"/>
            <a:chExt cx="2819520" cy="305280"/>
          </a:xfrm>
        </p:grpSpPr>
        <p:sp>
          <p:nvSpPr>
            <p:cNvPr id="85" name=""/>
            <p:cNvSpPr/>
            <p:nvPr/>
          </p:nvSpPr>
          <p:spPr>
            <a:xfrm>
              <a:off x="4140360" y="3357720"/>
              <a:ext cx="2489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33cc33"/>
                  </a:solidFill>
                  <a:latin typeface="Times New Roman"/>
                </a:rPr>
                <a:t>Lernz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9880" y="3581280"/>
              <a:ext cx="30492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09880" y="3809880"/>
            <a:ext cx="2819520" cy="2215800"/>
            <a:chOff x="3809880" y="3809880"/>
            <a:chExt cx="2819520" cy="2215800"/>
          </a:xfrm>
        </p:grpSpPr>
        <p:sp>
          <p:nvSpPr>
            <p:cNvPr id="88" name=""/>
            <p:cNvSpPr/>
            <p:nvPr/>
          </p:nvSpPr>
          <p:spPr>
            <a:xfrm>
              <a:off x="4140360" y="3990960"/>
              <a:ext cx="2489040" cy="20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Beschreibung 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Übungsaufg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304920" cy="9144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73360" y="170028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00200" y="60948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 Theor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5320" y="1844640"/>
            <a:ext cx="3459960" cy="2808360"/>
            <a:chOff x="535320" y="1844640"/>
            <a:chExt cx="3459960" cy="2808360"/>
          </a:xfrm>
        </p:grpSpPr>
        <p:sp>
          <p:nvSpPr>
            <p:cNvPr id="93" name=""/>
            <p:cNvSpPr/>
            <p:nvPr/>
          </p:nvSpPr>
          <p:spPr>
            <a:xfrm>
              <a:off x="535320" y="1844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Sk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62120" y="2225520"/>
              <a:ext cx="3233160" cy="2427480"/>
              <a:chOff x="762120" y="2225520"/>
              <a:chExt cx="3233160" cy="242748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2225520"/>
                <a:ext cx="1439640" cy="12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flipH="1" flipV="1">
                <a:off x="2361960" y="2987640"/>
                <a:ext cx="1633320" cy="1665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460800" y="3645000"/>
            <a:ext cx="3390120" cy="1577880"/>
            <a:chOff x="460800" y="3645000"/>
            <a:chExt cx="3390120" cy="1577880"/>
          </a:xfrm>
        </p:grpSpPr>
        <p:sp>
          <p:nvSpPr>
            <p:cNvPr id="98" name=""/>
            <p:cNvSpPr/>
            <p:nvPr/>
          </p:nvSpPr>
          <p:spPr>
            <a:xfrm>
              <a:off x="460800" y="364500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nimierte Foli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62120" y="4025880"/>
              <a:ext cx="3088800" cy="1197000"/>
              <a:chOff x="762120" y="4025880"/>
              <a:chExt cx="3088800" cy="1197000"/>
            </a:xfrm>
          </p:grpSpPr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4025880"/>
                <a:ext cx="1582560" cy="11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 flipH="1" flipV="1">
                <a:off x="2437920" y="4711680"/>
                <a:ext cx="1413000" cy="856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914560" y="5157720"/>
            <a:ext cx="2030760" cy="1110600"/>
            <a:chOff x="2914560" y="5157720"/>
            <a:chExt cx="2030760" cy="1110600"/>
          </a:xfrm>
        </p:grpSpPr>
        <p:sp>
          <p:nvSpPr>
            <p:cNvPr id="103" name=""/>
            <p:cNvSpPr/>
            <p:nvPr/>
          </p:nvSpPr>
          <p:spPr>
            <a:xfrm>
              <a:off x="3995640" y="5157720"/>
              <a:ext cx="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4560" y="5808600"/>
              <a:ext cx="203076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bstkontro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35240" y="4941720"/>
            <a:ext cx="2562120" cy="930240"/>
            <a:chOff x="1335240" y="4941720"/>
            <a:chExt cx="2562120" cy="930240"/>
          </a:xfrm>
        </p:grpSpPr>
        <p:sp>
          <p:nvSpPr>
            <p:cNvPr id="106" name=""/>
            <p:cNvSpPr/>
            <p:nvPr/>
          </p:nvSpPr>
          <p:spPr>
            <a:xfrm flipH="1">
              <a:off x="2556000" y="4941720"/>
              <a:ext cx="1341360" cy="419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35240" y="5503680"/>
              <a:ext cx="97776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600200" y="380880"/>
            <a:ext cx="4419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 Uebe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4000" y="2230560"/>
            <a:ext cx="4386600" cy="2646360"/>
            <a:chOff x="414000" y="2230560"/>
            <a:chExt cx="4386600" cy="26463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914400" y="2590920"/>
              <a:ext cx="1779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14000" y="223056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konfigur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590920" y="3505320"/>
              <a:ext cx="2209680" cy="1371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5680" y="4724280"/>
            <a:ext cx="4264560" cy="1575000"/>
            <a:chOff x="535680" y="4724280"/>
            <a:chExt cx="4264560" cy="1575000"/>
          </a:xfrm>
        </p:grpSpPr>
        <p:sp>
          <p:nvSpPr>
            <p:cNvPr id="115" name=""/>
            <p:cNvSpPr/>
            <p:nvPr/>
          </p:nvSpPr>
          <p:spPr>
            <a:xfrm flipH="1">
              <a:off x="2361960" y="5105520"/>
              <a:ext cx="2438280" cy="457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914400" y="5105520"/>
              <a:ext cx="12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5680" y="47242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tes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91640" y="1036800"/>
            <a:ext cx="3449880" cy="2247480"/>
            <a:chOff x="4391640" y="1036800"/>
            <a:chExt cx="3449880" cy="2247480"/>
          </a:xfrm>
        </p:grpSpPr>
        <p:sp>
          <p:nvSpPr>
            <p:cNvPr id="119" name=""/>
            <p:cNvSpPr/>
            <p:nvPr/>
          </p:nvSpPr>
          <p:spPr>
            <a:xfrm>
              <a:off x="4391640" y="1036800"/>
              <a:ext cx="34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Vorschau auf Simulationsan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148360" y="1341360"/>
              <a:ext cx="2303280" cy="1942920"/>
              <a:chOff x="5148360" y="1341360"/>
              <a:chExt cx="2303280" cy="1942920"/>
            </a:xfrm>
          </p:grpSpPr>
          <p:sp>
            <p:nvSpPr>
              <p:cNvPr id="121" name=""/>
              <p:cNvSpPr/>
              <p:nvPr/>
            </p:nvSpPr>
            <p:spPr>
              <a:xfrm flipH="1" flipV="1">
                <a:off x="6567480" y="2311200"/>
                <a:ext cx="884160" cy="9730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1341360"/>
                <a:ext cx="1471680" cy="97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1549440" y="1484280"/>
            <a:ext cx="3382920" cy="3312720"/>
            <a:chOff x="1549440" y="1484280"/>
            <a:chExt cx="3382920" cy="3312720"/>
          </a:xfrm>
        </p:grpSpPr>
        <p:sp>
          <p:nvSpPr>
            <p:cNvPr id="124" name=""/>
            <p:cNvSpPr/>
            <p:nvPr/>
          </p:nvSpPr>
          <p:spPr>
            <a:xfrm>
              <a:off x="1549440" y="1484280"/>
              <a:ext cx="29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Ev. Vorlage kopieren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203640" y="1915920"/>
              <a:ext cx="1728720" cy="2881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246640" cy="380844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38080" y="4800600"/>
            <a:ext cx="4647960" cy="1333440"/>
            <a:chOff x="838080" y="4800600"/>
            <a:chExt cx="4647960" cy="1333440"/>
          </a:xfrm>
        </p:grpSpPr>
        <p:sp>
          <p:nvSpPr>
            <p:cNvPr id="128" name=""/>
            <p:cNvSpPr/>
            <p:nvPr/>
          </p:nvSpPr>
          <p:spPr>
            <a:xfrm flipH="1">
              <a:off x="2590560" y="5105520"/>
              <a:ext cx="28954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838080" y="4800600"/>
              <a:ext cx="144792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838080" y="2819520"/>
            <a:ext cx="4647960" cy="1981080"/>
            <a:chOff x="838080" y="2819520"/>
            <a:chExt cx="4647960" cy="1981080"/>
          </a:xfrm>
        </p:grpSpPr>
        <p:sp>
          <p:nvSpPr>
            <p:cNvPr id="131" name=""/>
            <p:cNvSpPr/>
            <p:nvPr/>
          </p:nvSpPr>
          <p:spPr>
            <a:xfrm flipH="1" flipV="1">
              <a:off x="2590560" y="3505320"/>
              <a:ext cx="2895480" cy="1295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16732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 txBox="1"/>
          <p:nvPr/>
        </p:nvSpPr>
        <p:spPr>
          <a:xfrm>
            <a:off x="1371600" y="53352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. Vergleich mit Lösung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ie bediene ich den SFC-Trai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411280" y="4149720"/>
            <a:ext cx="4105440" cy="1871280"/>
            <a:chOff x="2411280" y="4149720"/>
            <a:chExt cx="4105440" cy="1871280"/>
          </a:xfrm>
        </p:grpSpPr>
        <p:sp>
          <p:nvSpPr>
            <p:cNvPr id="137" name=""/>
            <p:cNvSpPr/>
            <p:nvPr/>
          </p:nvSpPr>
          <p:spPr>
            <a:xfrm>
              <a:off x="2411280" y="4149720"/>
              <a:ext cx="4105440" cy="1191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Einstellung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Wahl der Anzeigeprogram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Wahl der Spr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843280" y="5373360"/>
              <a:ext cx="1081080" cy="64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4653000"/>
            <a:ext cx="1979640" cy="1368000"/>
            <a:chOff x="0" y="4653000"/>
            <a:chExt cx="1979640" cy="1368000"/>
          </a:xfrm>
        </p:grpSpPr>
        <p:sp>
          <p:nvSpPr>
            <p:cNvPr id="140" name=""/>
            <p:cNvSpPr/>
            <p:nvPr/>
          </p:nvSpPr>
          <p:spPr>
            <a:xfrm>
              <a:off x="0" y="4653000"/>
              <a:ext cx="197964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Anze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der Anl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081080" y="5444640"/>
              <a:ext cx="68256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iel Erfol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2909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907920"/>
            <a:ext cx="705492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so graphische Ablaufsprach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2457360"/>
            <a:ext cx="8134200" cy="37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chriebene Sprach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übersicht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zient, kompl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s ... und wenn .. und gerade .. dann ... aber nur falls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ht eindeuti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verständn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 nur für lineare Zusammenhänge geeig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6454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so Ablaufsprac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666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fach zu verste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hr gut geeignet für parallele Abläu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osse theoretische Grundlagen (von Petri-Netzen übertragb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osse Verbr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68680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wendungen der Ablaufsprache &amp; Petri-Net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ablauf dar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e Prozesse modellieren und analysieren, programm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eilte Ressourc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nbank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tzeitsy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lierung, Simulation und Analyse von Warteschla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uerungstechn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lierung, Analyse, Programmierung von Steu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e Proz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riebstechn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lierung, Analyse von Fertigungsan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äufe in der Qualitäts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52280" y="838080"/>
            <a:ext cx="868680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wendungen der Ablaufsprache &amp; Petri-Net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as bietet der Ku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ie zeichnet man ein Ablaufdiagra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0" y="2738520"/>
          <a:ext cx="380988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38520"/>
                    <a:ext cx="380988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838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as bietet der Ku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elche Aufgaben kann ich lö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teuerung einer Lichtsignalanl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4956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838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as bietet der Ku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elche Aufgaben kann ich lö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teuerung einer Chemieanl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62520" y="2819520"/>
          <a:ext cx="427644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19520"/>
                    <a:ext cx="427644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168200"/>
            <a:ext cx="7238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as interaktive e-learning-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ktion: lernen anhand einer Aufg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Interak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blauf kann programmiert und simulier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Lösung kann mit attraktiver Simulationsanlage geteste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eigene Lösung mit Musterlösung vergle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30T16:11:13Z</dcterms:modified>
  <cp:revision>78</cp:revision>
  <dc:subject/>
  <dc:title>Ablaufsprache</dc:title>
</cp:coreProperties>
</file>