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png" ContentType="image/png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61800" y="621972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FBDD-E965-48B1-9381-61A078457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9B75BCCF-95C0-4358-BF10-6A7985944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" name=""/>
          <p:cNvGraphicFramePr/>
          <p:nvPr/>
        </p:nvGraphicFramePr>
        <p:xfrm>
          <a:off x="7086600" y="380880"/>
          <a:ext cx="1657440" cy="49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80880"/>
                    <a:ext cx="1657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tomaten: vom Flowchart zur Ablaufspr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J.P. K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276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42674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Moore-Auto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438280" y="2819520"/>
          <a:ext cx="5037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5037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80880" y="615600"/>
            <a:ext cx="426744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as Zustandsdiagram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52578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tri-Ne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00200" y="1905120"/>
          <a:ext cx="5943600" cy="357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94360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990720" y="387000"/>
            <a:ext cx="525780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as universelle Diagram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419720" y="990720"/>
          <a:ext cx="409896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990720"/>
                    <a:ext cx="409896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8600" y="463320"/>
            <a:ext cx="487692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as equivalente Diagram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4876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laufsprac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Vergleich: pers. Erfahr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Flowchart für Anlagensteuerung nicht geeig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Zustandsautomat für einfache Systeme opt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blaufsprache/Petri-Netz für Systeme mit parallelen Prozessen id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er Ausbildungs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Entscheidet über Ausbildungserfol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rehbuch für das e-learn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2360" y="893520"/>
            <a:ext cx="6839280" cy="1320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Times New Roman"/>
              </a:rPr>
              <a:t>1. Einfache Sequenz von Schritten und Transitio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ernprobl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was in Schrit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was in Tran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24280" y="3124080"/>
          <a:ext cx="327672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124080"/>
                    <a:ext cx="327672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2360" y="1198440"/>
            <a:ext cx="6839280" cy="711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Times New Roman"/>
              </a:rPr>
              <a:t>2. Ausführung von Aktio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ernprobl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etails der Ausfü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chaltrege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0" y="3886200"/>
          <a:ext cx="342900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86200"/>
                    <a:ext cx="34290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2360" y="1198440"/>
            <a:ext cx="6839280" cy="711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Times New Roman"/>
              </a:rPr>
              <a:t>3. Verzweigun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ernprobl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wo ist die Schaltbedin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348000" y="3500280"/>
          <a:ext cx="388620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500280"/>
                    <a:ext cx="38862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er Ausbildungs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4. Kompliziertere Abläu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5. Synchronisation von Proze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6. Komplexere Aufga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7. Formalisierung in einer Inzidenz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8. Analyse auf Erreichbar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9. Analyse auf Sicherheit/Beschränkth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168200"/>
            <a:ext cx="7238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as interaktive e-learning-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ektion: Problem/Aufga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Interak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blauf kann programmiert und simulier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Lösung kann mit attraktiver Simulationsanlage geteste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toma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kurze Uebersicht &amp; Vergl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er Ausbildungsw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as interaktive e-learning-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57150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fb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876920" cy="419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38480" y="2743200"/>
            <a:ext cx="2362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66"/>
                </a:solidFill>
                <a:latin typeface="Times New Roman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352680"/>
            <a:ext cx="2362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66"/>
                </a:solidFill>
                <a:latin typeface="Times New Roman"/>
              </a:rPr>
              <a:t>Lernz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886200"/>
            <a:ext cx="2362320" cy="20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66"/>
                </a:solidFill>
                <a:latin typeface="Times New Roman"/>
              </a:rPr>
              <a:t>Uebungsauf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2819520"/>
            <a:ext cx="1981080" cy="18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66"/>
                </a:solidFill>
                <a:latin typeface="Times New Roman"/>
              </a:rPr>
              <a:t>Auswahl der Le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876920" cy="4194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971640" y="1268280"/>
            <a:ext cx="1428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 Theor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5320" y="1981080"/>
            <a:ext cx="3503160" cy="2742840"/>
            <a:chOff x="535320" y="1981080"/>
            <a:chExt cx="3503160" cy="274284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762120" y="2362320"/>
              <a:ext cx="143964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35320" y="19810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Sk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362320" y="3123720"/>
              <a:ext cx="1676160" cy="160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800" y="3962520"/>
            <a:ext cx="3577320" cy="1577880"/>
            <a:chOff x="460800" y="3962520"/>
            <a:chExt cx="3577320" cy="157788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762120" y="4343400"/>
              <a:ext cx="158256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60800" y="39625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nimierte Foli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37920" y="4876920"/>
              <a:ext cx="1600200" cy="152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57150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fb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30280" y="5105520"/>
            <a:ext cx="2608200" cy="1110600"/>
            <a:chOff x="1430280" y="5105520"/>
            <a:chExt cx="2608200" cy="1110600"/>
          </a:xfrm>
        </p:grpSpPr>
        <p:sp>
          <p:nvSpPr>
            <p:cNvPr id="128" name=""/>
            <p:cNvSpPr/>
            <p:nvPr/>
          </p:nvSpPr>
          <p:spPr>
            <a:xfrm flipH="1">
              <a:off x="2819520" y="5105520"/>
              <a:ext cx="1218960" cy="5331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0280" y="5756400"/>
              <a:ext cx="2030760" cy="459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Times New Roman"/>
                </a:rPr>
                <a:t>Selbstkontro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876920" cy="419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187280" y="1341360"/>
            <a:ext cx="126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 Uebe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14000" y="2230560"/>
            <a:ext cx="4386600" cy="2646360"/>
            <a:chOff x="414000" y="2230560"/>
            <a:chExt cx="4386600" cy="264636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914400" y="2590920"/>
              <a:ext cx="17794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14000" y="223056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blauf konfigurie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590920" y="3505320"/>
              <a:ext cx="2209680" cy="1371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35680" y="4724280"/>
            <a:ext cx="4264560" cy="1575000"/>
            <a:chOff x="535680" y="4724280"/>
            <a:chExt cx="4264560" cy="1575000"/>
          </a:xfrm>
        </p:grpSpPr>
        <p:sp>
          <p:nvSpPr>
            <p:cNvPr id="137" name=""/>
            <p:cNvSpPr/>
            <p:nvPr/>
          </p:nvSpPr>
          <p:spPr>
            <a:xfrm flipH="1">
              <a:off x="2361960" y="5105520"/>
              <a:ext cx="2438280" cy="457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914400" y="5105520"/>
              <a:ext cx="12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5680" y="47242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blauf tes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57150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fb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876920" cy="419400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838080" y="4800600"/>
            <a:ext cx="4647960" cy="1333440"/>
            <a:chOff x="838080" y="4800600"/>
            <a:chExt cx="4647960" cy="1333440"/>
          </a:xfrm>
        </p:grpSpPr>
        <p:sp>
          <p:nvSpPr>
            <p:cNvPr id="143" name=""/>
            <p:cNvSpPr/>
            <p:nvPr/>
          </p:nvSpPr>
          <p:spPr>
            <a:xfrm flipH="1">
              <a:off x="2590560" y="5105520"/>
              <a:ext cx="289548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838080" y="4800600"/>
              <a:ext cx="144792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838080" y="2819520"/>
            <a:ext cx="4647960" cy="1981080"/>
            <a:chOff x="838080" y="2819520"/>
            <a:chExt cx="4647960" cy="1981080"/>
          </a:xfrm>
        </p:grpSpPr>
        <p:sp>
          <p:nvSpPr>
            <p:cNvPr id="146" name=""/>
            <p:cNvSpPr/>
            <p:nvPr/>
          </p:nvSpPr>
          <p:spPr>
            <a:xfrm flipH="1" flipV="1">
              <a:off x="2590560" y="3505320"/>
              <a:ext cx="2895480" cy="1295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838080" y="2819520"/>
              <a:ext cx="16732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 txBox="1"/>
          <p:nvPr/>
        </p:nvSpPr>
        <p:spPr>
          <a:xfrm>
            <a:off x="971640" y="1700280"/>
            <a:ext cx="202860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3. Lösung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57150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fb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6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Zusammenfass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ool erlaubt interessante, offene Problemstell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mulierte Anlagen motivieren den Stud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ösungen können sehr unterschiedlich sein, aber Selbstbeurteilung einfach mö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Zusammenfass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Unterrichtserfahr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ufgaben konnten nur bedingt selbständig gelös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ohne Zwang wenig Engagement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Offene Aufgabenstellungen möglich, da für Tool formales Antwortvokabular defini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Ist dies ein Weg für ‚intelligentere‘ Mensch-Machinen-Interaktion im e-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Motivation, Zie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utoma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formale Sprache zur Beschreibung von Ereignis diskreten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naly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3560" y="700200"/>
            <a:ext cx="705492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so graphische Beschreibun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2457360"/>
            <a:ext cx="8134200" cy="37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chriebene Sprach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übersicht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zient, kompliz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s ... und wenn .. und gerade .. dann ... aber nur falls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ht eindeuti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verständni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 nur für lineare Zusammenhänge geeig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60199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wend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auf da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e Prozesse modellieren und analysieren, programm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 geteilter Ressourcen, Datenbankzug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tzeit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, Simulation und Analyse von Warteschl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munikations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uerungstechn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flichtenheft, Modellierung, Analyse, Programmierung von Steu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e Proz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agenvisual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riebstechn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zessbeschreibung, Work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, Analyse von Fertigungsan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äufe in der Qualitätssich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990360" y="747360"/>
            <a:ext cx="46479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wend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arstellung von Automat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2739600"/>
            <a:ext cx="5473440" cy="14295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as ist nun am besten geeig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492120"/>
            <a:ext cx="4038840" cy="1563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as intuitive, procedurale Diagram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FLOW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3990960" cy="6086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2368440"/>
            <a:ext cx="4038840" cy="7592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Flow-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42674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ly-Auto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33920" y="2362320"/>
          <a:ext cx="460836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362320"/>
                    <a:ext cx="460836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0880" y="615600"/>
            <a:ext cx="426744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as Zustandsdiagram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Ingenieurschule Oensingen</dc:creator>
  <dc:description/>
  <dc:language>en-US</dc:language>
  <cp:lastModifiedBy>Keller</cp:lastModifiedBy>
  <cp:lastPrinted>1995-10-13T13:45:16Z</cp:lastPrinted>
  <dcterms:modified xsi:type="dcterms:W3CDTF">2004-03-07T09:39:07Z</dcterms:modified>
  <cp:revision>108</cp:revision>
  <dc:subject/>
  <dc:title>Ablaufsprache</dc:title>
</cp:coreProperties>
</file>