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36EA-419A-4318-A72D-0966C88AE36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E3C7619A-5DF7-4D6F-83F0-E16CD03F06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3860640"/>
            <a:ext cx="647640" cy="360360"/>
          </a:xfrm>
          <a:custGeom>
            <a:avLst/>
            <a:gdLst>
              <a:gd name="textAreaLeft" fmla="*/ 8100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371600" y="2590920"/>
          <a:ext cx="27147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90920"/>
                    <a:ext cx="27147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257800" y="2743200"/>
          <a:ext cx="31240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743200"/>
                    <a:ext cx="31240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are associated to steps and define what ha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048120"/>
          <a:ext cx="419076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19076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Qual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150840" indent="-150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qualifier determines, when the action i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alifiers (not complet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: Normal, when step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+: at step ent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-: when step i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: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6880" indent="-1256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: R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Qual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362320" y="3048120"/>
          <a:ext cx="419076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19076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9520" y="2541600"/>
            <a:ext cx="7161480" cy="2846520"/>
            <a:chOff x="839520" y="2541600"/>
            <a:chExt cx="7161480" cy="2846520"/>
          </a:xfrm>
        </p:grpSpPr>
        <p:sp>
          <p:nvSpPr>
            <p:cNvPr id="122" name=""/>
            <p:cNvSpPr/>
            <p:nvPr/>
          </p:nvSpPr>
          <p:spPr>
            <a:xfrm>
              <a:off x="2174760" y="4965840"/>
              <a:ext cx="58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4760" y="3973680"/>
              <a:ext cx="5143680" cy="745920"/>
            </a:xfrm>
            <a:custGeom>
              <a:avLst/>
              <a:gdLst/>
              <a:ahLst/>
              <a:rect l="l" t="t" r="r" b="b"/>
              <a:pathLst>
                <a:path w="6021" h="668">
                  <a:moveTo>
                    <a:pt x="0" y="668"/>
                  </a:moveTo>
                  <a:lnTo>
                    <a:pt x="1378" y="668"/>
                  </a:lnTo>
                  <a:lnTo>
                    <a:pt x="1378" y="336"/>
                  </a:lnTo>
                  <a:lnTo>
                    <a:pt x="4080" y="330"/>
                  </a:lnTo>
                  <a:lnTo>
                    <a:pt x="4065" y="0"/>
                  </a:lnTo>
                  <a:lnTo>
                    <a:pt x="6021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26920" y="437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1760" y="501984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82280" y="39639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2280" y="359568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4760" y="2739960"/>
              <a:ext cx="5205600" cy="679680"/>
            </a:xfrm>
            <a:custGeom>
              <a:avLst/>
              <a:gdLst/>
              <a:ahLst/>
              <a:rect l="l" t="t" r="r" b="b"/>
              <a:pathLst>
                <a:path w="6094" h="608">
                  <a:moveTo>
                    <a:pt x="0" y="608"/>
                  </a:moveTo>
                  <a:lnTo>
                    <a:pt x="1378" y="608"/>
                  </a:lnTo>
                  <a:lnTo>
                    <a:pt x="1378" y="0"/>
                  </a:lnTo>
                  <a:lnTo>
                    <a:pt x="3918" y="0"/>
                  </a:lnTo>
                  <a:lnTo>
                    <a:pt x="3990" y="0"/>
                  </a:lnTo>
                  <a:lnTo>
                    <a:pt x="4063" y="0"/>
                  </a:lnTo>
                  <a:lnTo>
                    <a:pt x="4063" y="608"/>
                  </a:lnTo>
                  <a:lnTo>
                    <a:pt x="6094" y="6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8880" y="2541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76560" y="30592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ac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9520" y="35784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499000" y="4078080"/>
              <a:ext cx="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99000" y="4278240"/>
              <a:ext cx="2328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ransition can 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executing actions once more after transition can fi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nly active actions are called by the automata logic and there the action need to have a last chance to set its variables as des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P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43720" y="2392200"/>
            <a:ext cx="6856920" cy="3121200"/>
            <a:chOff x="1143720" y="2392200"/>
            <a:chExt cx="6856920" cy="3121200"/>
          </a:xfrm>
        </p:grpSpPr>
        <p:sp>
          <p:nvSpPr>
            <p:cNvPr id="138" name=""/>
            <p:cNvSpPr/>
            <p:nvPr/>
          </p:nvSpPr>
          <p:spPr>
            <a:xfrm>
              <a:off x="2421720" y="5031360"/>
              <a:ext cx="557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21720" y="3943440"/>
              <a:ext cx="4925520" cy="815760"/>
            </a:xfrm>
            <a:custGeom>
              <a:avLst/>
              <a:gdLst/>
              <a:ahLst/>
              <a:rect l="l" t="t" r="r" b="b"/>
              <a:pathLst>
                <a:path w="3984" h="576">
                  <a:moveTo>
                    <a:pt x="0" y="576"/>
                  </a:moveTo>
                  <a:lnTo>
                    <a:pt x="912" y="576"/>
                  </a:lnTo>
                  <a:lnTo>
                    <a:pt x="912" y="288"/>
                  </a:lnTo>
                  <a:lnTo>
                    <a:pt x="2592" y="288"/>
                  </a:lnTo>
                  <a:lnTo>
                    <a:pt x="2592" y="0"/>
                  </a:lnTo>
                  <a:lnTo>
                    <a:pt x="39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94400" y="4400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37720" y="511452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47600" y="39556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47600" y="35506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21720" y="2574360"/>
              <a:ext cx="4984920" cy="763560"/>
            </a:xfrm>
            <a:custGeom>
              <a:avLst/>
              <a:gdLst/>
              <a:ahLst/>
              <a:rect l="l" t="t" r="r" b="b"/>
              <a:pathLst>
                <a:path w="6225" h="615">
                  <a:moveTo>
                    <a:pt x="0" y="608"/>
                  </a:moveTo>
                  <a:lnTo>
                    <a:pt x="1408" y="608"/>
                  </a:lnTo>
                  <a:lnTo>
                    <a:pt x="1408" y="6"/>
                  </a:lnTo>
                  <a:lnTo>
                    <a:pt x="1525" y="0"/>
                  </a:lnTo>
                  <a:lnTo>
                    <a:pt x="1518" y="608"/>
                  </a:lnTo>
                  <a:lnTo>
                    <a:pt x="3880" y="608"/>
                  </a:lnTo>
                  <a:lnTo>
                    <a:pt x="4045" y="608"/>
                  </a:lnTo>
                  <a:lnTo>
                    <a:pt x="4255" y="615"/>
                  </a:lnTo>
                  <a:lnTo>
                    <a:pt x="4315" y="608"/>
                  </a:lnTo>
                  <a:lnTo>
                    <a:pt x="6225" y="6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05400" y="239220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96100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3720" y="353196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P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7400" y="2239920"/>
            <a:ext cx="6933240" cy="3314160"/>
            <a:chOff x="1067400" y="2239920"/>
            <a:chExt cx="6933240" cy="3314160"/>
          </a:xfrm>
        </p:grpSpPr>
        <p:sp>
          <p:nvSpPr>
            <p:cNvPr id="150" name=""/>
            <p:cNvSpPr/>
            <p:nvPr/>
          </p:nvSpPr>
          <p:spPr>
            <a:xfrm>
              <a:off x="2360160" y="5058360"/>
              <a:ext cx="564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0160" y="3893040"/>
              <a:ext cx="4980240" cy="873720"/>
            </a:xfrm>
            <a:custGeom>
              <a:avLst/>
              <a:gdLst/>
              <a:ahLst/>
              <a:rect l="l" t="t" r="r" b="b"/>
              <a:pathLst>
                <a:path w="3984" h="576">
                  <a:moveTo>
                    <a:pt x="0" y="576"/>
                  </a:moveTo>
                  <a:lnTo>
                    <a:pt x="912" y="576"/>
                  </a:lnTo>
                  <a:lnTo>
                    <a:pt x="912" y="288"/>
                  </a:lnTo>
                  <a:lnTo>
                    <a:pt x="2592" y="288"/>
                  </a:lnTo>
                  <a:lnTo>
                    <a:pt x="2592" y="0"/>
                  </a:lnTo>
                  <a:lnTo>
                    <a:pt x="39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28160" y="4392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5840" y="51552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81360" y="391572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1360" y="34804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0160" y="2457720"/>
              <a:ext cx="5039640" cy="777960"/>
            </a:xfrm>
            <a:custGeom>
              <a:avLst/>
              <a:gdLst/>
              <a:ahLst/>
              <a:rect l="l" t="t" r="r" b="b"/>
              <a:pathLst>
                <a:path w="6225" h="585">
                  <a:moveTo>
                    <a:pt x="0" y="585"/>
                  </a:moveTo>
                  <a:lnTo>
                    <a:pt x="1408" y="585"/>
                  </a:lnTo>
                  <a:lnTo>
                    <a:pt x="1426" y="585"/>
                  </a:lnTo>
                  <a:lnTo>
                    <a:pt x="1486" y="585"/>
                  </a:lnTo>
                  <a:lnTo>
                    <a:pt x="1518" y="585"/>
                  </a:lnTo>
                  <a:lnTo>
                    <a:pt x="3952" y="585"/>
                  </a:lnTo>
                  <a:lnTo>
                    <a:pt x="3952" y="0"/>
                  </a:lnTo>
                  <a:lnTo>
                    <a:pt x="4042" y="0"/>
                  </a:lnTo>
                  <a:lnTo>
                    <a:pt x="4042" y="585"/>
                  </a:lnTo>
                  <a:lnTo>
                    <a:pt x="6225" y="5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36640" y="22399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75720" y="284904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7400" y="34606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800" y="2468520"/>
            <a:ext cx="7009920" cy="3243600"/>
            <a:chOff x="838800" y="2468520"/>
            <a:chExt cx="7009920" cy="3243600"/>
          </a:xfrm>
        </p:grpSpPr>
        <p:sp>
          <p:nvSpPr>
            <p:cNvPr id="162" name=""/>
            <p:cNvSpPr/>
            <p:nvPr/>
          </p:nvSpPr>
          <p:spPr>
            <a:xfrm>
              <a:off x="2145600" y="5219640"/>
              <a:ext cx="57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45600" y="4083480"/>
              <a:ext cx="5034960" cy="852120"/>
            </a:xfrm>
            <a:custGeom>
              <a:avLst/>
              <a:gdLst/>
              <a:ahLst/>
              <a:rect l="l" t="t" r="r" b="b"/>
              <a:pathLst>
                <a:path w="3984" h="576">
                  <a:moveTo>
                    <a:pt x="0" y="576"/>
                  </a:moveTo>
                  <a:lnTo>
                    <a:pt x="912" y="576"/>
                  </a:lnTo>
                  <a:lnTo>
                    <a:pt x="912" y="288"/>
                  </a:lnTo>
                  <a:lnTo>
                    <a:pt x="2592" y="288"/>
                  </a:lnTo>
                  <a:lnTo>
                    <a:pt x="2592" y="0"/>
                  </a:lnTo>
                  <a:lnTo>
                    <a:pt x="39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8920" y="4567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9160" y="5313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0320" y="41014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0320" y="367596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5600" y="2673000"/>
              <a:ext cx="5069520" cy="768960"/>
            </a:xfrm>
            <a:custGeom>
              <a:avLst/>
              <a:gdLst/>
              <a:ahLst/>
              <a:rect l="l" t="t" r="r" b="b"/>
              <a:pathLst>
                <a:path w="6193" h="593">
                  <a:moveTo>
                    <a:pt x="0" y="593"/>
                  </a:moveTo>
                  <a:lnTo>
                    <a:pt x="1408" y="593"/>
                  </a:lnTo>
                  <a:lnTo>
                    <a:pt x="1408" y="0"/>
                  </a:lnTo>
                  <a:lnTo>
                    <a:pt x="6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4880" y="24685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3960" y="305964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800" y="36576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er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800" y="2011320"/>
            <a:ext cx="6910920" cy="3444480"/>
            <a:chOff x="838800" y="2011320"/>
            <a:chExt cx="6910920" cy="3444480"/>
          </a:xfrm>
        </p:grpSpPr>
        <p:sp>
          <p:nvSpPr>
            <p:cNvPr id="174" name=""/>
            <p:cNvSpPr/>
            <p:nvPr/>
          </p:nvSpPr>
          <p:spPr>
            <a:xfrm>
              <a:off x="2127240" y="4948560"/>
              <a:ext cx="56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27240" y="3731760"/>
              <a:ext cx="4964040" cy="912600"/>
            </a:xfrm>
            <a:custGeom>
              <a:avLst/>
              <a:gdLst/>
              <a:ahLst/>
              <a:rect l="l" t="t" r="r" b="b"/>
              <a:pathLst>
                <a:path w="3984" h="576">
                  <a:moveTo>
                    <a:pt x="0" y="576"/>
                  </a:moveTo>
                  <a:lnTo>
                    <a:pt x="912" y="576"/>
                  </a:lnTo>
                  <a:lnTo>
                    <a:pt x="912" y="288"/>
                  </a:lnTo>
                  <a:lnTo>
                    <a:pt x="2592" y="288"/>
                  </a:lnTo>
                  <a:lnTo>
                    <a:pt x="2592" y="0"/>
                  </a:lnTo>
                  <a:lnTo>
                    <a:pt x="39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6320" y="425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0800" y="505692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9520" y="376236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9520" y="330696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7240" y="2325960"/>
              <a:ext cx="4997880" cy="823680"/>
            </a:xfrm>
            <a:custGeom>
              <a:avLst/>
              <a:gdLst/>
              <a:ahLst/>
              <a:rect l="l" t="t" r="r" b="b"/>
              <a:pathLst>
                <a:path w="6193" h="593">
                  <a:moveTo>
                    <a:pt x="0" y="593"/>
                  </a:moveTo>
                  <a:lnTo>
                    <a:pt x="1408" y="593"/>
                  </a:lnTo>
                  <a:lnTo>
                    <a:pt x="1408" y="0"/>
                  </a:lnTo>
                  <a:lnTo>
                    <a:pt x="6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05520" y="20113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46040" y="26470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800" y="32860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54000"/>
            <a:ext cx="6839280" cy="11988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FC elements </a:t>
            </a:r>
            <a:br>
              <a:rPr sz="28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Ste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ollection of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rocessing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2438280"/>
          <a:ext cx="9889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988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114800"/>
          <a:ext cx="281952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2819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52360" y="990000"/>
            <a:ext cx="683928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Transi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witching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00200" y="3505320"/>
          <a:ext cx="365760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36576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2360" y="990000"/>
            <a:ext cx="683928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Connecto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80920" y="251460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rc between steps and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directed top down, otherwise flow indicated with a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048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6240" y="988560"/>
            <a:ext cx="6851520" cy="1125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FC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Token, </a:t>
            </a:r>
            <a:r>
              <a:rPr b="0" lang="de-DE" sz="4400" spc="-1" strike="noStrike">
                <a:solidFill>
                  <a:srgbClr val="114ffb"/>
                </a:solidFill>
                <a:latin typeface="Times New Roman"/>
              </a:rPr>
              <a:t>marked or active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819520"/>
            <a:ext cx="577800" cy="558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16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Used for SFC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05120" y="3962520"/>
          <a:ext cx="11206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11206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05520" y="2286000"/>
          <a:ext cx="342900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34290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2286000"/>
          <a:ext cx="3581640" cy="28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35816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05520" y="2286000"/>
          <a:ext cx="342900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34290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962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6680" y="2286000"/>
          <a:ext cx="3581640" cy="28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35816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905120" y="3657600"/>
          <a:ext cx="16524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657600"/>
                    <a:ext cx="1652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rawing Ro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ver connect to steps directly, between to steps there is always a trans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60036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990360" y="3809880"/>
            <a:ext cx="297180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4956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91520" y="3352680"/>
            <a:ext cx="7617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ebdings"/>
              </a:rPr>
              <a:t>a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Webdings"/>
              <a:ea typeface="Webding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10080" y="3657600"/>
          <a:ext cx="22258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657600"/>
                    <a:ext cx="22258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3720" y="786960"/>
            <a:ext cx="685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rawing Ro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8478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ver connect to transitions directly, between to transitions there is always a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60036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90360" y="3809880"/>
            <a:ext cx="297180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9528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91520" y="3352680"/>
            <a:ext cx="7617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ebdings"/>
              </a:rPr>
              <a:t>a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Webdings"/>
              <a:ea typeface="Webding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3581280"/>
          <a:ext cx="20574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581280"/>
                    <a:ext cx="20574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05120" y="3733920"/>
          <a:ext cx="2057400" cy="18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733920"/>
                    <a:ext cx="20574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25T20:19:50Z</dcterms:modified>
  <cp:revision>87</cp:revision>
  <dc:subject>Schritte und Aktionen</dc:subject>
  <dc:title>SFC Trainer</dc:title>
</cp:coreProperties>
</file>