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0240" y="438552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7520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748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54360" y="251460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024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0748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54360" y="4385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48840" y="833400"/>
            <a:ext cx="740916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75200" y="438552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5200" y="2514600"/>
            <a:ext cx="4109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240" y="4385520"/>
            <a:ext cx="8420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9172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4400" y="4286160"/>
            <a:ext cx="9918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4400" y="4438800"/>
            <a:ext cx="99172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4760" y="4591080"/>
            <a:ext cx="992052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4760" y="4743360"/>
            <a:ext cx="992052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4760" y="4896000"/>
            <a:ext cx="992052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4760" y="5048280"/>
            <a:ext cx="992052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4760" y="5200560"/>
            <a:ext cx="992052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4760" y="5353200"/>
            <a:ext cx="992052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4760" y="5505480"/>
            <a:ext cx="992052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4760" y="5657760"/>
            <a:ext cx="992052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4760" y="5810400"/>
            <a:ext cx="99205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4160" y="311040"/>
            <a:ext cx="931536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248840" y="833400"/>
            <a:ext cx="740916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39480" y="621972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3CCE-1D88-4FD0-B328-6460FD3D5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65008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8EF4B97D-3EDE-4B1D-9C9A-F13F8502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54524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471400"/>
            <a:ext cx="83818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steue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5926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76520" y="1371600"/>
          <a:ext cx="6288120" cy="49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62881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00400" y="1752480"/>
          <a:ext cx="20113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20113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0595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u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809880"/>
            <a:ext cx="457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60200" y="36990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chnittstel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8840" y="1198440"/>
            <a:ext cx="7409160" cy="71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Times New Roman"/>
              </a:rPr>
              <a:t>Beschreibung einer Grundfunk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Klassen bild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Fahrwei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cher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Fortschaltbedin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800" y="228600"/>
            <a:ext cx="9033120" cy="1563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br>
              <a:rPr sz="3200"/>
            </a:b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Beschreibung der Fahrweisen von Temperaturregel-Grundfun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057400"/>
          <a:ext cx="9078840" cy="40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907884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65120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in Rez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38280" y="1828800"/>
          <a:ext cx="617220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61722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mod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Z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nlagenunabhängige Produktionsrezep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Uebertragbarkeit von Rezep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andortspezifische Rezeptvari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4160" y="404640"/>
            <a:ext cx="6380280" cy="771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mod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4600" y="1295280"/>
          <a:ext cx="6845400" cy="50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295280"/>
                    <a:ext cx="684540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hierarc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Z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übersicht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nlagen unabhängige Verallgemein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Rezepthierarc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2362320"/>
          <a:ext cx="13888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362320"/>
                    <a:ext cx="1388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Ziele der Rezeptu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Der Benutzer kan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ktionsablauf konfigur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ktionsdatenerfassung festl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ktion pl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rodukte mit verschiedenen Optionen er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Lernzi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e mit eigenen Worten eine Rezeptursteuerung erklären 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e eine Rezeptsteuerung erstellen 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e das Prinzip der Erzeugung der Schaltbedingungen in einer Grundfunktion erklären kön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8840" y="1168200"/>
            <a:ext cx="7409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2514600"/>
            <a:ext cx="8420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rukturierung der Steu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Grundfunktionen mit Fortschaltbedin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Rezepturmod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9530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ötig: sinnvolle Strukt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81280" y="1523880"/>
          <a:ext cx="20113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3880"/>
                    <a:ext cx="20113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1800" y="620280"/>
            <a:ext cx="662616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zelgerätesteu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962000"/>
            <a:ext cx="585000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uerung eines Geräts oder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ensteu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ler für Linearach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mit Visualisierung und Grenzwert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ät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07880" y="1611360"/>
          <a:ext cx="2011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611360"/>
                    <a:ext cx="2011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880" y="691920"/>
            <a:ext cx="640872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und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1714680"/>
            <a:ext cx="701028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aktische, intelligente Funktionen mehrerer Geräte zusammen oder einer einzelnen Mas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uereinheit einer modular aufgebauten An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ederverwendbares Know-H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esteinheit für Inbetriebnahme und 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7880" y="1687680"/>
          <a:ext cx="2011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687680"/>
                    <a:ext cx="2011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4880" y="765000"/>
            <a:ext cx="6192720" cy="7718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ilanlagensteu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2514600"/>
            <a:ext cx="63374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uerung einer Maschinengruppe oder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uert Grundfunktionen mittels Fahrweisen und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 auch eine Steuerungs-Hardwareein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7880" y="1687680"/>
          <a:ext cx="2011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687680"/>
                    <a:ext cx="2011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520" y="691920"/>
            <a:ext cx="61214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lagensteu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7760" y="2514600"/>
            <a:ext cx="5545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iert die Teilanlagensteuerungen oder Fertigungsz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siert als Koordinationssteuerung und Leitsyst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84200" y="1763640"/>
          <a:ext cx="20113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1763640"/>
                    <a:ext cx="20113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5T11:24:14Z</dcterms:created>
  <dc:creator>J.P. Keller</dc:creator>
  <dc:description/>
  <dc:language>en-US</dc:language>
  <cp:lastModifiedBy>Keller</cp:lastModifiedBy>
  <cp:lastPrinted>1999-04-26T10:37:18Z</cp:lastPrinted>
  <dcterms:modified xsi:type="dcterms:W3CDTF">2006-03-17T21:48:48Z</dcterms:modified>
  <cp:revision>140</cp:revision>
  <dc:subject/>
  <dc:title>Ablaufsprache</dc:title>
</cp:coreProperties>
</file>