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651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651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833400"/>
            <a:ext cx="68392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12960" y="4286160"/>
            <a:ext cx="9155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12600" y="4438800"/>
            <a:ext cx="9153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12960" y="4591080"/>
            <a:ext cx="9156600" cy="0"/>
          </a:xfrm>
          <a:prstGeom prst="line">
            <a:avLst/>
          </a:prstGeom>
          <a:ln w="25560">
            <a:solidFill>
              <a:srgbClr val="e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12960" y="4743360"/>
            <a:ext cx="9156600" cy="0"/>
          </a:xfrm>
          <a:prstGeom prst="line">
            <a:avLst/>
          </a:prstGeom>
          <a:ln w="25560">
            <a:solidFill>
              <a:srgbClr val="d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2960" y="4896000"/>
            <a:ext cx="9156600" cy="0"/>
          </a:xfrm>
          <a:prstGeom prst="line">
            <a:avLst/>
          </a:prstGeom>
          <a:ln w="25560">
            <a:solidFill>
              <a:srgbClr val="9c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2960" y="5048280"/>
            <a:ext cx="9156600" cy="0"/>
          </a:xfrm>
          <a:prstGeom prst="line">
            <a:avLst/>
          </a:prstGeom>
          <a:ln w="25560">
            <a:solidFill>
              <a:srgbClr val="75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2960" y="5200560"/>
            <a:ext cx="9156600" cy="0"/>
          </a:xfrm>
          <a:prstGeom prst="line">
            <a:avLst/>
          </a:prstGeom>
          <a:ln w="25560">
            <a:solidFill>
              <a:srgbClr val="5d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2960" y="5353200"/>
            <a:ext cx="9156600" cy="0"/>
          </a:xfrm>
          <a:prstGeom prst="line">
            <a:avLst/>
          </a:prstGeom>
          <a:ln w="25560">
            <a:solidFill>
              <a:srgbClr val="4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2960" y="5505480"/>
            <a:ext cx="9156600" cy="0"/>
          </a:xfrm>
          <a:prstGeom prst="line">
            <a:avLst/>
          </a:prstGeom>
          <a:ln w="25560">
            <a:solidFill>
              <a:srgbClr val="2e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2960" y="5657760"/>
            <a:ext cx="9156600" cy="0"/>
          </a:xfrm>
          <a:prstGeom prst="line">
            <a:avLst/>
          </a:prstGeom>
          <a:ln w="25560">
            <a:solidFill>
              <a:srgbClr val="19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12960" y="5810400"/>
            <a:ext cx="91566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35080" y="311040"/>
            <a:ext cx="8597880" cy="61596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61800" y="6219720"/>
            <a:ext cx="7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F6F1-1C9D-44E8-91DA-DCD120B5F3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72200" y="62197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13279449-B372-4EA0-943E-EAB072D4A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92420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 rot="1920000">
            <a:off x="722160" y="2707920"/>
            <a:ext cx="7966080" cy="17463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Times New Roman"/>
              </a:rPr>
              <a:t>Sequential Function Chart</a:t>
            </a:r>
            <a:br>
              <a:rPr sz="5400"/>
            </a:br>
            <a:r>
              <a:rPr b="0" lang="de-DE" sz="5400" spc="-1" strike="noStrike">
                <a:solidFill>
                  <a:srgbClr val="000000"/>
                </a:solidFill>
                <a:latin typeface="Times New Roman"/>
              </a:rPr>
              <a:t>SF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5240520" cy="38037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How to use the SFC-Trai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042920" y="2819520"/>
            <a:ext cx="2952720" cy="2124000"/>
            <a:chOff x="1042920" y="2819520"/>
            <a:chExt cx="2952720" cy="2124000"/>
          </a:xfrm>
        </p:grpSpPr>
        <p:sp>
          <p:nvSpPr>
            <p:cNvPr id="79" name=""/>
            <p:cNvSpPr/>
            <p:nvPr/>
          </p:nvSpPr>
          <p:spPr>
            <a:xfrm>
              <a:off x="1797120" y="2819520"/>
              <a:ext cx="2198520" cy="21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ff0066"/>
                  </a:solidFill>
                  <a:latin typeface="Times New Roman"/>
                </a:rPr>
                <a:t>Select your les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42920" y="3429000"/>
              <a:ext cx="762120" cy="457200"/>
            </a:xfrm>
            <a:prstGeom prst="rightArrow">
              <a:avLst>
                <a:gd name="adj1" fmla="val 50000"/>
                <a:gd name="adj2" fmla="val 41673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809880" y="2781360"/>
            <a:ext cx="2819520" cy="571320"/>
            <a:chOff x="3809880" y="2781360"/>
            <a:chExt cx="2819520" cy="571320"/>
          </a:xfrm>
        </p:grpSpPr>
        <p:sp>
          <p:nvSpPr>
            <p:cNvPr id="82" name=""/>
            <p:cNvSpPr/>
            <p:nvPr/>
          </p:nvSpPr>
          <p:spPr>
            <a:xfrm>
              <a:off x="4140360" y="2781360"/>
              <a:ext cx="248904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33cc33"/>
                  </a:solidFill>
                  <a:latin typeface="Times New Roman"/>
                </a:rPr>
                <a:t>T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809880" y="3048120"/>
              <a:ext cx="304920" cy="30456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809880" y="3357720"/>
            <a:ext cx="2819520" cy="366120"/>
            <a:chOff x="3809880" y="3357720"/>
            <a:chExt cx="2819520" cy="366120"/>
          </a:xfrm>
        </p:grpSpPr>
        <p:sp>
          <p:nvSpPr>
            <p:cNvPr id="85" name=""/>
            <p:cNvSpPr/>
            <p:nvPr/>
          </p:nvSpPr>
          <p:spPr>
            <a:xfrm>
              <a:off x="4140360" y="3357720"/>
              <a:ext cx="248904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33cc33"/>
                  </a:solidFill>
                  <a:latin typeface="Times New Roman"/>
                </a:rPr>
                <a:t>Learning goa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09880" y="3581280"/>
              <a:ext cx="30492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809880" y="3809880"/>
            <a:ext cx="2819520" cy="2205360"/>
            <a:chOff x="3809880" y="3809880"/>
            <a:chExt cx="2819520" cy="2205360"/>
          </a:xfrm>
        </p:grpSpPr>
        <p:sp>
          <p:nvSpPr>
            <p:cNvPr id="88" name=""/>
            <p:cNvSpPr/>
            <p:nvPr/>
          </p:nvSpPr>
          <p:spPr>
            <a:xfrm>
              <a:off x="4140360" y="3990960"/>
              <a:ext cx="2489040" cy="202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33cc33"/>
                  </a:solidFill>
                  <a:latin typeface="Times New Roman"/>
                </a:rPr>
                <a:t>Exerciz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33cc33"/>
                  </a:solidFill>
                  <a:latin typeface="Times New Roman"/>
                </a:rPr>
                <a:t>descri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09880" y="3809880"/>
              <a:ext cx="304920" cy="91440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29000" y="1557360"/>
            <a:ext cx="5246640" cy="3808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066680" y="60948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. Theory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42160" y="1484280"/>
            <a:ext cx="3453480" cy="2952360"/>
            <a:chOff x="542160" y="1484280"/>
            <a:chExt cx="3453480" cy="295236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768240" y="1865160"/>
              <a:ext cx="144000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42160" y="1484280"/>
              <a:ext cx="156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Lecture no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2368440" y="2626920"/>
              <a:ext cx="1627200" cy="18097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71960" y="3357720"/>
            <a:ext cx="3308040" cy="1577880"/>
            <a:chOff x="471960" y="3357720"/>
            <a:chExt cx="3308040" cy="1577880"/>
          </a:xfrm>
        </p:grpSpPr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773280" y="3738600"/>
              <a:ext cx="158256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71960" y="3357720"/>
              <a:ext cx="178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Animated sli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2449440" y="4424400"/>
              <a:ext cx="1330560" cy="1569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203640" y="4869000"/>
            <a:ext cx="1460880" cy="1254960"/>
            <a:chOff x="3203640" y="4869000"/>
            <a:chExt cx="1460880" cy="1254960"/>
          </a:xfrm>
        </p:grpSpPr>
        <p:sp>
          <p:nvSpPr>
            <p:cNvPr id="101" name=""/>
            <p:cNvSpPr/>
            <p:nvPr/>
          </p:nvSpPr>
          <p:spPr>
            <a:xfrm>
              <a:off x="3995640" y="4869000"/>
              <a:ext cx="0" cy="792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03640" y="5664240"/>
              <a:ext cx="1460880" cy="459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Self che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900000" y="4724280"/>
            <a:ext cx="2950920" cy="1036080"/>
            <a:chOff x="900000" y="4724280"/>
            <a:chExt cx="2950920" cy="1036080"/>
          </a:xfrm>
        </p:grpSpPr>
        <p:sp>
          <p:nvSpPr>
            <p:cNvPr id="104" name=""/>
            <p:cNvSpPr/>
            <p:nvPr/>
          </p:nvSpPr>
          <p:spPr>
            <a:xfrm>
              <a:off x="900000" y="5300640"/>
              <a:ext cx="1265760" cy="459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268000" y="4724280"/>
              <a:ext cx="1582920" cy="7207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502080" y="1781280"/>
            <a:ext cx="5246640" cy="3808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066680" y="380880"/>
            <a:ext cx="4038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2. Exerciz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3280" y="2230560"/>
            <a:ext cx="4387320" cy="2646360"/>
            <a:chOff x="413280" y="2230560"/>
            <a:chExt cx="4387320" cy="264636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914400" y="2590920"/>
              <a:ext cx="177948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3280" y="2230560"/>
              <a:ext cx="267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Draw and configure S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2590920" y="3505320"/>
              <a:ext cx="2209680" cy="13716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34600" y="4724280"/>
            <a:ext cx="4265640" cy="1575000"/>
            <a:chOff x="534600" y="4724280"/>
            <a:chExt cx="4265640" cy="1575000"/>
          </a:xfrm>
        </p:grpSpPr>
        <p:sp>
          <p:nvSpPr>
            <p:cNvPr id="113" name=""/>
            <p:cNvSpPr/>
            <p:nvPr/>
          </p:nvSpPr>
          <p:spPr>
            <a:xfrm flipH="1">
              <a:off x="2361960" y="5105520"/>
              <a:ext cx="2438280" cy="457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914400" y="5105520"/>
              <a:ext cx="129528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34600" y="472428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Test S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975760" y="114300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review of the simulation 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733920" y="1447920"/>
            <a:ext cx="3646080" cy="1764720"/>
            <a:chOff x="3733920" y="1447920"/>
            <a:chExt cx="3646080" cy="1764720"/>
          </a:xfrm>
        </p:grpSpPr>
        <p:sp>
          <p:nvSpPr>
            <p:cNvPr id="118" name=""/>
            <p:cNvSpPr/>
            <p:nvPr/>
          </p:nvSpPr>
          <p:spPr>
            <a:xfrm flipH="1" flipV="1">
              <a:off x="5152680" y="2417400"/>
              <a:ext cx="2227320" cy="7952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4"/>
            <a:stretch/>
          </p:blipFill>
          <p:spPr>
            <a:xfrm>
              <a:off x="3733920" y="1447920"/>
              <a:ext cx="1471320" cy="97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1405080" y="1413000"/>
            <a:ext cx="3382920" cy="3312720"/>
            <a:chOff x="1405080" y="1413000"/>
            <a:chExt cx="3382920" cy="3312720"/>
          </a:xfrm>
        </p:grpSpPr>
        <p:sp>
          <p:nvSpPr>
            <p:cNvPr id="121" name=""/>
            <p:cNvSpPr/>
            <p:nvPr/>
          </p:nvSpPr>
          <p:spPr>
            <a:xfrm>
              <a:off x="1405080" y="1413000"/>
              <a:ext cx="20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Copy template</a:t>
              </a: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3059280" y="1844640"/>
              <a:ext cx="1728720" cy="2881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357720" y="1844640"/>
            <a:ext cx="5246640" cy="380844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838080" y="4800600"/>
            <a:ext cx="4647960" cy="1333440"/>
            <a:chOff x="838080" y="4800600"/>
            <a:chExt cx="4647960" cy="1333440"/>
          </a:xfrm>
        </p:grpSpPr>
        <p:sp>
          <p:nvSpPr>
            <p:cNvPr id="125" name=""/>
            <p:cNvSpPr/>
            <p:nvPr/>
          </p:nvSpPr>
          <p:spPr>
            <a:xfrm flipH="1">
              <a:off x="2590560" y="5105520"/>
              <a:ext cx="2895480" cy="3808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838080" y="4800600"/>
              <a:ext cx="1447920" cy="13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838080" y="2819520"/>
            <a:ext cx="4647960" cy="1981080"/>
            <a:chOff x="838080" y="2819520"/>
            <a:chExt cx="4647960" cy="1981080"/>
          </a:xfrm>
        </p:grpSpPr>
        <p:sp>
          <p:nvSpPr>
            <p:cNvPr id="128" name=""/>
            <p:cNvSpPr/>
            <p:nvPr/>
          </p:nvSpPr>
          <p:spPr>
            <a:xfrm flipH="1" flipV="1">
              <a:off x="2590560" y="3505320"/>
              <a:ext cx="2895480" cy="12952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838080" y="2819520"/>
              <a:ext cx="167328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 txBox="1"/>
          <p:nvPr/>
        </p:nvSpPr>
        <p:spPr>
          <a:xfrm>
            <a:off x="1143000" y="609480"/>
            <a:ext cx="4724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3. Proposed Solution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92200" y="2433600"/>
            <a:ext cx="5240520" cy="3803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How to use the SFC-Trai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411280" y="4149720"/>
            <a:ext cx="4105440" cy="1871280"/>
            <a:chOff x="2411280" y="4149720"/>
            <a:chExt cx="4105440" cy="1871280"/>
          </a:xfrm>
        </p:grpSpPr>
        <p:sp>
          <p:nvSpPr>
            <p:cNvPr id="134" name=""/>
            <p:cNvSpPr/>
            <p:nvPr/>
          </p:nvSpPr>
          <p:spPr>
            <a:xfrm>
              <a:off x="2411280" y="4149720"/>
              <a:ext cx="4105440" cy="11912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Setting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Select viewer applica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Select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843280" y="5373360"/>
              <a:ext cx="1081080" cy="647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0" y="4653000"/>
            <a:ext cx="2195280" cy="1368000"/>
            <a:chOff x="0" y="4653000"/>
            <a:chExt cx="2195280" cy="1368000"/>
          </a:xfrm>
        </p:grpSpPr>
        <p:sp>
          <p:nvSpPr>
            <p:cNvPr id="137" name=""/>
            <p:cNvSpPr/>
            <p:nvPr/>
          </p:nvSpPr>
          <p:spPr>
            <a:xfrm>
              <a:off x="0" y="4653000"/>
              <a:ext cx="2195280" cy="825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How to 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the SFC-Trai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1198800" y="5444640"/>
              <a:ext cx="756720" cy="576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2909880" cy="38656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Let‘s star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560" y="836640"/>
            <a:ext cx="705492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using graphical function chart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2457360"/>
            <a:ext cx="8134200" cy="37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language is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lways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ficient, clum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... then ... else  … but only whe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biguou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uitable for linear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771516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Why Sequential Function Char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666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under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suited for parallel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heoretical background (all theory of Petri-Nets applica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 IEC61131-3 engineering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7948440" cy="5889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pplication areas of SFC and Petri-N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Scie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 of program 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ing, analysis and programming of concurrent processes, distribute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ing access to shared resour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base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-tim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ing and simulation of que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ing, analysis and programming of control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of parallel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engineer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ing and analysis of production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 of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152280" y="838080"/>
            <a:ext cx="8686800" cy="5889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pplication areas of SFC and Petri-N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How to draw a sequential function char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0" y="2738520"/>
          <a:ext cx="3809880" cy="313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738520"/>
                    <a:ext cx="380988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683892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Problems to sol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ontrol of traffic l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44956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683892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Problems to sol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ontrol of a pharmaceutical batch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962520" y="2819520"/>
          <a:ext cx="4276440" cy="334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819520"/>
                    <a:ext cx="4276440" cy="33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833400"/>
            <a:ext cx="72388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SFC-Trainer</a:t>
            </a:r>
            <a:br>
              <a:rPr sz="4400"/>
            </a:b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a interactive e-learning-T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Lesson: learning by 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Interactiv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draw and simulate your own S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test your SFC with a real-life simulation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ompare your solution with a proposed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4T10:06:24Z</dcterms:created>
  <dc:creator>J.P. Keller</dc:creator>
  <dc:description/>
  <dc:language>en-US</dc:language>
  <cp:lastModifiedBy>Keller</cp:lastModifiedBy>
  <cp:lastPrinted>1995-10-13T13:45:16Z</cp:lastPrinted>
  <dcterms:modified xsi:type="dcterms:W3CDTF">2006-03-30T16:07:16Z</dcterms:modified>
  <cp:revision>79</cp:revision>
  <dc:subject>Einleitung</dc:subject>
  <dc:title>SFC_Trainer</dc:title>
</cp:coreProperties>
</file>