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45DD-78A3-46C9-8F8D-C0F3EAC00297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0273D33C-E540-4D8F-BF06-F46EC321EF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4280"/>
            <a:ext cx="79660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nalysis of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equential Function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3870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1076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plitting of an SFC into components/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2743200"/>
            <a:ext cx="3505320" cy="838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3886200"/>
            <a:ext cx="3200400" cy="7621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828800"/>
          <a:ext cx="378144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37814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14800" y="3733920"/>
          <a:ext cx="194940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733920"/>
                    <a:ext cx="19494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477120" y="2590920"/>
          <a:ext cx="1884240" cy="16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590920"/>
                    <a:ext cx="18842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6838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ckward confl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666880"/>
          <a:ext cx="632916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32916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0" y="2362320"/>
          <a:ext cx="492912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92912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ossibl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2133720"/>
          <a:ext cx="5562360" cy="32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56236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orward conflict: Step C can have only 1 T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66880" y="2971800"/>
          <a:ext cx="3962520" cy="21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9625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1198440"/>
            <a:ext cx="6839280" cy="71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sis of SF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ness, Dead-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or bounded S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650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xample: Alarm with re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81080" y="1981080"/>
          <a:ext cx="525780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25780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to create a matrix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erat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erate tran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 with steps as rows and transitions as column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ill the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in the i-th row and the j-th column indicates the change in number of tokens in the i-th step, if the j-th transition is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27360" y="4422600"/>
          <a:ext cx="5238720" cy="18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4422600"/>
                    <a:ext cx="5238720" cy="18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3886200" y="1447920"/>
            <a:ext cx="457200" cy="2971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1066680"/>
            <a:ext cx="152280" cy="3733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038120" y="1066680"/>
            <a:ext cx="1219320" cy="4496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981080"/>
            <a:ext cx="152280" cy="3048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114440" y="1981080"/>
            <a:ext cx="1143000" cy="3886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62320" y="838080"/>
          <a:ext cx="3781440" cy="26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838080"/>
                    <a:ext cx="37814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ow many tokens do appear in the SF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ow can an SFC split into components without concurrent actions (state machine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here do we have to place tokens for the initial mar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of an SF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ttern of tokens = marking of the S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66680" y="3048120"/>
          <a:ext cx="3248280" cy="22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324828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29200" y="2971800"/>
          <a:ext cx="317196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317196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477800"/>
            <a:ext cx="683892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 SFC with only one token is a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token indicates th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ate name = step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19:37:48Z</dcterms:modified>
  <cp:revision>82</cp:revision>
  <dc:subject>Incidenzmatrix</dc:subject>
  <dc:title>SFC Trainer</dc:title>
</cp:coreProperties>
</file>