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651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651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833400"/>
            <a:ext cx="68392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2960" y="4286160"/>
            <a:ext cx="9155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2600" y="4438800"/>
            <a:ext cx="9153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2960" y="4591080"/>
            <a:ext cx="915660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2960" y="4743360"/>
            <a:ext cx="915660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2960" y="4896000"/>
            <a:ext cx="915660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2960" y="5048280"/>
            <a:ext cx="915660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2960" y="5200560"/>
            <a:ext cx="915660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2960" y="5353200"/>
            <a:ext cx="915660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2960" y="5505480"/>
            <a:ext cx="915660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960" y="5657760"/>
            <a:ext cx="915660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2960" y="5810400"/>
            <a:ext cx="91566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5080" y="311040"/>
            <a:ext cx="859788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90160" y="621972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3FDC-6DC2-43D2-A83D-C5698B4B5719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7220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C6D0E3DD-79F2-4D3A-87FB-A5298768714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2420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bendigk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ne beliebige, sinnvolle Anfangsmarkierung kann nach Schalten aller Transitionen (mindestens 1 mal) wieder erreicht wer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4184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isp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438280" y="1600200"/>
          <a:ext cx="36496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00200"/>
                    <a:ext cx="36496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828800"/>
            <a:ext cx="6838920" cy="27813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ad-Lock: </a:t>
            </a:r>
            <a:br>
              <a:rPr sz="4400"/>
            </a:b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Ablauf bleibt stehen und kann nicht mehr weiter ge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228600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ispie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743200" y="533520"/>
          <a:ext cx="4519440" cy="57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33520"/>
                    <a:ext cx="451944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4T10:06:24Z</dcterms:created>
  <dc:creator>J.P. Keller</dc:creator>
  <dc:description/>
  <dc:language>en-US</dc:language>
  <cp:lastModifiedBy>Keller</cp:lastModifiedBy>
  <cp:lastPrinted>1995-10-13T13:45:16Z</cp:lastPrinted>
  <dcterms:modified xsi:type="dcterms:W3CDTF">2006-03-17T21:47:06Z</dcterms:modified>
  <cp:revision>79</cp:revision>
  <dc:subject/>
  <dc:title>Ablaufsprache</dc:title>
</cp:coreProperties>
</file>