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948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9216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748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86512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0948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748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86512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152360" y="833400"/>
            <a:ext cx="6839280" cy="66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9216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31400" cy="6845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-12960" y="4286160"/>
            <a:ext cx="91551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-12600" y="4438800"/>
            <a:ext cx="91533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-12960" y="4591080"/>
            <a:ext cx="9156600" cy="0"/>
          </a:xfrm>
          <a:prstGeom prst="line">
            <a:avLst/>
          </a:prstGeom>
          <a:ln w="25560">
            <a:solidFill>
              <a:srgbClr val="ea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H="1">
            <a:off x="-12960" y="4743360"/>
            <a:ext cx="9156600" cy="0"/>
          </a:xfrm>
          <a:prstGeom prst="line">
            <a:avLst/>
          </a:prstGeom>
          <a:ln w="25560">
            <a:solidFill>
              <a:srgbClr val="d6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-12960" y="4896000"/>
            <a:ext cx="9156600" cy="0"/>
          </a:xfrm>
          <a:prstGeom prst="line">
            <a:avLst/>
          </a:prstGeom>
          <a:ln w="25560">
            <a:solidFill>
              <a:srgbClr val="9c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-12960" y="5048280"/>
            <a:ext cx="9156600" cy="0"/>
          </a:xfrm>
          <a:prstGeom prst="line">
            <a:avLst/>
          </a:prstGeom>
          <a:ln w="25560">
            <a:solidFill>
              <a:srgbClr val="75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-12960" y="5200560"/>
            <a:ext cx="9156600" cy="0"/>
          </a:xfrm>
          <a:prstGeom prst="line">
            <a:avLst/>
          </a:prstGeom>
          <a:ln w="25560">
            <a:solidFill>
              <a:srgbClr val="5d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-12960" y="5353200"/>
            <a:ext cx="9156600" cy="0"/>
          </a:xfrm>
          <a:prstGeom prst="line">
            <a:avLst/>
          </a:prstGeom>
          <a:ln w="25560">
            <a:solidFill>
              <a:srgbClr val="46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-12960" y="5505480"/>
            <a:ext cx="9156600" cy="0"/>
          </a:xfrm>
          <a:prstGeom prst="line">
            <a:avLst/>
          </a:prstGeom>
          <a:ln w="25560">
            <a:solidFill>
              <a:srgbClr val="2e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-12960" y="5657760"/>
            <a:ext cx="9156600" cy="0"/>
          </a:xfrm>
          <a:prstGeom prst="line">
            <a:avLst/>
          </a:prstGeom>
          <a:ln w="25560">
            <a:solidFill>
              <a:srgbClr val="19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-12960" y="5810400"/>
            <a:ext cx="915660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35080" y="311040"/>
            <a:ext cx="8597880" cy="61596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body"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290160" y="6219720"/>
            <a:ext cx="714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D729-A68D-43CD-B6E0-8F8EEA2DCDC2}" type="datetime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72200" y="6219720"/>
            <a:ext cx="1159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ite </a:t>
            </a:r>
            <a:fld id="{9EAC8B5B-9073-4ECE-8553-69873B72091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" name="" descr=""/>
          <p:cNvPicPr/>
          <p:nvPr/>
        </p:nvPicPr>
        <p:blipFill>
          <a:blip r:embed="rId2"/>
          <a:stretch/>
        </p:blipFill>
        <p:spPr>
          <a:xfrm>
            <a:off x="6804000" y="404640"/>
            <a:ext cx="1924200" cy="41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2360" y="1168200"/>
            <a:ext cx="68392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ition is enabled, when all directly preceding steps are marked. Otherwise the transition is called ‚disabled‘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ing a transition: If a token moves from one step over a transition to the next step, we say that this transition has been f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3560" y="1034640"/>
            <a:ext cx="705492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abled Tran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066680" y="2286000"/>
          <a:ext cx="3581640" cy="286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86000"/>
                    <a:ext cx="3581640" cy="28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5715000" y="3332160"/>
            <a:ext cx="281952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712" y="5814"/>
                </a:moveTo>
                <a:lnTo>
                  <a:pt x="-584" y="5254"/>
                </a:lnTo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Transition enab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4800600"/>
            <a:ext cx="281916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713" y="5814"/>
                </a:moveTo>
                <a:lnTo>
                  <a:pt x="-584" y="5254"/>
                </a:lnTo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Transition disab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2360" y="1168200"/>
            <a:ext cx="68392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Switching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A Transition can fire, if it is enabled and the transition condition is 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2360" y="1168200"/>
            <a:ext cx="68392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Processing the S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Search for stability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Transitions are fired until a state is reached, where no transition can fire. When a stable marking is reached, its associated actions are execu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2360" y="1168200"/>
            <a:ext cx="68392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Processing the S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No Search for stability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In an iteration cylce only the Transitions, enabled at the beginning of the cylce are fired. For the resulting set of marked steps the associated actions are execu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585612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Compa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143000" y="1295280"/>
          <a:ext cx="274320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95280"/>
                    <a:ext cx="27432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5257800" y="1371600"/>
          <a:ext cx="2262240" cy="456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1371600"/>
                    <a:ext cx="226224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304920" y="426708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Search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30120" y="1676520"/>
            <a:ext cx="196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No Search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914400" y="411444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14T10:06:24Z</dcterms:created>
  <dc:creator>J.P. Keller</dc:creator>
  <dc:description/>
  <dc:language>en-US</dc:language>
  <cp:lastModifiedBy>Keller</cp:lastModifiedBy>
  <cp:lastPrinted>1995-10-13T13:45:16Z</cp:lastPrinted>
  <dcterms:modified xsi:type="dcterms:W3CDTF">2006-03-25T20:21:36Z</dcterms:modified>
  <cp:revision>70</cp:revision>
  <dc:subject>Switching rules</dc:subject>
  <dc:title>SFC Trainer</dc:title>
</cp:coreProperties>
</file>