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6648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266B-D377-4A6A-9AEB-75D845BBA69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688B384F-97D4-4D78-A8BF-EEEBD45C5E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How to use the SFC-Tr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781360"/>
            <a:ext cx="2489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cc33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357720"/>
            <a:ext cx="2489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cc33"/>
                </a:solidFill>
                <a:latin typeface="Times New Roman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990960"/>
            <a:ext cx="2489040" cy="20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cc33"/>
                </a:solidFill>
                <a:latin typeface="Times New Roman"/>
              </a:rPr>
              <a:t>Exerc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cc33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7120" y="2819520"/>
            <a:ext cx="2198520" cy="2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66"/>
                </a:solidFill>
                <a:latin typeface="Times New Roman"/>
              </a:rPr>
              <a:t>Select your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4290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09880" y="3048120"/>
            <a:ext cx="304920" cy="304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5812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09880"/>
            <a:ext cx="304920" cy="9144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155736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66680" y="6094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 Theor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2160" y="1484280"/>
            <a:ext cx="3453480" cy="2952360"/>
            <a:chOff x="542160" y="1484280"/>
            <a:chExt cx="3453480" cy="29523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768240" y="1865160"/>
              <a:ext cx="1440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2160" y="148428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Lecture n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2368440" y="2626920"/>
              <a:ext cx="1627200" cy="1809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1960" y="3357720"/>
            <a:ext cx="3308040" cy="1577880"/>
            <a:chOff x="471960" y="3357720"/>
            <a:chExt cx="3308040" cy="15778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773280" y="3738600"/>
              <a:ext cx="15825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71960" y="335772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nimated sl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2449440" y="4424400"/>
              <a:ext cx="1330560" cy="1569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203640" y="4869000"/>
            <a:ext cx="1460880" cy="1254960"/>
            <a:chOff x="3203640" y="4869000"/>
            <a:chExt cx="1460880" cy="1254960"/>
          </a:xfrm>
        </p:grpSpPr>
        <p:sp>
          <p:nvSpPr>
            <p:cNvPr id="75" name=""/>
            <p:cNvSpPr/>
            <p:nvPr/>
          </p:nvSpPr>
          <p:spPr>
            <a:xfrm>
              <a:off x="3995640" y="4869000"/>
              <a:ext cx="0" cy="79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3640" y="5664240"/>
              <a:ext cx="146088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f che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900000" y="4724280"/>
            <a:ext cx="2950920" cy="1036080"/>
            <a:chOff x="900000" y="4724280"/>
            <a:chExt cx="2950920" cy="1036080"/>
          </a:xfrm>
        </p:grpSpPr>
        <p:sp>
          <p:nvSpPr>
            <p:cNvPr id="78" name=""/>
            <p:cNvSpPr/>
            <p:nvPr/>
          </p:nvSpPr>
          <p:spPr>
            <a:xfrm>
              <a:off x="900000" y="5300640"/>
              <a:ext cx="126576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268000" y="4724280"/>
              <a:ext cx="1582920" cy="720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02080" y="1781280"/>
            <a:ext cx="5246640" cy="380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666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 Exerciz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3280" y="2230560"/>
            <a:ext cx="4387320" cy="2646360"/>
            <a:chOff x="413280" y="2230560"/>
            <a:chExt cx="4387320" cy="264636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914400" y="2590920"/>
              <a:ext cx="1779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13280" y="2230560"/>
              <a:ext cx="26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Draw and configure S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590920" y="3505320"/>
              <a:ext cx="2209680" cy="1371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34600" y="4724280"/>
            <a:ext cx="4265640" cy="1575000"/>
            <a:chOff x="534600" y="4724280"/>
            <a:chExt cx="4265640" cy="1575000"/>
          </a:xfrm>
        </p:grpSpPr>
        <p:sp>
          <p:nvSpPr>
            <p:cNvPr id="87" name=""/>
            <p:cNvSpPr/>
            <p:nvPr/>
          </p:nvSpPr>
          <p:spPr>
            <a:xfrm flipH="1">
              <a:off x="2361960" y="5105520"/>
              <a:ext cx="2438280" cy="457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914400" y="5105520"/>
              <a:ext cx="12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34600" y="472428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Test S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975760" y="11430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eview of the simulation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33920" y="1447920"/>
            <a:ext cx="3646080" cy="1764720"/>
            <a:chOff x="3733920" y="1447920"/>
            <a:chExt cx="3646080" cy="1764720"/>
          </a:xfrm>
        </p:grpSpPr>
        <p:sp>
          <p:nvSpPr>
            <p:cNvPr id="92" name=""/>
            <p:cNvSpPr/>
            <p:nvPr/>
          </p:nvSpPr>
          <p:spPr>
            <a:xfrm flipH="1" flipV="1">
              <a:off x="5152680" y="2417400"/>
              <a:ext cx="2227320" cy="7952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733920" y="1447920"/>
              <a:ext cx="1471320" cy="97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1405080" y="1413000"/>
            <a:ext cx="3382920" cy="3312720"/>
            <a:chOff x="1405080" y="1413000"/>
            <a:chExt cx="3382920" cy="3312720"/>
          </a:xfrm>
        </p:grpSpPr>
        <p:sp>
          <p:nvSpPr>
            <p:cNvPr id="95" name=""/>
            <p:cNvSpPr/>
            <p:nvPr/>
          </p:nvSpPr>
          <p:spPr>
            <a:xfrm>
              <a:off x="1405080" y="1413000"/>
              <a:ext cx="20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Copy template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059280" y="1844640"/>
              <a:ext cx="1728720" cy="2881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57720" y="1844640"/>
            <a:ext cx="5246640" cy="38084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838080" y="4800600"/>
            <a:ext cx="4647960" cy="1333440"/>
            <a:chOff x="838080" y="4800600"/>
            <a:chExt cx="4647960" cy="1333440"/>
          </a:xfrm>
        </p:grpSpPr>
        <p:sp>
          <p:nvSpPr>
            <p:cNvPr id="99" name=""/>
            <p:cNvSpPr/>
            <p:nvPr/>
          </p:nvSpPr>
          <p:spPr>
            <a:xfrm flipH="1">
              <a:off x="2590560" y="5105520"/>
              <a:ext cx="28954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38080" y="4800600"/>
              <a:ext cx="144792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38080" y="2819520"/>
            <a:ext cx="4647960" cy="1981080"/>
            <a:chOff x="838080" y="2819520"/>
            <a:chExt cx="4647960" cy="1981080"/>
          </a:xfrm>
        </p:grpSpPr>
        <p:sp>
          <p:nvSpPr>
            <p:cNvPr id="102" name=""/>
            <p:cNvSpPr/>
            <p:nvPr/>
          </p:nvSpPr>
          <p:spPr>
            <a:xfrm flipH="1" flipV="1">
              <a:off x="2590560" y="3505320"/>
              <a:ext cx="2895480" cy="1295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16732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 txBox="1"/>
          <p:nvPr/>
        </p:nvSpPr>
        <p:spPr>
          <a:xfrm>
            <a:off x="1143000" y="60948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. Proposed Solu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92200" y="2433600"/>
            <a:ext cx="5240520" cy="3803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How to use the SFC-Tr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11280" y="4149720"/>
            <a:ext cx="4105440" cy="1871280"/>
            <a:chOff x="2411280" y="4149720"/>
            <a:chExt cx="4105440" cy="1871280"/>
          </a:xfrm>
        </p:grpSpPr>
        <p:sp>
          <p:nvSpPr>
            <p:cNvPr id="108" name=""/>
            <p:cNvSpPr/>
            <p:nvPr/>
          </p:nvSpPr>
          <p:spPr>
            <a:xfrm>
              <a:off x="2411280" y="4149720"/>
              <a:ext cx="4105440" cy="1191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tting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ect viewer applic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ect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843280" y="5373360"/>
              <a:ext cx="1081080" cy="64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4653000"/>
            <a:ext cx="2195280" cy="1368000"/>
            <a:chOff x="0" y="4653000"/>
            <a:chExt cx="2195280" cy="1368000"/>
          </a:xfrm>
        </p:grpSpPr>
        <p:sp>
          <p:nvSpPr>
            <p:cNvPr id="111" name=""/>
            <p:cNvSpPr/>
            <p:nvPr/>
          </p:nvSpPr>
          <p:spPr>
            <a:xfrm>
              <a:off x="0" y="4653000"/>
              <a:ext cx="219528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How to 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the SFC-Trai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198800" y="5444640"/>
              <a:ext cx="75672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909880" cy="3865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Let‘s sta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Ingenieurschule Oensingen</dc:creator>
  <dc:description/>
  <dc:language>en-US</dc:language>
  <cp:lastModifiedBy>Keller</cp:lastModifiedBy>
  <cp:lastPrinted>1995-10-13T13:45:16Z</cp:lastPrinted>
  <dcterms:modified xsi:type="dcterms:W3CDTF">2006-03-30T16:01:41Z</dcterms:modified>
  <cp:revision>71</cp:revision>
  <dc:subject/>
  <dc:title>Ablaufsprache</dc:title>
</cp:coreProperties>
</file>