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651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651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833400"/>
            <a:ext cx="68392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12960" y="4286160"/>
            <a:ext cx="9155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12600" y="4438800"/>
            <a:ext cx="9153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12960" y="4591080"/>
            <a:ext cx="9156600" cy="0"/>
          </a:xfrm>
          <a:prstGeom prst="line">
            <a:avLst/>
          </a:prstGeom>
          <a:ln w="25560">
            <a:solidFill>
              <a:srgbClr val="e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12960" y="4743360"/>
            <a:ext cx="9156600" cy="0"/>
          </a:xfrm>
          <a:prstGeom prst="line">
            <a:avLst/>
          </a:prstGeom>
          <a:ln w="25560">
            <a:solidFill>
              <a:srgbClr val="d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2960" y="4896000"/>
            <a:ext cx="9156600" cy="0"/>
          </a:xfrm>
          <a:prstGeom prst="line">
            <a:avLst/>
          </a:prstGeom>
          <a:ln w="25560">
            <a:solidFill>
              <a:srgbClr val="9c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2960" y="5048280"/>
            <a:ext cx="9156600" cy="0"/>
          </a:xfrm>
          <a:prstGeom prst="line">
            <a:avLst/>
          </a:prstGeom>
          <a:ln w="25560">
            <a:solidFill>
              <a:srgbClr val="75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2960" y="5200560"/>
            <a:ext cx="9156600" cy="0"/>
          </a:xfrm>
          <a:prstGeom prst="line">
            <a:avLst/>
          </a:prstGeom>
          <a:ln w="25560">
            <a:solidFill>
              <a:srgbClr val="5d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2960" y="5353200"/>
            <a:ext cx="9156600" cy="0"/>
          </a:xfrm>
          <a:prstGeom prst="line">
            <a:avLst/>
          </a:prstGeom>
          <a:ln w="25560">
            <a:solidFill>
              <a:srgbClr val="4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2960" y="5505480"/>
            <a:ext cx="9156600" cy="0"/>
          </a:xfrm>
          <a:prstGeom prst="line">
            <a:avLst/>
          </a:prstGeom>
          <a:ln w="25560">
            <a:solidFill>
              <a:srgbClr val="2e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2960" y="5657760"/>
            <a:ext cx="9156600" cy="0"/>
          </a:xfrm>
          <a:prstGeom prst="line">
            <a:avLst/>
          </a:prstGeom>
          <a:ln w="25560">
            <a:solidFill>
              <a:srgbClr val="19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12960" y="5810400"/>
            <a:ext cx="91566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35080" y="311040"/>
            <a:ext cx="8597880" cy="61596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90160" y="6219720"/>
            <a:ext cx="714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183A-FAA2-408F-B6E0-237E0BD15550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72200" y="62197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F7CD742C-7010-49F2-838A-3EC55BECFF3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92420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isp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3860640"/>
            <a:ext cx="647640" cy="360360"/>
          </a:xfrm>
          <a:custGeom>
            <a:avLst/>
            <a:gdLst>
              <a:gd name="textAreaLeft" fmla="*/ 81000 w 647640"/>
              <a:gd name="textAreaRight" fmla="*/ 567000 w 647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371600" y="2590920"/>
          <a:ext cx="271476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590920"/>
                    <a:ext cx="271476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257800" y="2743200"/>
          <a:ext cx="3124080" cy="24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743200"/>
                    <a:ext cx="312408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3720" y="786960"/>
            <a:ext cx="68518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Aktio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9040" y="1847880"/>
            <a:ext cx="7772400" cy="16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tionen werden den Schritten zugewiesen und legen fest, was gemacht w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362320" y="3048120"/>
          <a:ext cx="4343400" cy="25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048120"/>
                    <a:ext cx="434340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Ausführung des Automa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Aktio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einfache Aktionen/Transak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zyklisch aufgerufene Ak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parametrisierbare Akt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607212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mögliche Zeitpunk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3520" y="1219320"/>
          <a:ext cx="777240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77724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3720" y="786960"/>
            <a:ext cx="68518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Qualif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9040" y="1847880"/>
            <a:ext cx="7772400" cy="16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4000"/>
          </a:bodyPr>
          <a:p>
            <a:pPr marL="150840" indent="-150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Qualifier gibt an, wann eine Aktion ausgeführt w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Qualifier (not vollständig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26880" indent="-1256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: Normal, wenn Schritt akt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6880" indent="-1256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+: wenn Schritt das erste Mal akt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6880" indent="-1256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-: wenn Schritt das letzte Mal akt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6880" indent="-1256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: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6880" indent="-1256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: Re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83720" y="786960"/>
            <a:ext cx="68518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Beisp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362320" y="3048120"/>
          <a:ext cx="4343400" cy="25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048120"/>
                    <a:ext cx="434340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er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838800" y="2541600"/>
            <a:ext cx="7162200" cy="2846520"/>
            <a:chOff x="838800" y="2541600"/>
            <a:chExt cx="7162200" cy="2846520"/>
          </a:xfrm>
        </p:grpSpPr>
        <p:sp>
          <p:nvSpPr>
            <p:cNvPr id="124" name=""/>
            <p:cNvSpPr/>
            <p:nvPr/>
          </p:nvSpPr>
          <p:spPr>
            <a:xfrm>
              <a:off x="2174760" y="4965840"/>
              <a:ext cx="58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4760" y="3973680"/>
              <a:ext cx="5143680" cy="745920"/>
            </a:xfrm>
            <a:custGeom>
              <a:avLst/>
              <a:gdLst/>
              <a:ahLst/>
              <a:rect l="l" t="t" r="r" b="b"/>
              <a:pathLst>
                <a:path w="6021" h="668">
                  <a:moveTo>
                    <a:pt x="0" y="668"/>
                  </a:moveTo>
                  <a:lnTo>
                    <a:pt x="1378" y="668"/>
                  </a:lnTo>
                  <a:lnTo>
                    <a:pt x="1378" y="336"/>
                  </a:lnTo>
                  <a:lnTo>
                    <a:pt x="4080" y="330"/>
                  </a:lnTo>
                  <a:lnTo>
                    <a:pt x="4065" y="0"/>
                  </a:lnTo>
                  <a:lnTo>
                    <a:pt x="6021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26920" y="4370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61760" y="5019840"/>
              <a:ext cx="55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e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82280" y="396396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82280" y="359568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+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74760" y="2739960"/>
              <a:ext cx="5205600" cy="679680"/>
            </a:xfrm>
            <a:custGeom>
              <a:avLst/>
              <a:gdLst/>
              <a:ahLst/>
              <a:rect l="l" t="t" r="r" b="b"/>
              <a:pathLst>
                <a:path w="6094" h="608">
                  <a:moveTo>
                    <a:pt x="0" y="608"/>
                  </a:moveTo>
                  <a:lnTo>
                    <a:pt x="1378" y="608"/>
                  </a:lnTo>
                  <a:lnTo>
                    <a:pt x="1378" y="0"/>
                  </a:lnTo>
                  <a:lnTo>
                    <a:pt x="3918" y="0"/>
                  </a:lnTo>
                  <a:lnTo>
                    <a:pt x="3990" y="0"/>
                  </a:lnTo>
                  <a:lnTo>
                    <a:pt x="4063" y="0"/>
                  </a:lnTo>
                  <a:lnTo>
                    <a:pt x="4063" y="608"/>
                  </a:lnTo>
                  <a:lnTo>
                    <a:pt x="6094" y="60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99600" y="25416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kti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76920" y="3059280"/>
              <a:ext cx="81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akti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8800" y="3578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chri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499000" y="4078080"/>
              <a:ext cx="0" cy="60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99000" y="4278240"/>
              <a:ext cx="23288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nsition kann feue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064360" cy="19303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Wieso werden Aktionen noch einmal durchgeführt, wenn eine Transition schalten kan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r aktive Aktionen werden aufgerufen. Somit besteht keine Möglichkeit mehr, etwas abzuschalten, wenn nicht noch eine letzte Berechnung möglich wäre. Auch können Aktionen mit P- nur auf diese Art ausgeführt wer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Qualifiers für Aktionen: P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5638680"/>
            <a:ext cx="7162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4419720"/>
            <a:ext cx="6324480" cy="914400"/>
          </a:xfrm>
          <a:custGeom>
            <a:avLst/>
            <a:gdLst/>
            <a:ahLst/>
            <a:rect l="l" t="t" r="r" b="b"/>
            <a:pathLst>
              <a:path w="3984" h="576">
                <a:moveTo>
                  <a:pt x="0" y="576"/>
                </a:moveTo>
                <a:lnTo>
                  <a:pt x="912" y="576"/>
                </a:lnTo>
                <a:lnTo>
                  <a:pt x="912" y="288"/>
                </a:lnTo>
                <a:lnTo>
                  <a:pt x="2592" y="288"/>
                </a:lnTo>
                <a:lnTo>
                  <a:pt x="2592" y="0"/>
                </a:lnTo>
                <a:lnTo>
                  <a:pt x="39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316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5867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320" y="457200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2320" y="411480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8195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ct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160" y="33526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act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2895480"/>
            <a:ext cx="6400800" cy="838440"/>
          </a:xfrm>
          <a:custGeom>
            <a:avLst/>
            <a:gdLst/>
            <a:ahLst/>
            <a:rect l="l" t="t" r="r" b="b"/>
            <a:pathLst>
              <a:path w="4032" h="528">
                <a:moveTo>
                  <a:pt x="0" y="528"/>
                </a:moveTo>
                <a:lnTo>
                  <a:pt x="912" y="528"/>
                </a:lnTo>
                <a:lnTo>
                  <a:pt x="912" y="0"/>
                </a:lnTo>
                <a:lnTo>
                  <a:pt x="960" y="0"/>
                </a:lnTo>
                <a:lnTo>
                  <a:pt x="960" y="528"/>
                </a:lnTo>
                <a:lnTo>
                  <a:pt x="4032" y="52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Qualifiers für Aktionen: P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638680"/>
            <a:ext cx="7162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4419720"/>
            <a:ext cx="6324480" cy="914400"/>
          </a:xfrm>
          <a:custGeom>
            <a:avLst/>
            <a:gdLst/>
            <a:ahLst/>
            <a:rect l="l" t="t" r="r" b="b"/>
            <a:pathLst>
              <a:path w="3984" h="576">
                <a:moveTo>
                  <a:pt x="0" y="576"/>
                </a:moveTo>
                <a:lnTo>
                  <a:pt x="912" y="576"/>
                </a:lnTo>
                <a:lnTo>
                  <a:pt x="912" y="288"/>
                </a:lnTo>
                <a:lnTo>
                  <a:pt x="2592" y="288"/>
                </a:lnTo>
                <a:lnTo>
                  <a:pt x="2592" y="0"/>
                </a:lnTo>
                <a:lnTo>
                  <a:pt x="39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316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15200" y="5867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2320" y="457200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2320" y="411480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8195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ct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160" y="33526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act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2971800"/>
            <a:ext cx="6796080" cy="847800"/>
          </a:xfrm>
          <a:custGeom>
            <a:avLst/>
            <a:gdLst/>
            <a:ahLst/>
            <a:rect l="l" t="t" r="r" b="b"/>
            <a:pathLst>
              <a:path w="4281" h="534">
                <a:moveTo>
                  <a:pt x="0" y="517"/>
                </a:moveTo>
                <a:lnTo>
                  <a:pt x="2553" y="528"/>
                </a:lnTo>
                <a:lnTo>
                  <a:pt x="2553" y="0"/>
                </a:lnTo>
                <a:lnTo>
                  <a:pt x="2601" y="0"/>
                </a:lnTo>
                <a:lnTo>
                  <a:pt x="2601" y="528"/>
                </a:lnTo>
                <a:lnTo>
                  <a:pt x="4281" y="53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Qualifiers für Aktionen: 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5638680"/>
            <a:ext cx="7162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4419720"/>
            <a:ext cx="6324480" cy="914400"/>
          </a:xfrm>
          <a:custGeom>
            <a:avLst/>
            <a:gdLst/>
            <a:ahLst/>
            <a:rect l="l" t="t" r="r" b="b"/>
            <a:pathLst>
              <a:path w="3984" h="576">
                <a:moveTo>
                  <a:pt x="0" y="576"/>
                </a:moveTo>
                <a:lnTo>
                  <a:pt x="912" y="576"/>
                </a:lnTo>
                <a:lnTo>
                  <a:pt x="912" y="288"/>
                </a:lnTo>
                <a:lnTo>
                  <a:pt x="2592" y="288"/>
                </a:lnTo>
                <a:lnTo>
                  <a:pt x="2592" y="0"/>
                </a:lnTo>
                <a:lnTo>
                  <a:pt x="39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316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5867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2320" y="457200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2320" y="411480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28195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ct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160" y="33526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act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2895480"/>
            <a:ext cx="6416640" cy="838440"/>
          </a:xfrm>
          <a:custGeom>
            <a:avLst/>
            <a:gdLst/>
            <a:ahLst/>
            <a:rect l="l" t="t" r="r" b="b"/>
            <a:pathLst>
              <a:path w="4042" h="528">
                <a:moveTo>
                  <a:pt x="0" y="528"/>
                </a:moveTo>
                <a:lnTo>
                  <a:pt x="912" y="528"/>
                </a:lnTo>
                <a:lnTo>
                  <a:pt x="912" y="0"/>
                </a:lnTo>
                <a:lnTo>
                  <a:pt x="960" y="0"/>
                </a:lnTo>
                <a:lnTo>
                  <a:pt x="1146" y="6"/>
                </a:lnTo>
                <a:lnTo>
                  <a:pt x="4042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2360" y="954000"/>
            <a:ext cx="6839280" cy="11988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e eines Ablaufdiagramm </a:t>
            </a:r>
            <a:br>
              <a:rPr sz="28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chrit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164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ustands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altzu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beitungszu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19320" y="2438280"/>
          <a:ext cx="9889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988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295280" y="4114800"/>
          <a:ext cx="2819520" cy="15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114800"/>
                    <a:ext cx="281952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Qualifiers für Aktionen: 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5638680"/>
            <a:ext cx="7162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419720"/>
            <a:ext cx="6324480" cy="914400"/>
          </a:xfrm>
          <a:custGeom>
            <a:avLst/>
            <a:gdLst/>
            <a:ahLst/>
            <a:rect l="l" t="t" r="r" b="b"/>
            <a:pathLst>
              <a:path w="3984" h="576">
                <a:moveTo>
                  <a:pt x="0" y="576"/>
                </a:moveTo>
                <a:lnTo>
                  <a:pt x="912" y="576"/>
                </a:lnTo>
                <a:lnTo>
                  <a:pt x="912" y="288"/>
                </a:lnTo>
                <a:lnTo>
                  <a:pt x="2592" y="288"/>
                </a:lnTo>
                <a:lnTo>
                  <a:pt x="2592" y="0"/>
                </a:lnTo>
                <a:lnTo>
                  <a:pt x="39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316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5867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2320" y="457200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2320" y="411480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28195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ct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160" y="33526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act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990720" y="2971440"/>
            <a:ext cx="6416640" cy="838080"/>
          </a:xfrm>
          <a:custGeom>
            <a:avLst/>
            <a:gdLst/>
            <a:ahLst/>
            <a:rect l="l" t="t" r="r" b="b"/>
            <a:pathLst>
              <a:path w="4042" h="528">
                <a:moveTo>
                  <a:pt x="0" y="528"/>
                </a:moveTo>
                <a:lnTo>
                  <a:pt x="912" y="528"/>
                </a:lnTo>
                <a:lnTo>
                  <a:pt x="912" y="0"/>
                </a:lnTo>
                <a:lnTo>
                  <a:pt x="960" y="0"/>
                </a:lnTo>
                <a:lnTo>
                  <a:pt x="1146" y="6"/>
                </a:lnTo>
                <a:lnTo>
                  <a:pt x="4042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609480" y="3048120"/>
            <a:ext cx="3754800" cy="1447560"/>
            <a:chOff x="609480" y="3048120"/>
            <a:chExt cx="3754800" cy="1447560"/>
          </a:xfrm>
        </p:grpSpPr>
        <p:sp>
          <p:nvSpPr>
            <p:cNvPr id="67" name=""/>
            <p:cNvSpPr/>
            <p:nvPr/>
          </p:nvSpPr>
          <p:spPr>
            <a:xfrm>
              <a:off x="991080" y="304812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9480" y="3649680"/>
              <a:ext cx="7639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07400" y="3454560"/>
              <a:ext cx="2756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rehzahl erreich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152360" y="960480"/>
            <a:ext cx="6839280" cy="11858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e eines Ablaufdiagramms</a:t>
            </a:r>
            <a:br>
              <a:rPr sz="28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ransi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164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altbedin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52360" y="960480"/>
            <a:ext cx="6839280" cy="11858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e eines Ablaufdiagramms</a:t>
            </a:r>
            <a:br>
              <a:rPr sz="28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erbindu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580920" y="2514600"/>
            <a:ext cx="4800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ichtete Verbindung von Transitionen und Sch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ist von oben nach unten, Pfeil bei Unklarheiten oder Sprü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048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6240" y="958680"/>
            <a:ext cx="6851520" cy="11858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e eines Ablaufdiagram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arkierung, </a:t>
            </a:r>
            <a:r>
              <a:rPr b="0" lang="en-US" sz="4400" spc="-1" strike="noStrike">
                <a:solidFill>
                  <a:srgbClr val="114ffb"/>
                </a:solidFill>
                <a:latin typeface="Times New Roman"/>
              </a:rPr>
              <a:t>aktiver Schri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2819520"/>
            <a:ext cx="577800" cy="558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164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des Diagram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3880" y="4343400"/>
          <a:ext cx="1828800" cy="7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343400"/>
                    <a:ext cx="18288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isp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85800" y="2209680"/>
          <a:ext cx="3954600" cy="31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3954600" cy="31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800600" y="2209680"/>
          <a:ext cx="3954600" cy="314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209680"/>
                    <a:ext cx="3954600" cy="31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248520" y="2590920"/>
            <a:ext cx="380880" cy="380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isp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2209680"/>
          <a:ext cx="3954600" cy="31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3954600" cy="31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800600" y="2209680"/>
          <a:ext cx="3954600" cy="314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209680"/>
                    <a:ext cx="3954600" cy="31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248520" y="4114800"/>
            <a:ext cx="380880" cy="380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981080" y="3809880"/>
          <a:ext cx="15256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809880"/>
                    <a:ext cx="15256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3720" y="786960"/>
            <a:ext cx="68518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eln für das Zeich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9040" y="1847880"/>
            <a:ext cx="7772400" cy="16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Zwei Schritte können nicht direkt miteinan-der verbunden werden. Zwischen zwei Schritten liegt immer eine Tran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3600360"/>
            <a:ext cx="2819520" cy="234324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990360" y="3809880"/>
            <a:ext cx="2971800" cy="234324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4120" y="3733920"/>
          <a:ext cx="2743200" cy="19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733920"/>
                    <a:ext cx="274320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4267080" y="4495680"/>
            <a:ext cx="609840" cy="381240"/>
          </a:xfrm>
          <a:prstGeom prst="rightArrow">
            <a:avLst>
              <a:gd name="adj1" fmla="val 50000"/>
              <a:gd name="adj2" fmla="val 39991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391520" y="3352680"/>
            <a:ext cx="76176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Webdings"/>
              </a:rPr>
              <a:t>a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Webdings"/>
              <a:ea typeface="Webding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895480" y="3657600"/>
          <a:ext cx="3886200" cy="20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657600"/>
                    <a:ext cx="388620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784080" y="793440"/>
            <a:ext cx="6851880" cy="7592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eln für das Zeich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040" y="1847880"/>
            <a:ext cx="7772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wei Transitionen können nie direkt miteinander verbunden werden. Zwischen zwei Transitionen liegt immer ein Schrit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62240" y="3390840"/>
            <a:ext cx="2819520" cy="234324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361960" y="3733920"/>
            <a:ext cx="2971800" cy="234288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4T10:06:24Z</dcterms:created>
  <dc:creator>J.P. Keller</dc:creator>
  <dc:description/>
  <dc:language>en-US</dc:language>
  <cp:lastModifiedBy>Keller</cp:lastModifiedBy>
  <cp:lastPrinted>1995-10-13T13:45:16Z</cp:lastPrinted>
  <dcterms:modified xsi:type="dcterms:W3CDTF">2006-03-17T21:42:08Z</dcterms:modified>
  <cp:revision>89</cp:revision>
  <dc:subject/>
  <dc:title>Ablaufsprache</dc:title>
</cp:coreProperties>
</file>