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0240" y="4385520"/>
            <a:ext cx="8420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24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7520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7480" y="251460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54360" y="251460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0240" y="4385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07480" y="4385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54360" y="4385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48840" y="833400"/>
            <a:ext cx="740916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024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7520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240" y="4385520"/>
            <a:ext cx="8420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9172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4400" y="4286160"/>
            <a:ext cx="9918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4400" y="4438800"/>
            <a:ext cx="99172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4760" y="4591080"/>
            <a:ext cx="992052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4760" y="4743360"/>
            <a:ext cx="992052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4760" y="4896000"/>
            <a:ext cx="992052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4760" y="5048280"/>
            <a:ext cx="992052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4760" y="5200560"/>
            <a:ext cx="992052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4760" y="5353200"/>
            <a:ext cx="992052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4760" y="5505480"/>
            <a:ext cx="992052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4760" y="5657760"/>
            <a:ext cx="992052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4760" y="5810400"/>
            <a:ext cx="99205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4160" y="311040"/>
            <a:ext cx="931536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39480" y="621972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2269-2A00-4B48-BAF2-EB51F8B6C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65008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17FDFA0D-3388-4E53-BC5B-44517D1F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754524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471400"/>
            <a:ext cx="838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cip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00160" y="2066760"/>
          <a:ext cx="5165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66760"/>
                    <a:ext cx="5165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cip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809880"/>
            <a:ext cx="457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0560" y="36990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ecipe Interfa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657600" y="2205000"/>
          <a:ext cx="166680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05000"/>
                    <a:ext cx="16668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0000"/>
                </a:solidFill>
                <a:latin typeface="Times New Roman"/>
              </a:rPr>
              <a:t>Documentation of equipment modul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Build Clas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efine common operation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mplify safety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efine general go-on condition, i.e. sensible for all operation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0520" y="333360"/>
            <a:ext cx="6408720" cy="5889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Example: Temperatu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2880" y="1125360"/>
          <a:ext cx="9217080" cy="4286520"/>
        </p:xfrm>
        <a:graphic>
          <a:graphicData uri="http://schemas.openxmlformats.org/drawingml/2006/table">
            <a:tbl>
              <a:tblPr/>
              <a:tblGrid>
                <a:gridCol w="1346400"/>
                <a:gridCol w="5018040"/>
                <a:gridCol w="1495440"/>
                <a:gridCol w="13572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 Mode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De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n Cond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: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a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Wal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temperature feedback controller regulates wall temperature Tx.2 to setpoint  (Par 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Control Va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x.5.1 -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 if T is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for 5 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 Rea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temperature feedback controller regulates reactor temperature Tx.1 to setpoint  (Par 3) using a cascaded control structure with wall temperatur contro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Control Va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x.5.1 -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 if T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for 5 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 Rea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Control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lim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temperature feedback controller regulates reactor temperature Tx.1 to setpoint  (Par 3) using a cascaded control structure with wall temperatur control. Setpoint of the wall temperature controller is limited to [Tx.1 -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...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.2 +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]. (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: Par 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Control Va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x.5.1 -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 if T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for 5 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Ramp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 Contr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temperature feedback controller regulates reactor temperature Tx.1 to setpoint  (Par 3) using a cascaded control structure with wall temperatur control. Setpoint of the reaktor temperature controller is ramped with Ramp velocity(Par 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Control Va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x.5.1 -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 if T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for 5 m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inal value is atta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4088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 Reci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438280" y="1828800"/>
          <a:ext cx="617220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61722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cipe mod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lant and Site independent Recip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te dependent variations are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cip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0520" y="2276640"/>
            <a:ext cx="488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cip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362320"/>
          <a:ext cx="13888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362320"/>
                    <a:ext cx="1388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cipe Contro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ction Engineer is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Configure production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etup batch data rec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ction pl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ce products with different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ducational Goa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You can explain the major concepts of recip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You can configure a rec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You know how to use general transition cond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Model for plan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Equipment modul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Recip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hysical Mod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37040" y="2584440"/>
          <a:ext cx="166680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7040" y="2584440"/>
                    <a:ext cx="16668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ontrol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9880" y="2514600"/>
            <a:ext cx="4133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ntrol of a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o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o feedback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n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180120" y="2584440"/>
          <a:ext cx="166680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2584440"/>
                    <a:ext cx="16668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quipment modul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9880" y="2514600"/>
            <a:ext cx="4133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group of equipment that can carry out a finite number of specific processing activities.</a:t>
            </a:r>
            <a:r>
              <a:rPr b="0" lang="de-C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trol unit of a modular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now-How ‚entity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abl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80120" y="2584440"/>
          <a:ext cx="166680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2584440"/>
                    <a:ext cx="16668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Unit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9880" y="2514600"/>
            <a:ext cx="4133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 is a collection of Equipment Modules that can carry out one or more processing activitie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Usually a recipe execu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80120" y="2584440"/>
          <a:ext cx="166680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2584440"/>
                    <a:ext cx="16668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rocess Cel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9880" y="2514600"/>
            <a:ext cx="4133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ordination of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80120" y="2584440"/>
          <a:ext cx="166680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2584440"/>
                    <a:ext cx="166680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5T11:24:14Z</dcterms:created>
  <dc:creator>J.P. Keller</dc:creator>
  <dc:description/>
  <dc:language>en-US</dc:language>
  <cp:lastModifiedBy>Keller</cp:lastModifiedBy>
  <cp:lastPrinted>1999-04-26T10:37:18Z</cp:lastPrinted>
  <dcterms:modified xsi:type="dcterms:W3CDTF">2006-03-25T20:10:04Z</dcterms:modified>
  <cp:revision>157</cp:revision>
  <dc:subject>Rezeptur</dc:subject>
  <dc:title>SFC Trainer</dc:title>
</cp:coreProperties>
</file>