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7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8651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7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8651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833400"/>
            <a:ext cx="68392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-12960" y="4286160"/>
            <a:ext cx="91551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12600" y="4438800"/>
            <a:ext cx="9153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12960" y="4591080"/>
            <a:ext cx="9156600" cy="0"/>
          </a:xfrm>
          <a:prstGeom prst="line">
            <a:avLst/>
          </a:prstGeom>
          <a:ln w="25560">
            <a:solidFill>
              <a:srgbClr val="e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-12960" y="4743360"/>
            <a:ext cx="9156600" cy="0"/>
          </a:xfrm>
          <a:prstGeom prst="line">
            <a:avLst/>
          </a:prstGeom>
          <a:ln w="25560">
            <a:solidFill>
              <a:srgbClr val="d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2960" y="4896000"/>
            <a:ext cx="9156600" cy="0"/>
          </a:xfrm>
          <a:prstGeom prst="line">
            <a:avLst/>
          </a:prstGeom>
          <a:ln w="25560">
            <a:solidFill>
              <a:srgbClr val="9c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-12960" y="5048280"/>
            <a:ext cx="9156600" cy="0"/>
          </a:xfrm>
          <a:prstGeom prst="line">
            <a:avLst/>
          </a:prstGeom>
          <a:ln w="25560">
            <a:solidFill>
              <a:srgbClr val="75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12960" y="5200560"/>
            <a:ext cx="9156600" cy="0"/>
          </a:xfrm>
          <a:prstGeom prst="line">
            <a:avLst/>
          </a:prstGeom>
          <a:ln w="25560">
            <a:solidFill>
              <a:srgbClr val="5d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-12960" y="5353200"/>
            <a:ext cx="9156600" cy="0"/>
          </a:xfrm>
          <a:prstGeom prst="line">
            <a:avLst/>
          </a:prstGeom>
          <a:ln w="25560">
            <a:solidFill>
              <a:srgbClr val="4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-12960" y="5505480"/>
            <a:ext cx="9156600" cy="0"/>
          </a:xfrm>
          <a:prstGeom prst="line">
            <a:avLst/>
          </a:prstGeom>
          <a:ln w="25560">
            <a:solidFill>
              <a:srgbClr val="2e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12960" y="5657760"/>
            <a:ext cx="9156600" cy="0"/>
          </a:xfrm>
          <a:prstGeom prst="line">
            <a:avLst/>
          </a:prstGeom>
          <a:ln w="25560">
            <a:solidFill>
              <a:srgbClr val="19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12960" y="5810400"/>
            <a:ext cx="91566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35080" y="311040"/>
            <a:ext cx="8597880" cy="61596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90160" y="6219720"/>
            <a:ext cx="714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C810-17CE-4EC7-A746-0E06F3A199C7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72200" y="621972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E59A4B76-CA14-4E4D-9750-58761C538F7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6732720" y="404640"/>
            <a:ext cx="192384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21180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Reachability and Liv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eachability: Marking M2 is reachable from M1, if there is a sequence of firing transitions that change the marking from M1 to M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Liveness: Any reasonable initial marking can be reached again with a sequence of firing transitions and all transitions were fired at least 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75784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860560" y="1571760"/>
          <a:ext cx="3422880" cy="37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0560" y="1571760"/>
                    <a:ext cx="3422880" cy="37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1828800"/>
            <a:ext cx="6838920" cy="27813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ead-Lock: </a:t>
            </a:r>
            <a:br>
              <a:rPr sz="4400"/>
            </a:b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There is a marking, where no transition is enabl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2438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590920" y="457200"/>
          <a:ext cx="4770360" cy="596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457200"/>
                    <a:ext cx="4770360" cy="59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4T10:06:24Z</dcterms:created>
  <dc:creator>J.P. Keller</dc:creator>
  <dc:description/>
  <dc:language>en-US</dc:language>
  <cp:lastModifiedBy>Keller</cp:lastModifiedBy>
  <cp:lastPrinted>1995-10-13T13:45:16Z</cp:lastPrinted>
  <dcterms:modified xsi:type="dcterms:W3CDTF">2006-03-25T19:51:39Z</dcterms:modified>
  <cp:revision>79</cp:revision>
  <dc:subject>Erreichbarkeit adv</dc:subject>
  <dc:title>SFC Trainer</dc:title>
</cp:coreProperties>
</file>