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0160" y="62197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5B79-50C0-474F-A809-603722CDCFF3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8494B80E-7CC1-4615-B651-A4BF9BC1D93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351640" cy="11988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cherer Ablauf: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zahl Markierungen in einem Schritt ist begrenz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867280" y="2057400"/>
          <a:ext cx="2514600" cy="24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057400"/>
                    <a:ext cx="251460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409360" y="5181480"/>
            <a:ext cx="26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Zwei Markie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in ‚Temp.control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464832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2133720"/>
          <a:ext cx="273528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133720"/>
                    <a:ext cx="27352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203640" y="2133720"/>
          <a:ext cx="2735280" cy="26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2133720"/>
                    <a:ext cx="27352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Verglei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2133720"/>
          <a:ext cx="8066160" cy="4082760"/>
        </p:xfrm>
        <a:graphic>
          <a:graphicData uri="http://schemas.openxmlformats.org/drawingml/2006/table">
            <a:tbl>
              <a:tblPr/>
              <a:tblGrid>
                <a:gridCol w="1101960"/>
                <a:gridCol w="3481200"/>
                <a:gridCol w="3483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ärk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wäc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lauf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ac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maten in der Steuerungstechnik mit parallelen Abläuf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altbedingungen explizit dargestel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mulation von komplexeren Proze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beiten mit Qualifiers etwas mühs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tri-Net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maten in der Steuerungstechnik mit parallelen Abläuf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altbedingungen explizit dargestel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eignet für viele verschiedenste Problemstellun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chronisationen nicht offensichtli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onen in Transitionen und Stellen kann zu sehr unterschiedlichen Darstellungen des gleichen Problems füh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Überspringen von Aktionen nicht definiert: komplexere Fehlerbehandl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ly- 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eignisorientierte Automaten ohne parallel Abläu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altbedingungen explizit dargestel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chronisation zwischen verschiedenen Abläufen ist mühs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ssdia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nfach Darstellung von sequentiellen Abläuf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t nur implizite Transitio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r binäre Verzweigungen mögli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spricht nicht dem Zustandsdenken der Steuerungstechn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13080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eberdeckbark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18080" y="29368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berdec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429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4120" y="1828800"/>
          <a:ext cx="306072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6072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33520" y="1447920"/>
          <a:ext cx="3060720" cy="29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447920"/>
                    <a:ext cx="3060720" cy="29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00200" y="4419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ierungen verschi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der markierte Schritt rechts ist auch links mark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eberdeckbarkeit und Sicherh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n Ablaufdiagramm ist sicher, wenn es ausgehend von einer sinnvollen Startmarkierung keine sich überdeckenden Markierungen gi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rrektu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648320" y="2362320"/>
          <a:ext cx="3779640" cy="29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62320"/>
                    <a:ext cx="3779640" cy="29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838080" y="2438280"/>
          <a:ext cx="3060720" cy="299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438280"/>
                    <a:ext cx="306072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371600" y="2438280"/>
            <a:ext cx="2819520" cy="234324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71320" y="2781360"/>
            <a:ext cx="2971800" cy="234324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8480" y="36576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7000920" cy="5889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ersuchung im Erreichbarkeitsgrap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85840" y="287640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19400" y="279720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277812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6576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629400" y="3752640"/>
            <a:ext cx="5716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1905120"/>
          <a:ext cx="1436400" cy="17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143640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362320" y="1905120"/>
          <a:ext cx="1436400" cy="17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905120"/>
                    <a:ext cx="143640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648320" y="1905120"/>
          <a:ext cx="1436400" cy="17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1905120"/>
                    <a:ext cx="143640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724280" y="4419720"/>
          <a:ext cx="1436760" cy="179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4419720"/>
                    <a:ext cx="143676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315200" y="1905120"/>
          <a:ext cx="1436760" cy="1792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1905120"/>
                    <a:ext cx="143676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4036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Andere Automaten: Petri Net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56000" y="620640"/>
          <a:ext cx="597204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620640"/>
                    <a:ext cx="597204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Andere Automaten: </a:t>
            </a:r>
            <a:br>
              <a:rPr sz="4400"/>
            </a:b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Mealy Auto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33680" y="2751120"/>
          <a:ext cx="3924360" cy="31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3680" y="2751120"/>
                    <a:ext cx="392436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Andere Automaten: </a:t>
            </a:r>
            <a:br>
              <a:rPr sz="4400"/>
            </a:b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Moore Auto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908000" y="2781360"/>
          <a:ext cx="4410360" cy="26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781360"/>
                    <a:ext cx="441036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211640" y="1484280"/>
            <a:ext cx="3303720" cy="5040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5507280" cy="12002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Times New Roman"/>
              </a:rPr>
              <a:t>Andere Automaten: </a:t>
            </a:r>
            <a:br>
              <a:rPr sz="3600"/>
            </a:br>
            <a:r>
              <a:rPr b="0" lang="de-CH" sz="3600" spc="-1" strike="noStrike">
                <a:solidFill>
                  <a:srgbClr val="000000"/>
                </a:solidFill>
                <a:latin typeface="Times New Roman"/>
              </a:rPr>
              <a:t>mod. Flussdiagram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J.P. Keller</dc:creator>
  <dc:description/>
  <dc:language>en-US</dc:language>
  <cp:lastModifiedBy>Keller</cp:lastModifiedBy>
  <cp:lastPrinted>1995-10-13T13:45:16Z</cp:lastPrinted>
  <dcterms:modified xsi:type="dcterms:W3CDTF">2006-03-17T21:47:49Z</dcterms:modified>
  <cp:revision>85</cp:revision>
  <dc:subject/>
  <dc:title>Ablaufsprache</dc:title>
</cp:coreProperties>
</file>