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3.png" ContentType="image/png"/>
  <Override PartName="/ppt/media/image8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10.jpeg" ContentType="image/jpeg"/>
  <Override PartName="/ppt/media/image6.wmf" ContentType="image/x-wm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907588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56520" y="9453600"/>
            <a:ext cx="12704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D9687C4-2C91-41FB-9811-4AB531AF1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78040" y="863640"/>
            <a:ext cx="5024160" cy="347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23680" y="4709880"/>
            <a:ext cx="5133960" cy="418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sldImg"/>
          </p:nvPr>
        </p:nvSpPr>
        <p:spPr>
          <a:xfrm>
            <a:off x="878040" y="863640"/>
            <a:ext cx="5024160" cy="3478320"/>
          </a:xfrm>
          <a:prstGeom prst="rect">
            <a:avLst/>
          </a:prstGeom>
          <a:ln w="0">
            <a:noFill/>
          </a:ln>
        </p:spPr>
      </p:sp>
      <p:sp>
        <p:nvSpPr>
          <p:cNvPr id="2157" name="PlaceHolder 2"/>
          <p:cNvSpPr>
            <a:spLocks noGrp="1"/>
          </p:cNvSpPr>
          <p:nvPr>
            <p:ph type="body"/>
          </p:nvPr>
        </p:nvSpPr>
        <p:spPr>
          <a:xfrm>
            <a:off x="823680" y="4709880"/>
            <a:ext cx="5133960" cy="418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trol system must provide stimuli faster than the outer world do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94489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28240" y="3704040"/>
            <a:ext cx="94489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9880" y="83808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28240" y="370404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69880" y="370404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3042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23240" y="838080"/>
            <a:ext cx="3042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617880" y="838080"/>
            <a:ext cx="3042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28240" y="3704040"/>
            <a:ext cx="3042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23240" y="3704040"/>
            <a:ext cx="3042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617880" y="3704040"/>
            <a:ext cx="3042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28240" y="83808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46108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9880" y="838080"/>
            <a:ext cx="46108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4880" y="201600"/>
            <a:ext cx="957564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9880" y="838080"/>
            <a:ext cx="46108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370404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46108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9880" y="83808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69880" y="370404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9880" y="83808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3704040"/>
            <a:ext cx="94489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827920" y="6218280"/>
            <a:ext cx="3184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648320" y="6562800"/>
            <a:ext cx="838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2A4E-C768-4F7E-8CC3-1531E473BBEE}" type="slidenum">
              <a:rPr b="0" lang="en-US" sz="1600" spc="-1" strike="noStrike">
                <a:solidFill>
                  <a:srgbClr val="000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8120" y="6562800"/>
            <a:ext cx="1371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d4"/>
                </a:solidFill>
                <a:latin typeface="Arial"/>
              </a:rPr>
              <a:t>2003 July, H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272280"/>
            <a:ext cx="74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64440" y="6554880"/>
            <a:ext cx="21589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95880" y="6562800"/>
            <a:ext cx="37404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d4"/>
                </a:solidFill>
                <a:latin typeface="Arial"/>
              </a:rPr>
              <a:t>2.3 Programming PL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5680" y="6573960"/>
            <a:ext cx="91440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066680" y="328680"/>
            <a:ext cx="3721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90440" y="6562800"/>
            <a:ext cx="32148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d4"/>
                </a:solidFill>
                <a:latin typeface="Arial"/>
              </a:rPr>
              <a:t>EPFL - Industrial Auto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228240" y="83808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7000"/>
              </a:lnSpc>
              <a:spcBef>
                <a:spcPts val="20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228600">
              <a:lnSpc>
                <a:spcPct val="87000"/>
              </a:lnSpc>
              <a:spcBef>
                <a:spcPts val="20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228600">
              <a:lnSpc>
                <a:spcPct val="87000"/>
              </a:lnSpc>
              <a:spcBef>
                <a:spcPts val="20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00160" indent="-171360">
              <a:lnSpc>
                <a:spcPct val="87000"/>
              </a:lnSpc>
              <a:spcBef>
                <a:spcPts val="20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914560" indent="-171360">
              <a:lnSpc>
                <a:spcPct val="87000"/>
              </a:lnSpc>
              <a:spcBef>
                <a:spcPts val="20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914560" indent="-171360">
              <a:lnSpc>
                <a:spcPct val="87000"/>
              </a:lnSpc>
              <a:spcBef>
                <a:spcPts val="20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914560" indent="-171360">
              <a:lnSpc>
                <a:spcPct val="87000"/>
              </a:lnSpc>
              <a:spcBef>
                <a:spcPts val="20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477120"/>
            <a:ext cx="9906120" cy="0"/>
          </a:xfrm>
          <a:prstGeom prst="line">
            <a:avLst/>
          </a:prstGeom>
          <a:ln w="12600">
            <a:solidFill>
              <a:srgbClr val="000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55400" y="4662360"/>
            <a:ext cx="5918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mable Logic Controllers - Programming</a:t>
            </a:r>
            <a:br>
              <a:rPr sz="1800"/>
            </a:b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Automates Programmables - program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000000"/>
                </a:solidFill>
                <a:latin typeface="Arial"/>
              </a:rPr>
              <a:t>Speicherprogrammierbare Steuerungen - Programmi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48040" y="428292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5840" y="5776920"/>
            <a:ext cx="213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. Dr. H. Kirr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83160" y="6126120"/>
            <a:ext cx="433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B Research Center, Baden, Switzer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2354400" cy="1012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081560" y="228600"/>
            <a:ext cx="23659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ustrial Auto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Automation Industrielle</a:t>
            </a:r>
            <a:br>
              <a:rPr sz="1800"/>
            </a:br>
            <a:r>
              <a:rPr b="0" i="1" lang="de-CH" sz="1800" spc="-1" strike="noStrike">
                <a:solidFill>
                  <a:srgbClr val="000000"/>
                </a:solidFill>
                <a:latin typeface="Arial"/>
              </a:rPr>
              <a:t>Industrielle Auto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93800" y="493704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5080" y="1752480"/>
            <a:ext cx="3943440" cy="1963800"/>
          </a:xfrm>
          <a:prstGeom prst="rect">
            <a:avLst/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48160" y="2792520"/>
            <a:ext cx="324000" cy="3474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0" y="0"/>
                </a:moveTo>
                <a:lnTo>
                  <a:pt x="0" y="48"/>
                </a:lnTo>
                <a:lnTo>
                  <a:pt x="0" y="96"/>
                </a:lnTo>
                <a:lnTo>
                  <a:pt x="0" y="144"/>
                </a:lnTo>
                <a:lnTo>
                  <a:pt x="0" y="192"/>
                </a:lnTo>
                <a:lnTo>
                  <a:pt x="0" y="240"/>
                </a:lnTo>
                <a:lnTo>
                  <a:pt x="0" y="288"/>
                </a:lnTo>
                <a:lnTo>
                  <a:pt x="144" y="288"/>
                </a:lnTo>
                <a:lnTo>
                  <a:pt x="288" y="288"/>
                </a:lnTo>
                <a:lnTo>
                  <a:pt x="288" y="240"/>
                </a:lnTo>
                <a:lnTo>
                  <a:pt x="288" y="192"/>
                </a:lnTo>
                <a:lnTo>
                  <a:pt x="288" y="144"/>
                </a:lnTo>
                <a:lnTo>
                  <a:pt x="288" y="96"/>
                </a:lnTo>
                <a:lnTo>
                  <a:pt x="288" y="48"/>
                </a:lnTo>
                <a:lnTo>
                  <a:pt x="288" y="0"/>
                </a:lnTo>
                <a:lnTo>
                  <a:pt x="14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08640" y="2387520"/>
            <a:ext cx="215640" cy="34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li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13760" y="3544920"/>
            <a:ext cx="33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22520" y="2387520"/>
            <a:ext cx="755640" cy="34776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lnTo>
                  <a:pt x="0" y="96"/>
                </a:lnTo>
                <a:lnTo>
                  <a:pt x="0" y="192"/>
                </a:lnTo>
                <a:lnTo>
                  <a:pt x="0" y="288"/>
                </a:lnTo>
                <a:lnTo>
                  <a:pt x="0" y="384"/>
                </a:lnTo>
                <a:lnTo>
                  <a:pt x="0" y="480"/>
                </a:lnTo>
                <a:lnTo>
                  <a:pt x="0" y="576"/>
                </a:lnTo>
                <a:lnTo>
                  <a:pt x="1056" y="576"/>
                </a:lnTo>
                <a:lnTo>
                  <a:pt x="1056" y="480"/>
                </a:lnTo>
                <a:lnTo>
                  <a:pt x="1056" y="384"/>
                </a:lnTo>
                <a:lnTo>
                  <a:pt x="1056" y="288"/>
                </a:lnTo>
                <a:lnTo>
                  <a:pt x="1056" y="192"/>
                </a:lnTo>
                <a:lnTo>
                  <a:pt x="1056" y="96"/>
                </a:lnTo>
                <a:lnTo>
                  <a:pt x="1056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5400" y="2487600"/>
            <a:ext cx="85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IT_REF_TA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61640" y="251784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N_G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63" idx="0"/>
            <a:endCxn id="61" idx="1"/>
          </p:cNvCxnSpPr>
          <p:nvPr/>
        </p:nvCxnSpPr>
        <p:spPr>
          <a:xfrm>
            <a:off x="4178160" y="2561400"/>
            <a:ext cx="330840" cy="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1" idx="3"/>
            <a:endCxn id="68" idx="2"/>
          </p:cNvCxnSpPr>
          <p:nvPr/>
        </p:nvCxnSpPr>
        <p:spPr>
          <a:xfrm>
            <a:off x="4724280" y="2561400"/>
            <a:ext cx="155880" cy="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4879800" y="2503440"/>
            <a:ext cx="108000" cy="115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62640" y="2446200"/>
            <a:ext cx="107640" cy="57240"/>
          </a:xfrm>
          <a:custGeom>
            <a:avLst/>
            <a:gdLst/>
            <a:ahLst/>
            <a:rect l="l" t="t" r="r" b="b"/>
            <a:pathLst>
              <a:path w="96" h="48">
                <a:moveTo>
                  <a:pt x="0" y="0"/>
                </a:moveTo>
                <a:lnTo>
                  <a:pt x="48" y="0"/>
                </a:lnTo>
                <a:lnTo>
                  <a:pt x="0" y="48"/>
                </a:lnTo>
                <a:lnTo>
                  <a:pt x="48" y="0"/>
                </a:lnTo>
                <a:lnTo>
                  <a:pt x="96" y="48"/>
                </a:lnTo>
                <a:lnTo>
                  <a:pt x="48" y="0"/>
                </a:lnTo>
                <a:lnTo>
                  <a:pt x="9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5520" y="2049480"/>
            <a:ext cx="1520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OST_START_TIMER_MO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>
            <a:stCxn id="70" idx="3"/>
            <a:endCxn id="72" idx="1"/>
          </p:cNvCxnSpPr>
          <p:nvPr/>
        </p:nvCxnSpPr>
        <p:spPr>
          <a:xfrm>
            <a:off x="2665800" y="2157120"/>
            <a:ext cx="703080" cy="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2" idx="3"/>
            <a:endCxn id="61" idx="0"/>
          </p:cNvCxnSpPr>
          <p:nvPr/>
        </p:nvCxnSpPr>
        <p:spPr>
          <a:xfrm>
            <a:off x="4394160" y="2157480"/>
            <a:ext cx="222480" cy="23040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3368520" y="2041560"/>
            <a:ext cx="1025640" cy="231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899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0" idx="0"/>
            <a:endCxn id="68" idx="4"/>
          </p:cNvCxnSpPr>
          <p:nvPr/>
        </p:nvCxnSpPr>
        <p:spPr>
          <a:xfrm flipV="1">
            <a:off x="4772160" y="2619360"/>
            <a:ext cx="162000" cy="34740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76" idx="3"/>
            <a:endCxn id="60" idx="1"/>
          </p:cNvCxnSpPr>
          <p:nvPr/>
        </p:nvCxnSpPr>
        <p:spPr>
          <a:xfrm flipV="1">
            <a:off x="4320000" y="2908440"/>
            <a:ext cx="128520" cy="38160"/>
          </a:xfrm>
          <a:prstGeom prst="bentConnector3">
            <a:avLst>
              <a:gd name="adj1" fmla="val 47752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8" idx="3"/>
            <a:endCxn id="60" idx="2"/>
          </p:cNvCxnSpPr>
          <p:nvPr/>
        </p:nvCxnSpPr>
        <p:spPr>
          <a:xfrm flipV="1">
            <a:off x="4279320" y="3024360"/>
            <a:ext cx="169200" cy="36360"/>
          </a:xfrm>
          <a:prstGeom prst="bentConnector3">
            <a:avLst>
              <a:gd name="adj1" fmla="val 48187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3970080" y="2838600"/>
            <a:ext cx="349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42080" y="29527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98520" y="2971800"/>
            <a:ext cx="128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FAULT_STATE[tit1_oor]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81" idx="0"/>
            <a:endCxn id="60" idx="3"/>
          </p:cNvCxnSpPr>
          <p:nvPr/>
        </p:nvCxnSpPr>
        <p:spPr>
          <a:xfrm flipV="1">
            <a:off x="3962520" y="3139920"/>
            <a:ext cx="648000" cy="118080"/>
          </a:xfrm>
          <a:prstGeom prst="bentConnector4">
            <a:avLst>
              <a:gd name="adj1" fmla="val 37520"/>
              <a:gd name="adj2" fmla="val -98165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82" name=""/>
          <p:cNvGrpSpPr/>
          <p:nvPr/>
        </p:nvGrpSpPr>
        <p:grpSpPr>
          <a:xfrm>
            <a:off x="4532400" y="2879640"/>
            <a:ext cx="161640" cy="172800"/>
            <a:chOff x="4532400" y="2879640"/>
            <a:chExt cx="161640" cy="172800"/>
          </a:xfrm>
        </p:grpSpPr>
        <p:sp>
          <p:nvSpPr>
            <p:cNvPr id="83" name=""/>
            <p:cNvSpPr/>
            <p:nvPr/>
          </p:nvSpPr>
          <p:spPr>
            <a:xfrm flipV="1">
              <a:off x="4532400" y="2994840"/>
              <a:ext cx="5364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4532400" y="2879640"/>
              <a:ext cx="53640" cy="57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4640040" y="2937600"/>
              <a:ext cx="54000" cy="57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4559040" y="2966760"/>
              <a:ext cx="10764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" name=""/>
          <p:cNvCxnSpPr>
            <a:stCxn id="68" idx="6"/>
            <a:endCxn id="88" idx="1"/>
          </p:cNvCxnSpPr>
          <p:nvPr/>
        </p:nvCxnSpPr>
        <p:spPr>
          <a:xfrm>
            <a:off x="4987800" y="2561400"/>
            <a:ext cx="324360" cy="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1298520" y="3270240"/>
            <a:ext cx="128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FAULT_STATE[tit2_oor]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38520" y="3084480"/>
            <a:ext cx="324000" cy="34596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0" y="0"/>
                </a:moveTo>
                <a:lnTo>
                  <a:pt x="0" y="48"/>
                </a:lnTo>
                <a:lnTo>
                  <a:pt x="0" y="96"/>
                </a:lnTo>
                <a:lnTo>
                  <a:pt x="0" y="144"/>
                </a:lnTo>
                <a:lnTo>
                  <a:pt x="0" y="192"/>
                </a:lnTo>
                <a:lnTo>
                  <a:pt x="0" y="240"/>
                </a:lnTo>
                <a:lnTo>
                  <a:pt x="0" y="288"/>
                </a:lnTo>
                <a:lnTo>
                  <a:pt x="144" y="288"/>
                </a:lnTo>
                <a:lnTo>
                  <a:pt x="288" y="288"/>
                </a:lnTo>
                <a:lnTo>
                  <a:pt x="288" y="240"/>
                </a:lnTo>
                <a:lnTo>
                  <a:pt x="288" y="192"/>
                </a:lnTo>
                <a:lnTo>
                  <a:pt x="288" y="144"/>
                </a:lnTo>
                <a:lnTo>
                  <a:pt x="288" y="96"/>
                </a:lnTo>
                <a:lnTo>
                  <a:pt x="288" y="48"/>
                </a:lnTo>
                <a:lnTo>
                  <a:pt x="288" y="0"/>
                </a:lnTo>
                <a:lnTo>
                  <a:pt x="14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79" idx="3"/>
            <a:endCxn id="81" idx="1"/>
          </p:cNvCxnSpPr>
          <p:nvPr/>
        </p:nvCxnSpPr>
        <p:spPr>
          <a:xfrm>
            <a:off x="2587320" y="3079440"/>
            <a:ext cx="1051560" cy="120600"/>
          </a:xfrm>
          <a:prstGeom prst="bentConnector3">
            <a:avLst>
              <a:gd name="adj1" fmla="val 49726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89" idx="3"/>
            <a:endCxn id="81" idx="2"/>
          </p:cNvCxnSpPr>
          <p:nvPr/>
        </p:nvCxnSpPr>
        <p:spPr>
          <a:xfrm flipV="1">
            <a:off x="2587320" y="3315240"/>
            <a:ext cx="1051560" cy="63000"/>
          </a:xfrm>
          <a:prstGeom prst="bentConnector3">
            <a:avLst>
              <a:gd name="adj1" fmla="val 49726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92" name=""/>
          <p:cNvSpPr/>
          <p:nvPr/>
        </p:nvSpPr>
        <p:spPr>
          <a:xfrm>
            <a:off x="3664080" y="3191040"/>
            <a:ext cx="33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11800" y="2387520"/>
            <a:ext cx="217440" cy="34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65800" y="2446200"/>
            <a:ext cx="109440" cy="230400"/>
          </a:xfrm>
          <a:custGeom>
            <a:avLst/>
            <a:gdLst/>
            <a:ahLst/>
            <a:rect l="l" t="t" r="r" b="b"/>
            <a:pathLst>
              <a:path w="96" h="192">
                <a:moveTo>
                  <a:pt x="48" y="0"/>
                </a:moveTo>
                <a:lnTo>
                  <a:pt x="0" y="96"/>
                </a:lnTo>
                <a:lnTo>
                  <a:pt x="96" y="96"/>
                </a:lnTo>
                <a:lnTo>
                  <a:pt x="0" y="96"/>
                </a:lnTo>
                <a:lnTo>
                  <a:pt x="48" y="192"/>
                </a:lnTo>
                <a:lnTo>
                  <a:pt x="0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3680" y="2921040"/>
            <a:ext cx="1093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IT_RATE_LIM_D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0"/>
            <a:endCxn id="88" idx="2"/>
          </p:cNvCxnSpPr>
          <p:nvPr/>
        </p:nvCxnSpPr>
        <p:spPr>
          <a:xfrm rot="16200000">
            <a:off x="5327640" y="2828160"/>
            <a:ext cx="186120" cy="36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4871880" y="2054160"/>
            <a:ext cx="108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IT_RATE_LIM_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6" idx="2"/>
            <a:endCxn id="88" idx="0"/>
          </p:cNvCxnSpPr>
          <p:nvPr/>
        </p:nvCxnSpPr>
        <p:spPr>
          <a:xfrm flipH="1" rot="16200000">
            <a:off x="5359680" y="2326320"/>
            <a:ext cx="118080" cy="4680"/>
          </a:xfrm>
          <a:prstGeom prst="bentConnector3">
            <a:avLst>
              <a:gd name="adj1" fmla="val 474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8" idx="3"/>
            <a:endCxn id="99" idx="2"/>
          </p:cNvCxnSpPr>
          <p:nvPr/>
        </p:nvCxnSpPr>
        <p:spPr>
          <a:xfrm>
            <a:off x="5529240" y="2561400"/>
            <a:ext cx="270360" cy="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5799240" y="2503440"/>
            <a:ext cx="108000" cy="115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62" idx="3"/>
            <a:endCxn id="99" idx="4"/>
          </p:cNvCxnSpPr>
          <p:nvPr/>
        </p:nvCxnSpPr>
        <p:spPr>
          <a:xfrm flipV="1">
            <a:off x="2248560" y="2619360"/>
            <a:ext cx="3605040" cy="103356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9" idx="6"/>
            <a:endCxn id="102" idx="0"/>
          </p:cNvCxnSpPr>
          <p:nvPr/>
        </p:nvCxnSpPr>
        <p:spPr>
          <a:xfrm>
            <a:off x="5907240" y="2561400"/>
            <a:ext cx="754200" cy="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5825520" y="2401920"/>
            <a:ext cx="75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IT_ERR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35680" y="2676600"/>
            <a:ext cx="5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61240" y="2676600"/>
            <a:ext cx="5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65280" y="2063880"/>
            <a:ext cx="1265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IT_REF_MAX_ST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72880" y="251784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WFD_T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61080" y="2387520"/>
            <a:ext cx="324000" cy="34776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0" y="0"/>
                </a:moveTo>
                <a:lnTo>
                  <a:pt x="0" y="48"/>
                </a:lnTo>
                <a:lnTo>
                  <a:pt x="0" y="96"/>
                </a:lnTo>
                <a:lnTo>
                  <a:pt x="0" y="144"/>
                </a:lnTo>
                <a:lnTo>
                  <a:pt x="0" y="192"/>
                </a:lnTo>
                <a:lnTo>
                  <a:pt x="0" y="240"/>
                </a:lnTo>
                <a:lnTo>
                  <a:pt x="0" y="288"/>
                </a:lnTo>
                <a:lnTo>
                  <a:pt x="144" y="288"/>
                </a:lnTo>
                <a:lnTo>
                  <a:pt x="288" y="288"/>
                </a:lnTo>
                <a:lnTo>
                  <a:pt x="288" y="240"/>
                </a:lnTo>
                <a:lnTo>
                  <a:pt x="288" y="192"/>
                </a:lnTo>
                <a:lnTo>
                  <a:pt x="288" y="144"/>
                </a:lnTo>
                <a:lnTo>
                  <a:pt x="288" y="96"/>
                </a:lnTo>
                <a:lnTo>
                  <a:pt x="288" y="48"/>
                </a:lnTo>
                <a:lnTo>
                  <a:pt x="288" y="0"/>
                </a:lnTo>
                <a:lnTo>
                  <a:pt x="14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61240" y="2676600"/>
            <a:ext cx="5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64320" y="2505240"/>
            <a:ext cx="3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08880" y="1809720"/>
            <a:ext cx="431640" cy="231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899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95560" y="1824120"/>
            <a:ext cx="45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K_T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10" idx="2"/>
            <a:endCxn id="102" idx="1"/>
          </p:cNvCxnSpPr>
          <p:nvPr/>
        </p:nvCxnSpPr>
        <p:spPr>
          <a:xfrm flipH="1">
            <a:off x="6823080" y="2041560"/>
            <a:ext cx="1800" cy="346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2" idx="2"/>
            <a:endCxn id="107" idx="1"/>
          </p:cNvCxnSpPr>
          <p:nvPr/>
        </p:nvCxnSpPr>
        <p:spPr>
          <a:xfrm>
            <a:off x="6985080" y="2561400"/>
            <a:ext cx="488160" cy="64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6737040" y="2392200"/>
            <a:ext cx="24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19840" y="2806560"/>
            <a:ext cx="52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D_T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02400" y="260352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5" idx="3"/>
            <a:endCxn id="102" idx="3"/>
          </p:cNvCxnSpPr>
          <p:nvPr/>
        </p:nvCxnSpPr>
        <p:spPr>
          <a:xfrm flipV="1">
            <a:off x="6446520" y="2677320"/>
            <a:ext cx="214920" cy="237240"/>
          </a:xfrm>
          <a:prstGeom prst="bentConnector3">
            <a:avLst>
              <a:gd name="adj1" fmla="val 48489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5891040" y="2171880"/>
            <a:ext cx="6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MAX_I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8" idx="3"/>
            <a:endCxn id="102" idx="4"/>
          </p:cNvCxnSpPr>
          <p:nvPr/>
        </p:nvCxnSpPr>
        <p:spPr>
          <a:xfrm>
            <a:off x="6515280" y="2279520"/>
            <a:ext cx="146160" cy="166320"/>
          </a:xfrm>
          <a:prstGeom prst="bentConnector3">
            <a:avLst>
              <a:gd name="adj1" fmla="val 47901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6632280" y="240192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73400" y="349884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17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3" idx="6"/>
          </p:cNvCxnSpPr>
          <p:nvPr/>
        </p:nvCxnSpPr>
        <p:spPr>
          <a:xfrm flipV="1">
            <a:off x="3090960" y="2588400"/>
            <a:ext cx="346320" cy="2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3036960" y="2562120"/>
            <a:ext cx="5400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23" idx="0"/>
            <a:endCxn id="110" idx="1"/>
          </p:cNvCxnSpPr>
          <p:nvPr/>
        </p:nvCxnSpPr>
        <p:spPr>
          <a:xfrm flipH="1" flipV="1" rot="5400000">
            <a:off x="4518000" y="471600"/>
            <a:ext cx="636840" cy="354528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23" idx="2"/>
            <a:endCxn id="65" idx="3"/>
          </p:cNvCxnSpPr>
          <p:nvPr/>
        </p:nvCxnSpPr>
        <p:spPr>
          <a:xfrm flipV="1" rot="10800000">
            <a:off x="2413440" y="2590920"/>
            <a:ext cx="623520" cy="34920"/>
          </a:xfrm>
          <a:prstGeom prst="bentConnector3">
            <a:avLst>
              <a:gd name="adj1" fmla="val 50491"/>
            </a:avLst>
          </a:prstGeom>
          <a:ln w="12600">
            <a:solidFill>
              <a:srgbClr val="000000"/>
            </a:solidFill>
            <a:miter/>
          </a:ln>
        </p:spPr>
      </p:cxn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d4"/>
                </a:solidFill>
                <a:latin typeface="Arial"/>
              </a:rPr>
              <a:t>Ladder logic (1)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38080" y="24354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ladder logic is the oldest programming language for P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bases directly on the relay intuition of the electrici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widely in use outside 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2971800" y="4267080"/>
            <a:ext cx="3886200" cy="2057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Ladder logic (2)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626200" y="942840"/>
            <a:ext cx="436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Kontaktplansprache, language à contac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954000" y="1501920"/>
            <a:ext cx="8039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tact plan or "ladder logic" language allows an easy transition from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tional relay logic diagrams to the programming of binary function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953280" y="2438280"/>
            <a:ext cx="4847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well suited to express combinational 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950760" y="2971800"/>
            <a:ext cx="8548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however not powerful enough for process control programming (there are no analog element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952560" y="3822840"/>
            <a:ext cx="5722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ladder logic symbols represent the elem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378240" y="4632480"/>
            <a:ext cx="59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987720" y="4479840"/>
            <a:ext cx="0" cy="292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40360" y="4479840"/>
            <a:ext cx="0" cy="292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40360" y="4632480"/>
            <a:ext cx="59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913640" y="4457880"/>
            <a:ext cx="1539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cont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78240" y="5241960"/>
            <a:ext cx="59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87720" y="5089680"/>
            <a:ext cx="0" cy="291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40360" y="5089680"/>
            <a:ext cx="0" cy="291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40360" y="5241960"/>
            <a:ext cx="59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913640" y="5067360"/>
            <a:ext cx="1551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 cont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78240" y="5851440"/>
            <a:ext cx="44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216320" y="5851440"/>
            <a:ext cx="59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40440" y="5676840"/>
            <a:ext cx="1080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y co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3975120" y="5089680"/>
            <a:ext cx="17784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35440" y="5661000"/>
            <a:ext cx="368280" cy="368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2355840" y="3753000"/>
            <a:ext cx="3645000" cy="1625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355840" y="1886040"/>
            <a:ext cx="3645000" cy="1015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Ladder logic (3)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889680" y="1924200"/>
            <a:ext cx="1701720" cy="9777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06560" y="2527200"/>
            <a:ext cx="368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187800" y="2374920"/>
            <a:ext cx="0" cy="291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340080" y="2374920"/>
            <a:ext cx="0" cy="291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378240" y="2527200"/>
            <a:ext cx="48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492360" y="2527200"/>
            <a:ext cx="59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02200" y="2374920"/>
            <a:ext cx="0" cy="291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254480" y="2374920"/>
            <a:ext cx="0" cy="291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254480" y="2527200"/>
            <a:ext cx="1320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4089240" y="2374920"/>
            <a:ext cx="1778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330920" y="955800"/>
            <a:ext cx="7382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 combinations are expressed by series and parallel relay contac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2781360" y="2228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601360" y="1895400"/>
            <a:ext cx="31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046680" y="197172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922920" y="193356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902120" y="2336760"/>
            <a:ext cx="368280" cy="368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902120" y="2336760"/>
            <a:ext cx="368280" cy="368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888080" y="235260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5587920" y="2533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427480" y="3051000"/>
            <a:ext cx="6600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il 50 is active (current flows) when 01 is active and 02 is no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77040" y="2095560"/>
            <a:ext cx="344520" cy="344520"/>
          </a:xfrm>
          <a:custGeom>
            <a:avLst/>
            <a:gdLst/>
            <a:ahLst/>
            <a:rect l="l" t="t" r="r" b="b"/>
            <a:pathLst>
              <a:path w="217" h="217">
                <a:moveTo>
                  <a:pt x="0" y="0"/>
                </a:moveTo>
                <a:lnTo>
                  <a:pt x="72" y="0"/>
                </a:lnTo>
                <a:lnTo>
                  <a:pt x="72" y="216"/>
                </a:lnTo>
                <a:lnTo>
                  <a:pt x="216" y="2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277040" y="2095560"/>
            <a:ext cx="344520" cy="344520"/>
          </a:xfrm>
          <a:custGeom>
            <a:avLst/>
            <a:gdLst/>
            <a:ahLst/>
            <a:rect l="l" t="t" r="r" b="b"/>
            <a:pathLst>
              <a:path w="217" h="217">
                <a:moveTo>
                  <a:pt x="0" y="0"/>
                </a:moveTo>
                <a:lnTo>
                  <a:pt x="72" y="0"/>
                </a:lnTo>
                <a:lnTo>
                  <a:pt x="72" y="216"/>
                </a:lnTo>
                <a:lnTo>
                  <a:pt x="216" y="2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620120" y="2387520"/>
            <a:ext cx="217440" cy="344520"/>
          </a:xfrm>
          <a:custGeom>
            <a:avLst/>
            <a:gdLst/>
            <a:ahLst/>
            <a:rect l="l" t="t" r="r" b="b"/>
            <a:pathLst>
              <a:path w="137" h="217">
                <a:moveTo>
                  <a:pt x="136" y="0"/>
                </a:moveTo>
                <a:lnTo>
                  <a:pt x="0" y="0"/>
                </a:lnTo>
                <a:lnTo>
                  <a:pt x="0" y="216"/>
                </a:lnTo>
                <a:lnTo>
                  <a:pt x="136" y="216"/>
                </a:lnTo>
                <a:lnTo>
                  <a:pt x="136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620120" y="2387520"/>
            <a:ext cx="217440" cy="344520"/>
          </a:xfrm>
          <a:custGeom>
            <a:avLst/>
            <a:gdLst/>
            <a:ahLst/>
            <a:rect l="l" t="t" r="r" b="b"/>
            <a:pathLst>
              <a:path w="137" h="217">
                <a:moveTo>
                  <a:pt x="136" y="0"/>
                </a:moveTo>
                <a:lnTo>
                  <a:pt x="0" y="0"/>
                </a:lnTo>
                <a:lnTo>
                  <a:pt x="0" y="216"/>
                </a:lnTo>
                <a:lnTo>
                  <a:pt x="136" y="2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666200" y="2395440"/>
            <a:ext cx="329760" cy="32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96" y="0"/>
                </a:moveTo>
                <a:arcTo wR="10800" hR="10800" stAng="-5433054" swAng="10833054"/>
                <a:lnTo>
                  <a:pt x="10800" y="10800"/>
                </a:lnTo>
                <a:close/>
              </a:path>
              <a:path fill="none" w="21600" h="21600">
                <a:moveTo>
                  <a:pt x="10696" y="0"/>
                </a:moveTo>
                <a:arcTo wR="10800" hR="10800" stAng="-5433054" swAng="10833054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945480" y="189540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907320" y="25052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283520" y="26478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512120" y="2597040"/>
            <a:ext cx="10152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032680" y="257184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202600" y="239076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518080" y="28386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75160" y="1781280"/>
            <a:ext cx="827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654280" y="4356000"/>
            <a:ext cx="520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187800" y="4203720"/>
            <a:ext cx="0" cy="291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340080" y="4203720"/>
            <a:ext cx="0" cy="291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340080" y="4356000"/>
            <a:ext cx="1054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654280" y="5079960"/>
            <a:ext cx="520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178160" y="4356000"/>
            <a:ext cx="1435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3174840" y="4927680"/>
            <a:ext cx="17784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2631960" y="4057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464560" y="3711600"/>
            <a:ext cx="31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33720" y="378792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902120" y="4165560"/>
            <a:ext cx="368280" cy="368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902120" y="4165560"/>
            <a:ext cx="368280" cy="368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900680" y="416880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5626080" y="436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556240" y="46674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87800" y="4927680"/>
            <a:ext cx="0" cy="291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40080" y="4927680"/>
            <a:ext cx="0" cy="291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33720" y="45878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2641680" y="4355640"/>
            <a:ext cx="0" cy="72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860640" y="4355640"/>
            <a:ext cx="0" cy="72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340080" y="5079960"/>
            <a:ext cx="520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210760" y="5527800"/>
            <a:ext cx="6423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il 50 is active (current flows) when 01 is active or 02 is no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75880" y="3762360"/>
            <a:ext cx="94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884680" y="1450800"/>
            <a:ext cx="2866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dder logic re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680160" y="1527120"/>
            <a:ext cx="213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CMOS" equi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870600" y="4038480"/>
            <a:ext cx="1778040" cy="1206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7628040" y="4603680"/>
            <a:ext cx="428400" cy="354240"/>
            <a:chOff x="7628040" y="4603680"/>
            <a:chExt cx="428400" cy="354240"/>
          </a:xfrm>
        </p:grpSpPr>
        <p:sp>
          <p:nvSpPr>
            <p:cNvPr id="560" name=""/>
            <p:cNvSpPr/>
            <p:nvPr/>
          </p:nvSpPr>
          <p:spPr>
            <a:xfrm>
              <a:off x="7628040" y="4603680"/>
              <a:ext cx="428400" cy="352440"/>
            </a:xfrm>
            <a:custGeom>
              <a:avLst/>
              <a:gdLst/>
              <a:ahLst/>
              <a:rect l="l" t="t" r="r" b="b"/>
              <a:pathLst>
                <a:path w="270" h="222">
                  <a:moveTo>
                    <a:pt x="0" y="0"/>
                  </a:moveTo>
                  <a:lnTo>
                    <a:pt x="87" y="0"/>
                  </a:lnTo>
                  <a:lnTo>
                    <a:pt x="127" y="0"/>
                  </a:lnTo>
                  <a:lnTo>
                    <a:pt x="158" y="16"/>
                  </a:lnTo>
                  <a:lnTo>
                    <a:pt x="198" y="32"/>
                  </a:lnTo>
                  <a:lnTo>
                    <a:pt x="230" y="56"/>
                  </a:lnTo>
                  <a:lnTo>
                    <a:pt x="270" y="111"/>
                  </a:lnTo>
                  <a:lnTo>
                    <a:pt x="246" y="143"/>
                  </a:lnTo>
                  <a:lnTo>
                    <a:pt x="214" y="174"/>
                  </a:lnTo>
                  <a:lnTo>
                    <a:pt x="174" y="198"/>
                  </a:lnTo>
                  <a:lnTo>
                    <a:pt x="119" y="214"/>
                  </a:lnTo>
                  <a:lnTo>
                    <a:pt x="63" y="222"/>
                  </a:lnTo>
                  <a:lnTo>
                    <a:pt x="8" y="222"/>
                  </a:lnTo>
                  <a:lnTo>
                    <a:pt x="23" y="182"/>
                  </a:lnTo>
                  <a:lnTo>
                    <a:pt x="23" y="151"/>
                  </a:lnTo>
                  <a:lnTo>
                    <a:pt x="31" y="111"/>
                  </a:lnTo>
                  <a:lnTo>
                    <a:pt x="31" y="72"/>
                  </a:lnTo>
                  <a:lnTo>
                    <a:pt x="15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628040" y="4603680"/>
              <a:ext cx="428400" cy="352440"/>
            </a:xfrm>
            <a:custGeom>
              <a:avLst/>
              <a:gdLst/>
              <a:ahLst/>
              <a:rect l="l" t="t" r="r" b="b"/>
              <a:pathLst>
                <a:path w="270" h="222">
                  <a:moveTo>
                    <a:pt x="0" y="0"/>
                  </a:moveTo>
                  <a:lnTo>
                    <a:pt x="87" y="0"/>
                  </a:lnTo>
                  <a:lnTo>
                    <a:pt x="127" y="0"/>
                  </a:lnTo>
                  <a:lnTo>
                    <a:pt x="158" y="16"/>
                  </a:lnTo>
                  <a:lnTo>
                    <a:pt x="198" y="32"/>
                  </a:lnTo>
                  <a:lnTo>
                    <a:pt x="230" y="56"/>
                  </a:lnTo>
                  <a:lnTo>
                    <a:pt x="270" y="111"/>
                  </a:lnTo>
                  <a:lnTo>
                    <a:pt x="246" y="143"/>
                  </a:lnTo>
                  <a:lnTo>
                    <a:pt x="214" y="174"/>
                  </a:lnTo>
                  <a:lnTo>
                    <a:pt x="174" y="198"/>
                  </a:lnTo>
                  <a:lnTo>
                    <a:pt x="119" y="214"/>
                  </a:lnTo>
                  <a:lnTo>
                    <a:pt x="63" y="222"/>
                  </a:lnTo>
                  <a:lnTo>
                    <a:pt x="8" y="222"/>
                  </a:lnTo>
                  <a:lnTo>
                    <a:pt x="23" y="182"/>
                  </a:lnTo>
                  <a:lnTo>
                    <a:pt x="23" y="151"/>
                  </a:lnTo>
                  <a:lnTo>
                    <a:pt x="31" y="111"/>
                  </a:lnTo>
                  <a:lnTo>
                    <a:pt x="31" y="72"/>
                  </a:lnTo>
                  <a:lnTo>
                    <a:pt x="15" y="32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715160" y="4603680"/>
              <a:ext cx="341280" cy="163440"/>
            </a:xfrm>
            <a:custGeom>
              <a:avLst/>
              <a:gdLst/>
              <a:ahLst/>
              <a:rect l="l" t="t" r="r" b="b"/>
              <a:pathLst>
                <a:path w="215" h="103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40" y="0"/>
                  </a:lnTo>
                  <a:lnTo>
                    <a:pt x="88" y="8"/>
                  </a:lnTo>
                  <a:lnTo>
                    <a:pt x="127" y="24"/>
                  </a:lnTo>
                  <a:lnTo>
                    <a:pt x="167" y="48"/>
                  </a:lnTo>
                  <a:lnTo>
                    <a:pt x="183" y="64"/>
                  </a:lnTo>
                  <a:lnTo>
                    <a:pt x="191" y="79"/>
                  </a:lnTo>
                  <a:lnTo>
                    <a:pt x="207" y="95"/>
                  </a:lnTo>
                  <a:lnTo>
                    <a:pt x="215" y="10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7651800" y="460368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715160" y="4780080"/>
              <a:ext cx="341280" cy="176040"/>
            </a:xfrm>
            <a:custGeom>
              <a:avLst/>
              <a:gdLst/>
              <a:ahLst/>
              <a:rect l="l" t="t" r="r" b="b"/>
              <a:pathLst>
                <a:path w="215" h="111">
                  <a:moveTo>
                    <a:pt x="215" y="0"/>
                  </a:moveTo>
                  <a:lnTo>
                    <a:pt x="207" y="16"/>
                  </a:lnTo>
                  <a:lnTo>
                    <a:pt x="191" y="32"/>
                  </a:lnTo>
                  <a:lnTo>
                    <a:pt x="183" y="40"/>
                  </a:lnTo>
                  <a:lnTo>
                    <a:pt x="175" y="48"/>
                  </a:lnTo>
                  <a:lnTo>
                    <a:pt x="159" y="63"/>
                  </a:lnTo>
                  <a:lnTo>
                    <a:pt x="135" y="79"/>
                  </a:lnTo>
                  <a:lnTo>
                    <a:pt x="119" y="87"/>
                  </a:lnTo>
                  <a:lnTo>
                    <a:pt x="96" y="95"/>
                  </a:lnTo>
                  <a:lnTo>
                    <a:pt x="80" y="103"/>
                  </a:lnTo>
                  <a:lnTo>
                    <a:pt x="48" y="111"/>
                  </a:lnTo>
                  <a:lnTo>
                    <a:pt x="32" y="111"/>
                  </a:lnTo>
                  <a:lnTo>
                    <a:pt x="16" y="111"/>
                  </a:lnTo>
                  <a:lnTo>
                    <a:pt x="16" y="111"/>
                  </a:lnTo>
                  <a:lnTo>
                    <a:pt x="8" y="111"/>
                  </a:lnTo>
                  <a:lnTo>
                    <a:pt x="0" y="11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7640280" y="4956120"/>
              <a:ext cx="87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7324560" y="4314960"/>
            <a:ext cx="339840" cy="339480"/>
          </a:xfrm>
          <a:custGeom>
            <a:avLst/>
            <a:gdLst/>
            <a:ahLst/>
            <a:rect l="l" t="t" r="r" b="b"/>
            <a:pathLst>
              <a:path w="214" h="214">
                <a:moveTo>
                  <a:pt x="0" y="0"/>
                </a:moveTo>
                <a:lnTo>
                  <a:pt x="71" y="0"/>
                </a:lnTo>
                <a:lnTo>
                  <a:pt x="71" y="214"/>
                </a:lnTo>
                <a:lnTo>
                  <a:pt x="214" y="21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134480" y="4151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096320" y="47545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324560" y="4856040"/>
            <a:ext cx="227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558200" y="4799160"/>
            <a:ext cx="112680" cy="112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8069400" y="4780080"/>
            <a:ext cx="226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382240" y="46418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Ladder logic (4)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406760" y="4406760"/>
            <a:ext cx="1130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60000" y="853920"/>
            <a:ext cx="9017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dder logic is  more intuitive for complex binary expressions than literal languag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20560" y="2095560"/>
            <a:ext cx="44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977760" y="198108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092240" y="198108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092240" y="2095560"/>
            <a:ext cx="55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663560" y="198108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778040" y="198108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778040" y="2095560"/>
            <a:ext cx="787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577960" y="198108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2440" y="198108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692440" y="2095560"/>
            <a:ext cx="55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63760" y="198108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78240" y="198108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378240" y="2095560"/>
            <a:ext cx="1473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120760" y="2095560"/>
            <a:ext cx="459000" cy="611280"/>
          </a:xfrm>
          <a:custGeom>
            <a:avLst/>
            <a:gdLst/>
            <a:ahLst/>
            <a:rect l="l" t="t" r="r" b="b"/>
            <a:pathLst>
              <a:path w="289" h="385">
                <a:moveTo>
                  <a:pt x="0" y="0"/>
                </a:moveTo>
                <a:lnTo>
                  <a:pt x="0" y="384"/>
                </a:lnTo>
                <a:lnTo>
                  <a:pt x="288" y="38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577960" y="259092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692440" y="259092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692440" y="2705040"/>
            <a:ext cx="573120" cy="1800"/>
          </a:xfrm>
          <a:custGeom>
            <a:avLst/>
            <a:gdLst/>
            <a:ahLst/>
            <a:rect l="l" t="t" r="r" b="b"/>
            <a:pathLst>
              <a:path w="361" h="1">
                <a:moveTo>
                  <a:pt x="0" y="0"/>
                </a:moveTo>
                <a:lnTo>
                  <a:pt x="144" y="0"/>
                </a:lnTo>
                <a:lnTo>
                  <a:pt x="36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63760" y="259092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378240" y="259092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378240" y="2095560"/>
            <a:ext cx="458640" cy="611280"/>
          </a:xfrm>
          <a:custGeom>
            <a:avLst/>
            <a:gdLst/>
            <a:ahLst/>
            <a:rect l="l" t="t" r="r" b="b"/>
            <a:pathLst>
              <a:path w="289" h="385">
                <a:moveTo>
                  <a:pt x="0" y="384"/>
                </a:moveTo>
                <a:lnTo>
                  <a:pt x="288" y="384"/>
                </a:lnTo>
                <a:lnTo>
                  <a:pt x="288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191120" y="1879560"/>
            <a:ext cx="431640" cy="432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191120" y="1879560"/>
            <a:ext cx="431640" cy="43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20560" y="1752480"/>
            <a:ext cx="0" cy="1168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863960" y="1752480"/>
            <a:ext cx="0" cy="1168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240440" y="194616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87400" y="16160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573200" y="16160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487600" y="16160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73400" y="16160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487600" y="22255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173400" y="22255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965160" y="1981080"/>
            <a:ext cx="13968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3251160" y="1981080"/>
            <a:ext cx="13968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65360" y="2590920"/>
            <a:ext cx="13968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093360" y="1895400"/>
            <a:ext cx="3295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N 1 &amp; 2 STR 3 &amp;N 4 STR N 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6 / STR &amp; STR = 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20560" y="4406760"/>
            <a:ext cx="44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977760" y="4292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092240" y="4292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092240" y="4406760"/>
            <a:ext cx="55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663560" y="4292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778040" y="4292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778040" y="4406760"/>
            <a:ext cx="787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77960" y="4292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692440" y="4292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92440" y="4406760"/>
            <a:ext cx="55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263760" y="4292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378240" y="4292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378240" y="4406760"/>
            <a:ext cx="90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120760" y="4406760"/>
            <a:ext cx="459000" cy="611280"/>
          </a:xfrm>
          <a:custGeom>
            <a:avLst/>
            <a:gdLst/>
            <a:ahLst/>
            <a:rect l="l" t="t" r="r" b="b"/>
            <a:pathLst>
              <a:path w="289" h="385">
                <a:moveTo>
                  <a:pt x="0" y="0"/>
                </a:moveTo>
                <a:lnTo>
                  <a:pt x="0" y="384"/>
                </a:lnTo>
                <a:lnTo>
                  <a:pt x="288" y="38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577960" y="490212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692440" y="490212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92440" y="5016600"/>
            <a:ext cx="573120" cy="1440"/>
          </a:xfrm>
          <a:custGeom>
            <a:avLst/>
            <a:gdLst/>
            <a:ahLst/>
            <a:rect l="l" t="t" r="r" b="b"/>
            <a:pathLst>
              <a:path w="361" h="1">
                <a:moveTo>
                  <a:pt x="0" y="0"/>
                </a:moveTo>
                <a:lnTo>
                  <a:pt x="144" y="0"/>
                </a:lnTo>
                <a:lnTo>
                  <a:pt x="36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263760" y="490212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378240" y="490212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378240" y="5016600"/>
            <a:ext cx="44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3822840" y="4419720"/>
            <a:ext cx="0" cy="1218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876920" y="4191120"/>
            <a:ext cx="431640" cy="43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76920" y="419112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20560" y="4267080"/>
            <a:ext cx="0" cy="1346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549760" y="4140360"/>
            <a:ext cx="0" cy="177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926240" y="425772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87400" y="39276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573200" y="39276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487600" y="39276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73400" y="39276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487600" y="45370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173400" y="45370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965160" y="4292640"/>
            <a:ext cx="13968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3251160" y="4292640"/>
            <a:ext cx="13968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2565360" y="4902120"/>
            <a:ext cx="13968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20560" y="5016600"/>
            <a:ext cx="44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977760" y="490212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092240" y="490212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092240" y="5016600"/>
            <a:ext cx="573120" cy="1440"/>
          </a:xfrm>
          <a:custGeom>
            <a:avLst/>
            <a:gdLst/>
            <a:ahLst/>
            <a:rect l="l" t="t" r="r" b="b"/>
            <a:pathLst>
              <a:path w="361" h="1">
                <a:moveTo>
                  <a:pt x="0" y="0"/>
                </a:moveTo>
                <a:lnTo>
                  <a:pt x="144" y="0"/>
                </a:lnTo>
                <a:lnTo>
                  <a:pt x="36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663560" y="490212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778040" y="490212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778040" y="5016600"/>
            <a:ext cx="330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887400" y="45370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573200" y="45370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965160" y="4902120"/>
            <a:ext cx="13968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20560" y="5638680"/>
            <a:ext cx="1130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663560" y="552456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778040" y="552456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778040" y="5638680"/>
            <a:ext cx="787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235240" y="5638680"/>
            <a:ext cx="330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577960" y="552456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692440" y="552456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692440" y="5638680"/>
            <a:ext cx="1130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509840" y="521028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424240" y="519732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1650960" y="5524560"/>
            <a:ext cx="13968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292640" y="4292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406760" y="4292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76720" y="392760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079680" y="4257720"/>
            <a:ext cx="33224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0 &amp; 1 STR 2 &amp; 3 / STR STR 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5 STR N 6 &amp; 7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156360" y="5019840"/>
            <a:ext cx="2406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STR &amp; STR STR 1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11 / STR &amp; 12 = 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Ladder logic (5)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911880" y="939960"/>
            <a:ext cx="579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dder logic stems from the time of the relay technolog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18000" y="1255680"/>
            <a:ext cx="7861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PLCs replacing relays, the opened possibilities cannot be expre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910080" y="1573200"/>
            <a:ext cx="2513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more in relay term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917280" y="1889280"/>
            <a:ext cx="644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tact plan language was extended to  express function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86880" y="2965320"/>
            <a:ext cx="2542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al expression: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080040" y="3295800"/>
            <a:ext cx="1830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!00 &amp; 01 FUN 02 = 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395360" y="3270240"/>
            <a:ext cx="685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081160" y="3156120"/>
            <a:ext cx="18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195640" y="3156120"/>
            <a:ext cx="144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195640" y="3270240"/>
            <a:ext cx="5698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765520" y="3156120"/>
            <a:ext cx="144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79640" y="3156120"/>
            <a:ext cx="18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879640" y="3270240"/>
            <a:ext cx="2624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462480" y="3056040"/>
            <a:ext cx="69840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449520" y="3043080"/>
            <a:ext cx="723960" cy="49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730760" y="3068640"/>
            <a:ext cx="444600" cy="442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718160" y="3056040"/>
            <a:ext cx="469800" cy="468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395360" y="2814480"/>
            <a:ext cx="1800" cy="91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504040" y="2814480"/>
            <a:ext cx="1440" cy="91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805640" y="319392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512160" y="3181320"/>
            <a:ext cx="61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 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739240" y="2878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054880" y="2878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042560" y="4005360"/>
            <a:ext cx="430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tuition of contacts and coil gets los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044000" y="4321080"/>
            <a:ext cx="723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troduction of «functions» which influence the control flow itself,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041840" y="4638600"/>
            <a:ext cx="130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ati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042200" y="4954680"/>
            <a:ext cx="666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tact plan is - mathematically - a functional represent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041480" y="5272200"/>
            <a:ext cx="737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troduction of a more or less hidden control of the flow destroys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042920" y="5587920"/>
            <a:ext cx="619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dom of side effects and makes programs difficult to re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Ladder logic (6)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421640" y="1971720"/>
            <a:ext cx="1728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02 FUN00 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421640" y="2200320"/>
            <a:ext cx="1576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N200 FUN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420920" y="2428920"/>
            <a:ext cx="1178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N55 = 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421280" y="2657520"/>
            <a:ext cx="903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116360" y="1108080"/>
            <a:ext cx="119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432320" y="1460520"/>
            <a:ext cx="673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118120" y="13460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232240" y="13460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232240" y="1460520"/>
            <a:ext cx="1244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988880" y="98892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489720" y="1181160"/>
            <a:ext cx="114300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539040" y="1243080"/>
            <a:ext cx="5457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614280" y="143352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067520" y="1187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7067520" y="1187280"/>
            <a:ext cx="0" cy="552600"/>
            <a:chOff x="7067520" y="1187280"/>
            <a:chExt cx="0" cy="552600"/>
          </a:xfrm>
        </p:grpSpPr>
        <p:sp>
          <p:nvSpPr>
            <p:cNvPr id="718" name=""/>
            <p:cNvSpPr/>
            <p:nvPr/>
          </p:nvSpPr>
          <p:spPr>
            <a:xfrm>
              <a:off x="7067520" y="11872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067520" y="12384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67520" y="12891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067520" y="13399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067520" y="13906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067520" y="14414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067520" y="14922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067520" y="15429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067520" y="15937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067520" y="16444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67520" y="16956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67520" y="17398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7096680" y="131904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632720" y="1460520"/>
            <a:ext cx="44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432320" y="2184480"/>
            <a:ext cx="673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118120" y="207000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232240" y="207000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232240" y="2184480"/>
            <a:ext cx="1244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962960" y="172548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489720" y="1905120"/>
            <a:ext cx="114300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703200" y="2030400"/>
            <a:ext cx="794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 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632720" y="2184480"/>
            <a:ext cx="44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432320" y="2908440"/>
            <a:ext cx="673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118120" y="279396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232240" y="279396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232240" y="2908440"/>
            <a:ext cx="1587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988880" y="243684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404120" y="2908440"/>
            <a:ext cx="673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432320" y="3632040"/>
            <a:ext cx="2044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489720" y="3352680"/>
            <a:ext cx="1143000" cy="571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715800" y="3478320"/>
            <a:ext cx="794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632720" y="3632040"/>
            <a:ext cx="44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5105520" y="2070000"/>
            <a:ext cx="13968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794640" y="2641680"/>
            <a:ext cx="546120" cy="54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794640" y="2641680"/>
            <a:ext cx="546120" cy="546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93640" y="276696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5105520" y="2793960"/>
            <a:ext cx="13968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432320" y="914400"/>
            <a:ext cx="0" cy="299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089920" y="914400"/>
            <a:ext cx="0" cy="299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06520" y="4268880"/>
            <a:ext cx="8942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"1" signal at input 02 is transformed by FUN00 in a pulse 200 of one cycle tim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06520" y="4751280"/>
            <a:ext cx="86058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consequence, the program part !N55=55 is executed exactly once, i.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55 is inverted (toggl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3440" y="5208480"/>
            <a:ext cx="344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06520" y="5614920"/>
            <a:ext cx="794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ggle effect appears for each  "0-1" transition of the input sign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d4"/>
                </a:solidFill>
                <a:latin typeface="Arial"/>
              </a:rPr>
              <a:t>Function Block Languages (1)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24354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function block languages express combinator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rams in a more elaborate way than ladder logi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y draw on a large variety of predefined and custom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Also called "Function Chart" or "Function Plan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1905120" y="2959200"/>
            <a:ext cx="6095880" cy="1600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781680" y="2959200"/>
            <a:ext cx="914400" cy="1600200"/>
          </a:xfrm>
          <a:prstGeom prst="rect">
            <a:avLst/>
          </a:prstGeom>
          <a:solidFill>
            <a:srgbClr val="fda4b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133720" y="2959200"/>
            <a:ext cx="914400" cy="1600200"/>
          </a:xfrm>
          <a:prstGeom prst="rect">
            <a:avLst/>
          </a:prstGeom>
          <a:solidFill>
            <a:srgbClr val="a2ffa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981080" y="1359000"/>
            <a:ext cx="6096240" cy="914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Function Block Languages (2)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816280" y="1674720"/>
            <a:ext cx="1560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778120" y="1974960"/>
            <a:ext cx="15987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376880" y="1522440"/>
            <a:ext cx="392040" cy="620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495680" y="1725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756320" y="1865160"/>
            <a:ext cx="2320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411280" y="15732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423880" y="1838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226280" y="1725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300560" y="1932120"/>
            <a:ext cx="88920" cy="87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133720" y="295920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048120" y="295920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295360" y="3232080"/>
            <a:ext cx="564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ig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083040" y="3346560"/>
            <a:ext cx="9507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033800" y="3043080"/>
            <a:ext cx="393840" cy="621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114440" y="32068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414680" y="3346560"/>
            <a:ext cx="493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908600" y="3043080"/>
            <a:ext cx="393480" cy="10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82760" y="3282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832280" y="3803760"/>
            <a:ext cx="88920" cy="87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3082680" y="3841920"/>
            <a:ext cx="1749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289480" y="3575160"/>
            <a:ext cx="531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821200" y="3384720"/>
            <a:ext cx="393840" cy="100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3083040" y="4221000"/>
            <a:ext cx="2738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295360" y="3726000"/>
            <a:ext cx="663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295720" y="414504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895720" y="3473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83120" y="40813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202440" y="3575160"/>
            <a:ext cx="531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781680" y="29592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696080" y="295920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860520" y="3498840"/>
            <a:ext cx="35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140120" y="4875120"/>
            <a:ext cx="748656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blocks is a graphical programming language, which is akin to t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al and block diagrams of the analog and digital techniqu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ostly expresses combinatorial logic, but its blocks may have a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 flip-flop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86160" y="990720"/>
            <a:ext cx="114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86160" y="2438280"/>
            <a:ext cx="114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809720" y="2673360"/>
            <a:ext cx="134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in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552000" y="2619360"/>
            <a:ext cx="14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out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2133720" y="4898880"/>
            <a:ext cx="5486400" cy="10670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057400" y="762120"/>
            <a:ext cx="5334120" cy="19047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Function Block elements (3)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932360" y="1522440"/>
            <a:ext cx="696960" cy="10000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127480" y="1630440"/>
            <a:ext cx="38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361040" y="1749600"/>
            <a:ext cx="5713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479360" y="1496880"/>
            <a:ext cx="149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continuously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481160" y="1724040"/>
            <a:ext cx="1699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ng block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481880" y="1952640"/>
            <a:ext cx="1317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798760" y="19526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480440" y="2179800"/>
            <a:ext cx="1472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 side eff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361040" y="2206800"/>
            <a:ext cx="5713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260880" y="1647720"/>
            <a:ext cx="86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740680" y="2104920"/>
            <a:ext cx="1395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616720" y="2244600"/>
            <a:ext cx="342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118200" y="2087640"/>
            <a:ext cx="58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275440" y="114156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658040" y="888840"/>
            <a:ext cx="1154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546200" y="2825640"/>
            <a:ext cx="269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lock is defined by i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545840" y="3141720"/>
            <a:ext cx="663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•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low interface (number and type of input/output signa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548720" y="3459240"/>
            <a:ext cx="677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•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-Box-Behavior (functional semantic, e.g. in textual form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599480" y="3976560"/>
            <a:ext cx="550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s that carry a pseudo-continuous data flo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600200" y="4254480"/>
            <a:ext cx="2981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s the function bloc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03840" y="3886200"/>
            <a:ext cx="81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g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429000" y="5183280"/>
            <a:ext cx="289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944880" y="5183280"/>
            <a:ext cx="2359080" cy="379440"/>
          </a:xfrm>
          <a:custGeom>
            <a:avLst/>
            <a:gdLst/>
            <a:ahLst/>
            <a:rect l="l" t="t" r="r" b="b"/>
            <a:pathLst>
              <a:path w="1486" h="239">
                <a:moveTo>
                  <a:pt x="0" y="0"/>
                </a:moveTo>
                <a:lnTo>
                  <a:pt x="0" y="239"/>
                </a:lnTo>
                <a:lnTo>
                  <a:pt x="1486" y="23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26800" y="914400"/>
            <a:ext cx="162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unction 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438960" y="5019840"/>
            <a:ext cx="101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t poi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438960" y="5398920"/>
            <a:ext cx="101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t poi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247840" y="4975200"/>
            <a:ext cx="86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64640" y="15238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916920" y="53341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d4"/>
                </a:solidFill>
                <a:latin typeface="Arial"/>
              </a:rPr>
              <a:t>Data Types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207040" y="3187800"/>
            <a:ext cx="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404000" y="3355920"/>
            <a:ext cx="87192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I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I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R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857880" y="1693800"/>
            <a:ext cx="1246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ary typ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937080" y="3051000"/>
            <a:ext cx="12452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 typ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987840" y="5870520"/>
            <a:ext cx="6273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-defined structured types are supported in the textual language (ST) on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401840" y="1998720"/>
            <a:ext cx="1218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O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544840" y="1998720"/>
            <a:ext cx="1218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544840" y="3355920"/>
            <a:ext cx="289548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ed integer 1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signed integer 1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signed integ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 integ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signed double integ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ating 3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ating 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09480" y="733320"/>
            <a:ext cx="8610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blocks are typed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ypes of connection, input and output must mat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ypes are the same as in the Structured Text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4880" y="35388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Contents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2695680"/>
            <a:ext cx="2441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ecece"/>
                </a:solidFill>
                <a:latin typeface="Arial"/>
              </a:rPr>
              <a:t>2.2 Operation of PL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3200" y="4344840"/>
            <a:ext cx="307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3 Programming of the P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37480" y="4756320"/>
            <a:ext cx="24368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3.1 Ladder Log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3.2 Function block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3.3 Sequential Log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3.4 IEC 11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69880" y="3154320"/>
            <a:ext cx="39182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ecece"/>
                </a:solidFill>
                <a:latin typeface="Arial"/>
              </a:rPr>
              <a:t>2.2.1 Evolution of the PLC</a:t>
            </a:r>
            <a:br>
              <a:rPr sz="1800"/>
            </a:br>
            <a:r>
              <a:rPr b="0" lang="en-US" sz="1800" spc="-1" strike="noStrike">
                <a:solidFill>
                  <a:srgbClr val="cecece"/>
                </a:solidFill>
                <a:latin typeface="Arial"/>
              </a:rPr>
              <a:t>2.2.2 Clas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ecece"/>
                </a:solidFill>
                <a:latin typeface="Arial"/>
              </a:rPr>
              <a:t>2.2.3 Measurement and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1251000"/>
            <a:ext cx="213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ecece"/>
                </a:solidFill>
                <a:latin typeface="Arial"/>
              </a:rPr>
              <a:t>2.1 Instru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1555920"/>
            <a:ext cx="32954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ecece"/>
                </a:solidFill>
                <a:latin typeface="Arial"/>
              </a:rPr>
              <a:t>2.1.1 Binary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ecece"/>
                </a:solidFill>
                <a:latin typeface="Arial"/>
              </a:rPr>
              <a:t>2.1.2 Analogue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ecece"/>
                </a:solidFill>
                <a:latin typeface="Arial"/>
              </a:rPr>
              <a:t>2.1.3 P&amp;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d4"/>
                </a:solidFill>
                <a:latin typeface="Arial"/>
              </a:rPr>
              <a:t>Function Block Example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pic>
        <p:nvPicPr>
          <p:cNvPr id="847" name="PLCProgram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1676520" y="3809880"/>
            <a:ext cx="5867280" cy="2590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Function Block rules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938520" y="800280"/>
            <a:ext cx="702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exist exactly two rules for connecting function blocks by sig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1040" y="1027080"/>
            <a:ext cx="3324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is is the actual programming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446480" y="1370160"/>
            <a:ext cx="4871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ignal is connected to exactly one sour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449000" y="1598760"/>
            <a:ext cx="671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ource can be the output of a function block or a plant sign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441440" y="1901880"/>
            <a:ext cx="713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ype of the output pin, the type of the input pin and the signal typ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446840" y="2130480"/>
            <a:ext cx="184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identic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085040" y="1370160"/>
            <a:ext cx="81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085040" y="1901880"/>
            <a:ext cx="81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69120" y="2471760"/>
            <a:ext cx="8105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onvenience, the function plan should be drawn so the signals flow from lef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68040" y="2700360"/>
            <a:ext cx="705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ight and from top to bottom. Some editors impose additional rul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965160" y="289548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968760" y="3124080"/>
            <a:ext cx="743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oactions are exception to this rule. In this case, the signal direction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965160" y="3352680"/>
            <a:ext cx="587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d by an arrow.  (Some editors forbid retroaction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411280" y="4208400"/>
            <a:ext cx="836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247920" y="4094280"/>
            <a:ext cx="354240" cy="65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411280" y="4361040"/>
            <a:ext cx="836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589200" y="4437000"/>
            <a:ext cx="27781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199040" y="5234040"/>
            <a:ext cx="353880" cy="622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578480" y="5691240"/>
            <a:ext cx="1788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921200" y="4551480"/>
            <a:ext cx="355680" cy="65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251320" y="4842000"/>
            <a:ext cx="493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638440" y="4208400"/>
            <a:ext cx="2282760" cy="722520"/>
          </a:xfrm>
          <a:custGeom>
            <a:avLst/>
            <a:gdLst/>
            <a:ahLst/>
            <a:rect l="l" t="t" r="r" b="b"/>
            <a:pathLst>
              <a:path w="1438" h="455">
                <a:moveTo>
                  <a:pt x="0" y="0"/>
                </a:moveTo>
                <a:lnTo>
                  <a:pt x="0" y="455"/>
                </a:lnTo>
                <a:lnTo>
                  <a:pt x="1438" y="45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855960" y="4437000"/>
            <a:ext cx="1800" cy="9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757840" y="4664160"/>
            <a:ext cx="355680" cy="65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828880" y="4361040"/>
            <a:ext cx="2092320" cy="760320"/>
          </a:xfrm>
          <a:custGeom>
            <a:avLst/>
            <a:gdLst/>
            <a:ahLst/>
            <a:rect l="l" t="t" r="r" b="b"/>
            <a:pathLst>
              <a:path w="1318" h="479">
                <a:moveTo>
                  <a:pt x="0" y="0"/>
                </a:moveTo>
                <a:lnTo>
                  <a:pt x="0" y="479"/>
                </a:lnTo>
                <a:lnTo>
                  <a:pt x="1318" y="47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502160" y="4437000"/>
            <a:ext cx="419040" cy="265320"/>
          </a:xfrm>
          <a:custGeom>
            <a:avLst/>
            <a:gdLst/>
            <a:ahLst/>
            <a:rect l="l" t="t" r="r" b="b"/>
            <a:pathLst>
              <a:path w="264" h="167">
                <a:moveTo>
                  <a:pt x="0" y="0"/>
                </a:moveTo>
                <a:lnTo>
                  <a:pt x="0" y="167"/>
                </a:lnTo>
                <a:lnTo>
                  <a:pt x="264" y="16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855960" y="5348160"/>
            <a:ext cx="343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100920" y="5691240"/>
            <a:ext cx="1440" cy="4554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3044520" y="6134040"/>
            <a:ext cx="30430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057480" y="4587840"/>
            <a:ext cx="190440" cy="1558800"/>
          </a:xfrm>
          <a:custGeom>
            <a:avLst/>
            <a:gdLst/>
            <a:ahLst/>
            <a:rect l="l" t="t" r="r" b="b"/>
            <a:pathLst>
              <a:path w="120" h="982">
                <a:moveTo>
                  <a:pt x="0" y="982"/>
                </a:moveTo>
                <a:lnTo>
                  <a:pt x="0" y="0"/>
                </a:lnTo>
                <a:lnTo>
                  <a:pt x="12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4389480" y="6095880"/>
            <a:ext cx="264960" cy="101520"/>
            <a:chOff x="4389480" y="6095880"/>
            <a:chExt cx="264960" cy="101520"/>
          </a:xfrm>
        </p:grpSpPr>
        <p:sp>
          <p:nvSpPr>
            <p:cNvPr id="881" name=""/>
            <p:cNvSpPr/>
            <p:nvPr/>
          </p:nvSpPr>
          <p:spPr>
            <a:xfrm>
              <a:off x="4389480" y="6095880"/>
              <a:ext cx="138240" cy="101520"/>
            </a:xfrm>
            <a:custGeom>
              <a:avLst/>
              <a:gdLst/>
              <a:ahLst/>
              <a:rect l="l" t="t" r="r" b="b"/>
              <a:pathLst>
                <a:path w="87" h="64">
                  <a:moveTo>
                    <a:pt x="0" y="32"/>
                  </a:moveTo>
                  <a:lnTo>
                    <a:pt x="87" y="0"/>
                  </a:lnTo>
                  <a:lnTo>
                    <a:pt x="87" y="32"/>
                  </a:lnTo>
                  <a:lnTo>
                    <a:pt x="87" y="6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4527720" y="6146640"/>
              <a:ext cx="126720" cy="1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3" name=""/>
          <p:cNvSpPr/>
          <p:nvPr/>
        </p:nvSpPr>
        <p:spPr>
          <a:xfrm>
            <a:off x="2411280" y="4017960"/>
            <a:ext cx="1800" cy="19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801800" y="4017960"/>
            <a:ext cx="1440" cy="19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985400" y="4106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985400" y="429732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280280" y="3962520"/>
            <a:ext cx="1440" cy="19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367320" y="4017960"/>
            <a:ext cx="1800" cy="19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472440" y="5589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441480" y="4335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087960" y="4842000"/>
            <a:ext cx="266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539760" y="4724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Function Block </a:t>
            </a:r>
            <a:r>
              <a:rPr b="1" lang="en-GB" sz="1800" spc="-1" strike="noStrike">
                <a:solidFill>
                  <a:srgbClr val="0000d4"/>
                </a:solidFill>
                <a:latin typeface="Arial"/>
              </a:rPr>
              <a:t>behaviour specification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092600" y="161136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Diagram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6734160" y="1433520"/>
            <a:ext cx="1440" cy="874800"/>
            <a:chOff x="6734160" y="1433520"/>
            <a:chExt cx="1440" cy="874800"/>
          </a:xfrm>
        </p:grpSpPr>
        <p:sp>
          <p:nvSpPr>
            <p:cNvPr id="896" name=""/>
            <p:cNvSpPr/>
            <p:nvPr/>
          </p:nvSpPr>
          <p:spPr>
            <a:xfrm>
              <a:off x="6734160" y="143352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734160" y="148428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734160" y="153504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734160" y="1585800"/>
              <a:ext cx="144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734160" y="1636560"/>
              <a:ext cx="144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734160" y="168768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734160" y="173844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734160" y="178920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734160" y="183996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734160" y="189072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734160" y="1941480"/>
              <a:ext cx="144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734160" y="199080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734160" y="204156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734160" y="209232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734160" y="214308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734160" y="2193840"/>
              <a:ext cx="144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734160" y="2244600"/>
              <a:ext cx="144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734160" y="2295360"/>
              <a:ext cx="144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7191360" y="2117880"/>
            <a:ext cx="1440" cy="215640"/>
            <a:chOff x="7191360" y="2117880"/>
            <a:chExt cx="1440" cy="215640"/>
          </a:xfrm>
        </p:grpSpPr>
        <p:sp>
          <p:nvSpPr>
            <p:cNvPr id="915" name=""/>
            <p:cNvSpPr/>
            <p:nvPr/>
          </p:nvSpPr>
          <p:spPr>
            <a:xfrm>
              <a:off x="7191360" y="211788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191360" y="216864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91360" y="221940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191360" y="227016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191360" y="232092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7647120" y="1433520"/>
            <a:ext cx="1440" cy="317520"/>
            <a:chOff x="7647120" y="1433520"/>
            <a:chExt cx="1440" cy="317520"/>
          </a:xfrm>
        </p:grpSpPr>
        <p:sp>
          <p:nvSpPr>
            <p:cNvPr id="921" name=""/>
            <p:cNvSpPr/>
            <p:nvPr/>
          </p:nvSpPr>
          <p:spPr>
            <a:xfrm>
              <a:off x="7647120" y="1433520"/>
              <a:ext cx="1440" cy="126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647120" y="1484280"/>
              <a:ext cx="1440" cy="126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647120" y="1535040"/>
              <a:ext cx="1440" cy="126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647120" y="1585800"/>
              <a:ext cx="1440" cy="12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647120" y="1636560"/>
              <a:ext cx="1440" cy="12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647120" y="1687680"/>
              <a:ext cx="1440" cy="126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647120" y="1738440"/>
              <a:ext cx="1440" cy="126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4160880" y="927000"/>
            <a:ext cx="925560" cy="92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148280" y="914400"/>
            <a:ext cx="950760" cy="949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805200" y="1370160"/>
            <a:ext cx="343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060880" y="1370160"/>
            <a:ext cx="343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152240" y="1103400"/>
            <a:ext cx="509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  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275000" y="1382760"/>
            <a:ext cx="684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959360" y="126828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275000" y="1268280"/>
            <a:ext cx="18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392880" y="1092240"/>
            <a:ext cx="2395440" cy="341280"/>
          </a:xfrm>
          <a:custGeom>
            <a:avLst/>
            <a:gdLst/>
            <a:ahLst/>
            <a:rect l="l" t="t" r="r" b="b"/>
            <a:pathLst>
              <a:path w="1509" h="215">
                <a:moveTo>
                  <a:pt x="0" y="215"/>
                </a:moveTo>
                <a:lnTo>
                  <a:pt x="215" y="215"/>
                </a:lnTo>
                <a:lnTo>
                  <a:pt x="215" y="215"/>
                </a:lnTo>
                <a:lnTo>
                  <a:pt x="215" y="0"/>
                </a:lnTo>
                <a:lnTo>
                  <a:pt x="215" y="0"/>
                </a:lnTo>
                <a:lnTo>
                  <a:pt x="790" y="0"/>
                </a:lnTo>
                <a:lnTo>
                  <a:pt x="790" y="0"/>
                </a:lnTo>
                <a:lnTo>
                  <a:pt x="790" y="215"/>
                </a:lnTo>
                <a:lnTo>
                  <a:pt x="790" y="215"/>
                </a:lnTo>
                <a:lnTo>
                  <a:pt x="1078" y="215"/>
                </a:lnTo>
                <a:lnTo>
                  <a:pt x="1078" y="215"/>
                </a:lnTo>
                <a:lnTo>
                  <a:pt x="1078" y="0"/>
                </a:lnTo>
                <a:lnTo>
                  <a:pt x="1078" y="0"/>
                </a:lnTo>
                <a:lnTo>
                  <a:pt x="1221" y="0"/>
                </a:lnTo>
                <a:lnTo>
                  <a:pt x="1221" y="0"/>
                </a:lnTo>
                <a:lnTo>
                  <a:pt x="1221" y="215"/>
                </a:lnTo>
                <a:lnTo>
                  <a:pt x="1221" y="215"/>
                </a:lnTo>
                <a:lnTo>
                  <a:pt x="1509" y="215"/>
                </a:lnTo>
                <a:lnTo>
                  <a:pt x="1509" y="21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380280" y="1079640"/>
            <a:ext cx="2395440" cy="341280"/>
          </a:xfrm>
          <a:custGeom>
            <a:avLst/>
            <a:gdLst/>
            <a:ahLst/>
            <a:rect l="l" t="t" r="r" b="b"/>
            <a:pathLst>
              <a:path w="1509" h="215">
                <a:moveTo>
                  <a:pt x="0" y="215"/>
                </a:moveTo>
                <a:lnTo>
                  <a:pt x="215" y="215"/>
                </a:lnTo>
                <a:lnTo>
                  <a:pt x="215" y="0"/>
                </a:lnTo>
                <a:lnTo>
                  <a:pt x="790" y="0"/>
                </a:lnTo>
                <a:lnTo>
                  <a:pt x="790" y="215"/>
                </a:lnTo>
                <a:lnTo>
                  <a:pt x="1078" y="215"/>
                </a:lnTo>
                <a:lnTo>
                  <a:pt x="1078" y="0"/>
                </a:lnTo>
                <a:lnTo>
                  <a:pt x="1222" y="0"/>
                </a:lnTo>
                <a:lnTo>
                  <a:pt x="1222" y="215"/>
                </a:lnTo>
                <a:lnTo>
                  <a:pt x="1509" y="21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392880" y="1776240"/>
            <a:ext cx="2395440" cy="341640"/>
          </a:xfrm>
          <a:custGeom>
            <a:avLst/>
            <a:gdLst/>
            <a:ahLst/>
            <a:rect l="l" t="t" r="r" b="b"/>
            <a:pathLst>
              <a:path w="1509" h="215">
                <a:moveTo>
                  <a:pt x="0" y="215"/>
                </a:moveTo>
                <a:lnTo>
                  <a:pt x="503" y="215"/>
                </a:lnTo>
                <a:lnTo>
                  <a:pt x="503" y="215"/>
                </a:lnTo>
                <a:lnTo>
                  <a:pt x="503" y="0"/>
                </a:lnTo>
                <a:lnTo>
                  <a:pt x="503" y="0"/>
                </a:lnTo>
                <a:lnTo>
                  <a:pt x="790" y="0"/>
                </a:lnTo>
                <a:lnTo>
                  <a:pt x="790" y="0"/>
                </a:lnTo>
                <a:lnTo>
                  <a:pt x="790" y="215"/>
                </a:lnTo>
                <a:lnTo>
                  <a:pt x="790" y="215"/>
                </a:lnTo>
                <a:lnTo>
                  <a:pt x="1509" y="215"/>
                </a:lnTo>
                <a:lnTo>
                  <a:pt x="1509" y="21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380280" y="1763640"/>
            <a:ext cx="2395440" cy="341280"/>
          </a:xfrm>
          <a:custGeom>
            <a:avLst/>
            <a:gdLst/>
            <a:ahLst/>
            <a:rect l="l" t="t" r="r" b="b"/>
            <a:pathLst>
              <a:path w="1509" h="215">
                <a:moveTo>
                  <a:pt x="0" y="215"/>
                </a:moveTo>
                <a:lnTo>
                  <a:pt x="503" y="215"/>
                </a:lnTo>
                <a:lnTo>
                  <a:pt x="503" y="0"/>
                </a:lnTo>
                <a:lnTo>
                  <a:pt x="790" y="0"/>
                </a:lnTo>
                <a:lnTo>
                  <a:pt x="790" y="215"/>
                </a:lnTo>
                <a:lnTo>
                  <a:pt x="1509" y="21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937560" y="234648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921280" y="1255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932440" y="1940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373720" y="12812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410640" y="12812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048280" y="3738600"/>
            <a:ext cx="3427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148280" y="2954160"/>
            <a:ext cx="925200" cy="10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135320" y="2941560"/>
            <a:ext cx="951120" cy="106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792600" y="3168720"/>
            <a:ext cx="3427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792600" y="3738600"/>
            <a:ext cx="3427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224240" y="31305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224240" y="33210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224240" y="35114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075360" y="2789280"/>
            <a:ext cx="2662200" cy="1519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111720" y="2941560"/>
            <a:ext cx="18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201720" y="3219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201720" y="3498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201720" y="3776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201720" y="4056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681600" y="2941560"/>
            <a:ext cx="18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771600" y="3219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771600" y="3498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771600" y="3776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771600" y="4056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840440" y="29415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7426080" y="3219480"/>
            <a:ext cx="1114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vious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836840" y="3498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836840" y="3776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836840" y="4056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087960" y="3143160"/>
            <a:ext cx="2624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229520" y="2801880"/>
            <a:ext cx="1440" cy="148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6734160" y="2232000"/>
            <a:ext cx="469800" cy="50760"/>
            <a:chOff x="6734160" y="2232000"/>
            <a:chExt cx="469800" cy="50760"/>
          </a:xfrm>
        </p:grpSpPr>
        <p:sp>
          <p:nvSpPr>
            <p:cNvPr id="972" name=""/>
            <p:cNvSpPr/>
            <p:nvPr/>
          </p:nvSpPr>
          <p:spPr>
            <a:xfrm>
              <a:off x="6734160" y="2232000"/>
              <a:ext cx="114480" cy="50760"/>
            </a:xfrm>
            <a:custGeom>
              <a:avLst/>
              <a:gdLst/>
              <a:ahLst/>
              <a:rect l="l" t="t" r="r" b="b"/>
              <a:pathLst>
                <a:path w="72" h="32">
                  <a:moveTo>
                    <a:pt x="0" y="16"/>
                  </a:moveTo>
                  <a:lnTo>
                    <a:pt x="72" y="0"/>
                  </a:lnTo>
                  <a:lnTo>
                    <a:pt x="72" y="16"/>
                  </a:lnTo>
                  <a:lnTo>
                    <a:pt x="72" y="32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102440" y="2232000"/>
              <a:ext cx="101520" cy="5076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64" y="16"/>
                  </a:moveTo>
                  <a:lnTo>
                    <a:pt x="0" y="32"/>
                  </a:lnTo>
                  <a:lnTo>
                    <a:pt x="0" y="16"/>
                  </a:lnTo>
                  <a:lnTo>
                    <a:pt x="0" y="0"/>
                  </a:lnTo>
                  <a:lnTo>
                    <a:pt x="6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848640" y="2257560"/>
              <a:ext cx="253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5" name=""/>
          <p:cNvSpPr/>
          <p:nvPr/>
        </p:nvSpPr>
        <p:spPr>
          <a:xfrm>
            <a:off x="1092240" y="2395440"/>
            <a:ext cx="123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th Tab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093320" y="3181320"/>
            <a:ext cx="201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al Descrip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093320" y="3967200"/>
            <a:ext cx="232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hematical Formul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092960" y="4738680"/>
            <a:ext cx="200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Progra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957480" y="5257800"/>
            <a:ext cx="267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ther Function block 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864240" y="4724280"/>
            <a:ext cx="269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feribly in structured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Function Block decomposition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589200" y="4651200"/>
            <a:ext cx="2702160" cy="133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598760" y="863640"/>
            <a:ext cx="6416640" cy="45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612440" y="863640"/>
            <a:ext cx="290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nction block describes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338360" y="863640"/>
            <a:ext cx="191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ta flow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163560" y="86364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610280" y="10904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903680" y="1090440"/>
            <a:ext cx="49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397960" y="1090440"/>
            <a:ext cx="329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implemented differently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477240" y="1471680"/>
            <a:ext cx="504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ody is implemented in 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ternal langu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477240" y="1698480"/>
            <a:ext cx="404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icrocode, assembler, java, 1131 ST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952560" y="1484280"/>
            <a:ext cx="189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mentary 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209760" y="3333600"/>
            <a:ext cx="497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ody is realized as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unction block pro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900200" y="333360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212640" y="3560760"/>
            <a:ext cx="583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input (output) pin of the interface is implemented 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209400" y="3789360"/>
            <a:ext cx="47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ctly one input (output) of the function block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212640" y="4017960"/>
            <a:ext cx="521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ignals must appear at the interface to garante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209760" y="4245120"/>
            <a:ext cx="142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dom 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603680" y="4245120"/>
            <a:ext cx="115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de eff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744520" y="424512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950760" y="3295800"/>
            <a:ext cx="187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und 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941480" y="5094360"/>
            <a:ext cx="127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941480" y="5322960"/>
            <a:ext cx="127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284560" y="5551560"/>
            <a:ext cx="1267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919680" y="5094360"/>
            <a:ext cx="1267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462480" y="5208480"/>
            <a:ext cx="6346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462480" y="4867200"/>
            <a:ext cx="2168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919680" y="4867200"/>
            <a:ext cx="1440" cy="239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262400" y="5208480"/>
            <a:ext cx="5065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946760" y="5208480"/>
            <a:ext cx="5061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630760" y="5208480"/>
            <a:ext cx="7621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175360" y="5208480"/>
            <a:ext cx="1440" cy="35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175360" y="5551560"/>
            <a:ext cx="253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489560" y="5208480"/>
            <a:ext cx="1440" cy="4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489560" y="5664240"/>
            <a:ext cx="1014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630760" y="5664240"/>
            <a:ext cx="800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284560" y="5322960"/>
            <a:ext cx="1267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055960" y="2130480"/>
            <a:ext cx="291960" cy="747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903320" y="2244600"/>
            <a:ext cx="127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903320" y="2471760"/>
            <a:ext cx="127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347920" y="2700360"/>
            <a:ext cx="125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347920" y="2471760"/>
            <a:ext cx="125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594960" y="2016000"/>
            <a:ext cx="469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edure xy(a,b:BOOLEAN; VAR b,c: BOOLEAN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601080" y="219384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600360" y="2370240"/>
            <a:ext cx="85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600720" y="2548080"/>
            <a:ext cx="640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600720" y="272556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 x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917440" y="243360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068560" y="4994280"/>
            <a:ext cx="26676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055960" y="4981680"/>
            <a:ext cx="291960" cy="745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046400" y="4994280"/>
            <a:ext cx="266760" cy="366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033800" y="4981680"/>
            <a:ext cx="291960" cy="392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730760" y="5106960"/>
            <a:ext cx="266760" cy="2541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718160" y="5094360"/>
            <a:ext cx="291960" cy="279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416560" y="4765680"/>
            <a:ext cx="264960" cy="6080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403960" y="4753080"/>
            <a:ext cx="290520" cy="633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416560" y="5450040"/>
            <a:ext cx="264960" cy="366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403960" y="5437080"/>
            <a:ext cx="290520" cy="39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866680" y="514512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Function Block segmentation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965160" y="851040"/>
            <a:ext cx="7797960" cy="15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893520" y="777960"/>
            <a:ext cx="7508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pplication program is decomposed into segments for easier read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887400" y="1095480"/>
            <a:ext cx="181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889560" y="1413000"/>
            <a:ext cx="555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in a segment, the connections are represen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311880" y="1413000"/>
            <a:ext cx="1269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aphi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249680" y="1413000"/>
            <a:ext cx="245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886680" y="1730520"/>
            <a:ext cx="6249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the segments, the connections are expressed b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997680" y="1730520"/>
            <a:ext cx="1524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gnal n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8176320" y="1730520"/>
            <a:ext cx="373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887040" y="204804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1" name="" descr=""/>
          <p:cNvPicPr/>
          <p:nvPr/>
        </p:nvPicPr>
        <p:blipFill>
          <a:blip r:embed="rId1"/>
          <a:stretch/>
        </p:blipFill>
        <p:spPr>
          <a:xfrm>
            <a:off x="2463840" y="2286000"/>
            <a:ext cx="4660920" cy="36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2438280" y="762120"/>
            <a:ext cx="5943600" cy="1523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Execution of Function Blocks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4349880" y="2587680"/>
            <a:ext cx="811080" cy="3813120"/>
          </a:xfrm>
          <a:custGeom>
            <a:avLst/>
            <a:gdLst>
              <a:gd name="textAreaLeft" fmla="*/ 83160 w 811080"/>
              <a:gd name="textAreaRight" fmla="*/ 727920 w 811080"/>
              <a:gd name="textAreaTop" fmla="*/ 83160 h 3813120"/>
              <a:gd name="textAreaBottom" fmla="*/ 3729960 h 3813120"/>
            </a:gdLst>
            <a:ahLst/>
            <a:rect l="textAreaLeft" t="textAreaTop" r="textAreaRight" b="textAreaBottom"/>
            <a:pathLst>
              <a:path w="21600" h="101512">
                <a:moveTo>
                  <a:pt x="7587" y="0"/>
                </a:moveTo>
                <a:arcTo wR="7587" hR="7587" stAng="16200000" swAng="-5400000"/>
                <a:lnTo>
                  <a:pt x="0" y="93925"/>
                </a:lnTo>
                <a:arcTo wR="7587" hR="7587" stAng="10800000" swAng="-5400000"/>
                <a:lnTo>
                  <a:pt x="14013" y="101512"/>
                </a:lnTo>
                <a:arcTo wR="7587" hR="7587" stAng="5400000" swAng="-5400000"/>
                <a:lnTo>
                  <a:pt x="21600" y="7587"/>
                </a:lnTo>
                <a:arcTo wR="7587" hR="7587" stAng="0" swAng="-5400000"/>
                <a:close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562120" y="2814480"/>
            <a:ext cx="2256120" cy="925560"/>
          </a:xfrm>
          <a:prstGeom prst="rect">
            <a:avLst/>
          </a:prstGeom>
          <a:solidFill>
            <a:srgbClr val="fda4b5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968640" y="3765600"/>
            <a:ext cx="849600" cy="658800"/>
          </a:xfrm>
          <a:prstGeom prst="rect">
            <a:avLst/>
          </a:prstGeom>
          <a:solidFill>
            <a:srgbClr val="a2ffa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968640" y="4487760"/>
            <a:ext cx="849600" cy="849240"/>
          </a:xfrm>
          <a:prstGeom prst="rect">
            <a:avLst/>
          </a:prstGeom>
          <a:solidFill>
            <a:srgbClr val="a2ffa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968640" y="5362560"/>
            <a:ext cx="849600" cy="885960"/>
          </a:xfrm>
          <a:prstGeom prst="rect">
            <a:avLst/>
          </a:prstGeom>
          <a:solidFill>
            <a:srgbClr val="a2ffa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043880" y="2852640"/>
            <a:ext cx="27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044240" y="3081240"/>
            <a:ext cx="1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044240" y="3308400"/>
            <a:ext cx="1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043880" y="3537000"/>
            <a:ext cx="41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043880" y="3765600"/>
            <a:ext cx="27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043880" y="3992400"/>
            <a:ext cx="41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044240" y="4221000"/>
            <a:ext cx="1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043880" y="4449600"/>
            <a:ext cx="27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044240" y="4676760"/>
            <a:ext cx="1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044240" y="4905360"/>
            <a:ext cx="1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043880" y="5133960"/>
            <a:ext cx="41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043880" y="5361120"/>
            <a:ext cx="27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044240" y="5589720"/>
            <a:ext cx="1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043880" y="5818320"/>
            <a:ext cx="41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044240" y="6045120"/>
            <a:ext cx="1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34600" y="2890800"/>
            <a:ext cx="153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ine Co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930480" y="2739960"/>
            <a:ext cx="925560" cy="3584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597400" y="2814480"/>
            <a:ext cx="109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598120" y="304308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pu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598120" y="327168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put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598120" y="349884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0" name=""/>
          <p:cNvGrpSpPr/>
          <p:nvPr/>
        </p:nvGrpSpPr>
        <p:grpSpPr>
          <a:xfrm>
            <a:off x="5097600" y="4106880"/>
            <a:ext cx="88920" cy="419040"/>
            <a:chOff x="5097600" y="4106880"/>
            <a:chExt cx="88920" cy="419040"/>
          </a:xfrm>
        </p:grpSpPr>
        <p:sp>
          <p:nvSpPr>
            <p:cNvPr id="1081" name=""/>
            <p:cNvSpPr/>
            <p:nvPr/>
          </p:nvSpPr>
          <p:spPr>
            <a:xfrm>
              <a:off x="5097600" y="4106880"/>
              <a:ext cx="88920" cy="13968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32" y="0"/>
                  </a:moveTo>
                  <a:lnTo>
                    <a:pt x="56" y="88"/>
                  </a:lnTo>
                  <a:lnTo>
                    <a:pt x="32" y="88"/>
                  </a:lnTo>
                  <a:lnTo>
                    <a:pt x="0" y="88"/>
                  </a:lnTo>
                  <a:lnTo>
                    <a:pt x="32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5148360" y="4246560"/>
              <a:ext cx="1440" cy="279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3" name=""/>
          <p:cNvSpPr/>
          <p:nvPr/>
        </p:nvSpPr>
        <p:spPr>
          <a:xfrm>
            <a:off x="2598840" y="851040"/>
            <a:ext cx="1440" cy="122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511440" y="888840"/>
            <a:ext cx="1800" cy="119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763720" y="91440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511440" y="1015920"/>
            <a:ext cx="836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348080" y="851040"/>
            <a:ext cx="393840" cy="531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419360" y="1014480"/>
            <a:ext cx="267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729320" y="1117440"/>
            <a:ext cx="607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337000" y="851040"/>
            <a:ext cx="393840" cy="56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408280" y="1052640"/>
            <a:ext cx="267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3549600" y="1268280"/>
            <a:ext cx="7984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718240" y="1117440"/>
            <a:ext cx="1444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249960" y="1268280"/>
            <a:ext cx="393840" cy="86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3511440" y="2016000"/>
            <a:ext cx="836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763720" y="120492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321240" y="1344600"/>
            <a:ext cx="267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630840" y="1851120"/>
            <a:ext cx="532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7162920" y="825480"/>
            <a:ext cx="1440" cy="122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8075520" y="851040"/>
            <a:ext cx="1800" cy="12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287840" y="178740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931640" y="876240"/>
            <a:ext cx="31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893480" y="1623960"/>
            <a:ext cx="31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348080" y="1636560"/>
            <a:ext cx="393840" cy="532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431960" y="1762200"/>
            <a:ext cx="267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4729320" y="1889280"/>
            <a:ext cx="1520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763720" y="14590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892680" y="1268280"/>
            <a:ext cx="455400" cy="495360"/>
          </a:xfrm>
          <a:custGeom>
            <a:avLst/>
            <a:gdLst/>
            <a:ahLst/>
            <a:rect l="l" t="t" r="r" b="b"/>
            <a:pathLst>
              <a:path w="287" h="312">
                <a:moveTo>
                  <a:pt x="0" y="0"/>
                </a:moveTo>
                <a:lnTo>
                  <a:pt x="0" y="312"/>
                </a:lnTo>
                <a:lnTo>
                  <a:pt x="287" y="31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327800" y="939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946840" y="1117440"/>
            <a:ext cx="303120" cy="354240"/>
          </a:xfrm>
          <a:custGeom>
            <a:avLst/>
            <a:gdLst/>
            <a:ahLst/>
            <a:rect l="l" t="t" r="r" b="b"/>
            <a:pathLst>
              <a:path w="191" h="223">
                <a:moveTo>
                  <a:pt x="0" y="0"/>
                </a:moveTo>
                <a:lnTo>
                  <a:pt x="0" y="223"/>
                </a:lnTo>
                <a:lnTo>
                  <a:pt x="191" y="22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33880" y="851040"/>
            <a:ext cx="91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536800" y="3444840"/>
            <a:ext cx="33742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nction blocks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d to a machin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ermediate code, IL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is either interpreted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d to assembly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Input-Output of Function Blocks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400640" y="1886040"/>
            <a:ext cx="0" cy="63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305400" y="1924200"/>
            <a:ext cx="0" cy="63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8026560" y="2311560"/>
            <a:ext cx="128520" cy="77760"/>
          </a:xfrm>
          <a:custGeom>
            <a:avLst/>
            <a:gdLst/>
            <a:ahLst/>
            <a:rect l="l" t="t" r="r" b="b"/>
            <a:pathLst>
              <a:path w="81" h="49">
                <a:moveTo>
                  <a:pt x="80" y="27"/>
                </a:moveTo>
                <a:lnTo>
                  <a:pt x="0" y="48"/>
                </a:lnTo>
                <a:lnTo>
                  <a:pt x="0" y="27"/>
                </a:lnTo>
                <a:lnTo>
                  <a:pt x="0" y="0"/>
                </a:lnTo>
                <a:lnTo>
                  <a:pt x="80" y="2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66920" y="2351160"/>
            <a:ext cx="575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714840" y="2087640"/>
            <a:ext cx="291960" cy="2538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800440" y="2087640"/>
            <a:ext cx="901440" cy="253800"/>
          </a:xfrm>
          <a:prstGeom prst="rect">
            <a:avLst/>
          </a:prstGeom>
          <a:solidFill>
            <a:srgbClr val="fda4b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495520" y="2087640"/>
            <a:ext cx="291960" cy="253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619600" y="2087640"/>
            <a:ext cx="292320" cy="2538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705200" y="2087640"/>
            <a:ext cx="901800" cy="253800"/>
          </a:xfrm>
          <a:prstGeom prst="rect">
            <a:avLst/>
          </a:prstGeom>
          <a:solidFill>
            <a:srgbClr val="fda4b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400640" y="2087640"/>
            <a:ext cx="291960" cy="253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524720" y="2087640"/>
            <a:ext cx="291960" cy="2538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610320" y="2087640"/>
            <a:ext cx="901800" cy="253800"/>
          </a:xfrm>
          <a:prstGeom prst="rect">
            <a:avLst/>
          </a:prstGeom>
          <a:solidFill>
            <a:srgbClr val="fda4b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305400" y="2087640"/>
            <a:ext cx="292320" cy="253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7" name=""/>
          <p:cNvGrpSpPr/>
          <p:nvPr/>
        </p:nvGrpSpPr>
        <p:grpSpPr>
          <a:xfrm>
            <a:off x="2590920" y="1771560"/>
            <a:ext cx="90360" cy="287280"/>
            <a:chOff x="2590920" y="1771560"/>
            <a:chExt cx="90360" cy="287280"/>
          </a:xfrm>
        </p:grpSpPr>
        <p:sp>
          <p:nvSpPr>
            <p:cNvPr id="1128" name=""/>
            <p:cNvSpPr/>
            <p:nvPr/>
          </p:nvSpPr>
          <p:spPr>
            <a:xfrm>
              <a:off x="2590920" y="1930320"/>
              <a:ext cx="90360" cy="128520"/>
            </a:xfrm>
            <a:custGeom>
              <a:avLst/>
              <a:gdLst/>
              <a:ahLst/>
              <a:rect l="l" t="t" r="r" b="b"/>
              <a:pathLst>
                <a:path w="57" h="81">
                  <a:moveTo>
                    <a:pt x="28" y="80"/>
                  </a:moveTo>
                  <a:lnTo>
                    <a:pt x="0" y="0"/>
                  </a:lnTo>
                  <a:lnTo>
                    <a:pt x="28" y="0"/>
                  </a:lnTo>
                  <a:lnTo>
                    <a:pt x="56" y="0"/>
                  </a:lnTo>
                  <a:lnTo>
                    <a:pt x="28" y="8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647800" y="177156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3809880" y="1771560"/>
            <a:ext cx="90720" cy="287280"/>
            <a:chOff x="3809880" y="1771560"/>
            <a:chExt cx="90720" cy="287280"/>
          </a:xfrm>
        </p:grpSpPr>
        <p:sp>
          <p:nvSpPr>
            <p:cNvPr id="1131" name=""/>
            <p:cNvSpPr/>
            <p:nvPr/>
          </p:nvSpPr>
          <p:spPr>
            <a:xfrm>
              <a:off x="3809880" y="1930320"/>
              <a:ext cx="90720" cy="128520"/>
            </a:xfrm>
            <a:custGeom>
              <a:avLst/>
              <a:gdLst/>
              <a:ahLst/>
              <a:rect l="l" t="t" r="r" b="b"/>
              <a:pathLst>
                <a:path w="57" h="81">
                  <a:moveTo>
                    <a:pt x="28" y="80"/>
                  </a:moveTo>
                  <a:lnTo>
                    <a:pt x="0" y="0"/>
                  </a:lnTo>
                  <a:lnTo>
                    <a:pt x="28" y="0"/>
                  </a:lnTo>
                  <a:lnTo>
                    <a:pt x="56" y="0"/>
                  </a:lnTo>
                  <a:lnTo>
                    <a:pt x="28" y="8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867120" y="177156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3162240" y="2374920"/>
            <a:ext cx="90720" cy="234720"/>
            <a:chOff x="3162240" y="2374920"/>
            <a:chExt cx="90720" cy="234720"/>
          </a:xfrm>
        </p:grpSpPr>
        <p:sp>
          <p:nvSpPr>
            <p:cNvPr id="1134" name=""/>
            <p:cNvSpPr/>
            <p:nvPr/>
          </p:nvSpPr>
          <p:spPr>
            <a:xfrm>
              <a:off x="3162240" y="2374920"/>
              <a:ext cx="90720" cy="128520"/>
            </a:xfrm>
            <a:custGeom>
              <a:avLst/>
              <a:gdLst/>
              <a:ahLst/>
              <a:rect l="l" t="t" r="r" b="b"/>
              <a:pathLst>
                <a:path w="57" h="81">
                  <a:moveTo>
                    <a:pt x="28" y="0"/>
                  </a:moveTo>
                  <a:lnTo>
                    <a:pt x="56" y="80"/>
                  </a:lnTo>
                  <a:lnTo>
                    <a:pt x="28" y="80"/>
                  </a:lnTo>
                  <a:lnTo>
                    <a:pt x="0" y="80"/>
                  </a:lnTo>
                  <a:lnTo>
                    <a:pt x="28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V="1">
              <a:off x="3213000" y="252072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6" name=""/>
          <p:cNvSpPr/>
          <p:nvPr/>
        </p:nvSpPr>
        <p:spPr>
          <a:xfrm>
            <a:off x="2754720" y="2568600"/>
            <a:ext cx="979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159600" y="2476440"/>
            <a:ext cx="128520" cy="77760"/>
          </a:xfrm>
          <a:custGeom>
            <a:avLst/>
            <a:gdLst/>
            <a:ahLst/>
            <a:rect l="l" t="t" r="r" b="b"/>
            <a:pathLst>
              <a:path w="81" h="49">
                <a:moveTo>
                  <a:pt x="80" y="27"/>
                </a:moveTo>
                <a:lnTo>
                  <a:pt x="0" y="48"/>
                </a:lnTo>
                <a:lnTo>
                  <a:pt x="0" y="27"/>
                </a:lnTo>
                <a:lnTo>
                  <a:pt x="0" y="0"/>
                </a:lnTo>
                <a:lnTo>
                  <a:pt x="80" y="27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394160" y="2476440"/>
            <a:ext cx="128520" cy="77760"/>
          </a:xfrm>
          <a:custGeom>
            <a:avLst/>
            <a:gdLst/>
            <a:ahLst/>
            <a:rect l="l" t="t" r="r" b="b"/>
            <a:pathLst>
              <a:path w="81" h="49">
                <a:moveTo>
                  <a:pt x="0" y="27"/>
                </a:moveTo>
                <a:lnTo>
                  <a:pt x="80" y="0"/>
                </a:lnTo>
                <a:lnTo>
                  <a:pt x="80" y="27"/>
                </a:lnTo>
                <a:lnTo>
                  <a:pt x="80" y="48"/>
                </a:lnTo>
                <a:lnTo>
                  <a:pt x="0" y="27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H="1">
            <a:off x="4533840" y="2516040"/>
            <a:ext cx="162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566240" y="2550960"/>
            <a:ext cx="1470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vidual peri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525400" y="203364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693600" y="2033640"/>
            <a:ext cx="359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059280" y="203364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419360" y="203364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611320" y="2033640"/>
            <a:ext cx="359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976640" y="203364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347880" y="203364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516440" y="2033640"/>
            <a:ext cx="359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881760" y="203364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235240" y="1384200"/>
            <a:ext cx="698400" cy="4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271600" y="1311120"/>
            <a:ext cx="70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196000" y="1539720"/>
            <a:ext cx="789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378240" y="1422360"/>
            <a:ext cx="774720" cy="4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440160" y="1349280"/>
            <a:ext cx="663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313080" y="1577880"/>
            <a:ext cx="929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346040" y="1015920"/>
            <a:ext cx="9907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269000" y="942840"/>
            <a:ext cx="117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-ti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219320" y="3213000"/>
            <a:ext cx="7441920" cy="110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139760" y="3139920"/>
            <a:ext cx="4556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nction blocks are executed cyclic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139760" y="3419640"/>
            <a:ext cx="7112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inputs are read from memory or from the plant (possibly cach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141560" y="3699000"/>
            <a:ext cx="2799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gment is execu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137960" y="3978360"/>
            <a:ext cx="744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s are written into memory or to the plant (possibly to a cach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219320" y="4432320"/>
            <a:ext cx="7441920" cy="13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141920" y="4359240"/>
            <a:ext cx="6576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rder of execution of the blocks generally does not matt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146600" y="4638600"/>
            <a:ext cx="734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peed up algorithms and avoid cascading, it is helpful to impose 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143000" y="4917960"/>
            <a:ext cx="31622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order to the bloc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141200" y="5197320"/>
            <a:ext cx="181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144800" y="5477040"/>
            <a:ext cx="721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fferent segments may be assigned a different individual perio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790040" y="2438280"/>
            <a:ext cx="518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Function Block library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328680" y="1095480"/>
            <a:ext cx="9217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grammer chooses the blocks in a block library, similarly to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engineer who chooses CMOS-logic out of the catalogue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31200" y="2009880"/>
            <a:ext cx="878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brary indicates the pinning of each block, its semantics and the execution tim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25800" y="2695680"/>
            <a:ext cx="8325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grammer may extend the library by defining function block macros out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rary elemen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30840" y="3533760"/>
            <a:ext cx="8272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ome blocks are often used, they will be programmed in an external langua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 “C”, microcode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26880" y="3811680"/>
            <a:ext cx="2967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IEC 61131-3 library (extract)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pic>
        <p:nvPicPr>
          <p:cNvPr id="1177" name="" descr=""/>
          <p:cNvPicPr/>
          <p:nvPr/>
        </p:nvPicPr>
        <p:blipFill>
          <a:blip r:embed="rId1"/>
          <a:stretch/>
        </p:blipFill>
        <p:spPr>
          <a:xfrm>
            <a:off x="495360" y="723960"/>
            <a:ext cx="8889840" cy="4330800"/>
          </a:xfrm>
          <a:prstGeom prst="rect">
            <a:avLst/>
          </a:prstGeom>
          <a:ln w="0">
            <a:noFill/>
          </a:ln>
        </p:spPr>
      </p:pic>
      <p:sp>
        <p:nvSpPr>
          <p:cNvPr id="1178" name=""/>
          <p:cNvSpPr/>
          <p:nvPr/>
        </p:nvSpPr>
        <p:spPr>
          <a:xfrm>
            <a:off x="430920" y="4951440"/>
            <a:ext cx="49075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number of inputs or outputs and their type  is restrict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26960" y="5141880"/>
            <a:ext cx="718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xecution time of each block depends on the number of inputs and on the proces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d4"/>
                </a:solidFill>
                <a:latin typeface="Arial"/>
              </a:rPr>
              <a:t>Example: Tooth saw generator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1145520" y="2666880"/>
            <a:ext cx="76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rcise: build a tooth-saw (asymmetric) generator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EC 61131 elements of the preceding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Continuous Plant (reminder)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42120" y="812880"/>
            <a:ext cx="524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traction motors, ovens, pressure vessel,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28600" y="5562720"/>
            <a:ext cx="702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ime constant of the control system must be at least one order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32920" y="5791320"/>
            <a:ext cx="6395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nitude smaller than the smallest time constant of the pla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99000" y="3048120"/>
            <a:ext cx="1863720" cy="77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7920" y="3338640"/>
            <a:ext cx="4824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85040" y="3313080"/>
            <a:ext cx="53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(p) =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46760" y="3102120"/>
            <a:ext cx="127080" cy="1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2280" y="3327480"/>
            <a:ext cx="14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4320" y="3068640"/>
            <a:ext cx="1270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81800" y="3327480"/>
            <a:ext cx="14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29160" y="1141560"/>
            <a:ext cx="731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ate of continuous plants is described by continuous (analog) st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31320" y="1370160"/>
            <a:ext cx="471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s like temperature, voltage, speed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27000" y="15987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83240" y="4056120"/>
            <a:ext cx="5843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 plants are normally reversible and monoto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81800" y="4282920"/>
            <a:ext cx="4552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condition to allow their regul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60360" y="1711440"/>
            <a:ext cx="5846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exist a fixed relationship between input and outpu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57480" y="1940040"/>
            <a:ext cx="657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d by a continuous model in form of a transfer function F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58200" y="2168640"/>
            <a:ext cx="734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transfer function can be expressed by a set of differential equ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59640" y="2395440"/>
            <a:ext cx="725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equations are linear, the transfer function may be given as Laplace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56760" y="2624040"/>
            <a:ext cx="124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-trans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518160" y="2992320"/>
            <a:ext cx="101880" cy="684000"/>
            <a:chOff x="6518160" y="2992320"/>
            <a:chExt cx="101880" cy="684000"/>
          </a:xfrm>
        </p:grpSpPr>
        <p:sp>
          <p:nvSpPr>
            <p:cNvPr id="155" name=""/>
            <p:cNvSpPr/>
            <p:nvPr/>
          </p:nvSpPr>
          <p:spPr>
            <a:xfrm>
              <a:off x="6518160" y="2992320"/>
              <a:ext cx="101880" cy="138240"/>
            </a:xfrm>
            <a:custGeom>
              <a:avLst/>
              <a:gdLst/>
              <a:ahLst/>
              <a:rect l="l" t="t" r="r" b="b"/>
              <a:pathLst>
                <a:path w="64" h="87">
                  <a:moveTo>
                    <a:pt x="32" y="0"/>
                  </a:moveTo>
                  <a:lnTo>
                    <a:pt x="64" y="87"/>
                  </a:lnTo>
                  <a:lnTo>
                    <a:pt x="32" y="87"/>
                  </a:lnTo>
                  <a:lnTo>
                    <a:pt x="0" y="8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6568920" y="3130200"/>
              <a:ext cx="180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418440" y="3549600"/>
            <a:ext cx="1901520" cy="88920"/>
            <a:chOff x="6418440" y="3549600"/>
            <a:chExt cx="1901520" cy="88920"/>
          </a:xfrm>
        </p:grpSpPr>
        <p:sp>
          <p:nvSpPr>
            <p:cNvPr id="158" name=""/>
            <p:cNvSpPr/>
            <p:nvPr/>
          </p:nvSpPr>
          <p:spPr>
            <a:xfrm>
              <a:off x="8180280" y="3549600"/>
              <a:ext cx="139680" cy="88920"/>
            </a:xfrm>
            <a:custGeom>
              <a:avLst/>
              <a:gdLst/>
              <a:ahLst/>
              <a:rect l="l" t="t" r="r" b="b"/>
              <a:pathLst>
                <a:path w="88" h="56">
                  <a:moveTo>
                    <a:pt x="88" y="32"/>
                  </a:moveTo>
                  <a:lnTo>
                    <a:pt x="0" y="56"/>
                  </a:lnTo>
                  <a:lnTo>
                    <a:pt x="0" y="32"/>
                  </a:lnTo>
                  <a:lnTo>
                    <a:pt x="0" y="0"/>
                  </a:lnTo>
                  <a:lnTo>
                    <a:pt x="8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18440" y="3600360"/>
              <a:ext cx="1761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568920" y="3011400"/>
            <a:ext cx="1713240" cy="569880"/>
          </a:xfrm>
          <a:custGeom>
            <a:avLst/>
            <a:gdLst/>
            <a:ahLst/>
            <a:rect l="l" t="t" r="r" b="b"/>
            <a:pathLst>
              <a:path w="1079" h="359">
                <a:moveTo>
                  <a:pt x="0" y="359"/>
                </a:moveTo>
                <a:lnTo>
                  <a:pt x="8" y="359"/>
                </a:lnTo>
                <a:lnTo>
                  <a:pt x="40" y="351"/>
                </a:lnTo>
                <a:lnTo>
                  <a:pt x="72" y="335"/>
                </a:lnTo>
                <a:lnTo>
                  <a:pt x="88" y="327"/>
                </a:lnTo>
                <a:lnTo>
                  <a:pt x="120" y="311"/>
                </a:lnTo>
                <a:lnTo>
                  <a:pt x="144" y="295"/>
                </a:lnTo>
                <a:lnTo>
                  <a:pt x="176" y="271"/>
                </a:lnTo>
                <a:lnTo>
                  <a:pt x="192" y="255"/>
                </a:lnTo>
                <a:lnTo>
                  <a:pt x="208" y="239"/>
                </a:lnTo>
                <a:lnTo>
                  <a:pt x="232" y="215"/>
                </a:lnTo>
                <a:lnTo>
                  <a:pt x="272" y="167"/>
                </a:lnTo>
                <a:lnTo>
                  <a:pt x="312" y="119"/>
                </a:lnTo>
                <a:lnTo>
                  <a:pt x="344" y="87"/>
                </a:lnTo>
                <a:lnTo>
                  <a:pt x="360" y="63"/>
                </a:lnTo>
                <a:lnTo>
                  <a:pt x="368" y="47"/>
                </a:lnTo>
                <a:lnTo>
                  <a:pt x="384" y="32"/>
                </a:lnTo>
                <a:lnTo>
                  <a:pt x="400" y="24"/>
                </a:lnTo>
                <a:lnTo>
                  <a:pt x="408" y="16"/>
                </a:lnTo>
                <a:lnTo>
                  <a:pt x="424" y="8"/>
                </a:lnTo>
                <a:lnTo>
                  <a:pt x="440" y="0"/>
                </a:lnTo>
                <a:lnTo>
                  <a:pt x="440" y="0"/>
                </a:lnTo>
                <a:lnTo>
                  <a:pt x="456" y="0"/>
                </a:lnTo>
                <a:lnTo>
                  <a:pt x="464" y="0"/>
                </a:lnTo>
                <a:lnTo>
                  <a:pt x="480" y="8"/>
                </a:lnTo>
                <a:lnTo>
                  <a:pt x="504" y="16"/>
                </a:lnTo>
                <a:lnTo>
                  <a:pt x="528" y="32"/>
                </a:lnTo>
                <a:lnTo>
                  <a:pt x="544" y="47"/>
                </a:lnTo>
                <a:lnTo>
                  <a:pt x="552" y="55"/>
                </a:lnTo>
                <a:lnTo>
                  <a:pt x="560" y="63"/>
                </a:lnTo>
                <a:lnTo>
                  <a:pt x="584" y="87"/>
                </a:lnTo>
                <a:lnTo>
                  <a:pt x="607" y="103"/>
                </a:lnTo>
                <a:lnTo>
                  <a:pt x="623" y="111"/>
                </a:lnTo>
                <a:lnTo>
                  <a:pt x="631" y="111"/>
                </a:lnTo>
                <a:lnTo>
                  <a:pt x="639" y="111"/>
                </a:lnTo>
                <a:lnTo>
                  <a:pt x="663" y="111"/>
                </a:lnTo>
                <a:lnTo>
                  <a:pt x="687" y="103"/>
                </a:lnTo>
                <a:lnTo>
                  <a:pt x="719" y="87"/>
                </a:lnTo>
                <a:lnTo>
                  <a:pt x="735" y="79"/>
                </a:lnTo>
                <a:lnTo>
                  <a:pt x="751" y="71"/>
                </a:lnTo>
                <a:lnTo>
                  <a:pt x="783" y="55"/>
                </a:lnTo>
                <a:lnTo>
                  <a:pt x="807" y="55"/>
                </a:lnTo>
                <a:lnTo>
                  <a:pt x="831" y="55"/>
                </a:lnTo>
                <a:lnTo>
                  <a:pt x="847" y="63"/>
                </a:lnTo>
                <a:lnTo>
                  <a:pt x="871" y="79"/>
                </a:lnTo>
                <a:lnTo>
                  <a:pt x="927" y="95"/>
                </a:lnTo>
                <a:lnTo>
                  <a:pt x="951" y="95"/>
                </a:lnTo>
                <a:lnTo>
                  <a:pt x="959" y="95"/>
                </a:lnTo>
                <a:lnTo>
                  <a:pt x="999" y="95"/>
                </a:lnTo>
                <a:lnTo>
                  <a:pt x="1031" y="87"/>
                </a:lnTo>
                <a:lnTo>
                  <a:pt x="1063" y="79"/>
                </a:lnTo>
                <a:lnTo>
                  <a:pt x="1079" y="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27960" y="3505320"/>
            <a:ext cx="337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21400" y="27432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97480" y="3173400"/>
            <a:ext cx="5968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50480" y="3173400"/>
            <a:ext cx="57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1+T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32240" y="3427560"/>
            <a:ext cx="1065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94000" y="3516480"/>
            <a:ext cx="12542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13800" y="3516480"/>
            <a:ext cx="1194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1+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+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72200" y="3440160"/>
            <a:ext cx="1000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43600" y="3579840"/>
            <a:ext cx="114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86400" y="3592440"/>
            <a:ext cx="114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1080" y="5029200"/>
            <a:ext cx="867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incipal task of the control system for a continuous plant  is its regul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43" idx="3"/>
            <a:endCxn id="137" idx="1"/>
          </p:cNvCxnSpPr>
          <p:nvPr/>
        </p:nvCxnSpPr>
        <p:spPr>
          <a:xfrm>
            <a:off x="3020760" y="3433320"/>
            <a:ext cx="6786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37" idx="3"/>
            <a:endCxn id="141" idx="1"/>
          </p:cNvCxnSpPr>
          <p:nvPr/>
        </p:nvCxnSpPr>
        <p:spPr>
          <a:xfrm>
            <a:off x="5562360" y="3433320"/>
            <a:ext cx="533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d4"/>
                </a:solidFill>
                <a:latin typeface="Arial"/>
              </a:rPr>
              <a:t>Sawtooth FBD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pic>
        <p:nvPicPr>
          <p:cNvPr id="1183" name="Ramp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69818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Program configuration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473400" y="1362240"/>
            <a:ext cx="9086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grammer divides the program into tasks (sometimes called pages or segments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68000" y="1641600"/>
            <a:ext cx="5431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may be executed each with a different perio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71960" y="2276640"/>
            <a:ext cx="8942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adable program is built by means of a configurator, which assigns each page 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73760" y="2556000"/>
            <a:ext cx="7089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period and builds the whole program into a runnable task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73040" y="3114720"/>
            <a:ext cx="8732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the execution time of each block is fixed, the programmer has control over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68720" y="3394080"/>
            <a:ext cx="1780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tim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75200" y="3952800"/>
            <a:ext cx="8793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-driven operations are encapsulated into blocks, e.g. for transmitting mess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69440" y="4511520"/>
            <a:ext cx="9089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execution time of these tasks cannot be bound, they are executed in  backgroun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67280" y="5070600"/>
            <a:ext cx="5658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riodic execution always has the highest prior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d4"/>
                </a:solidFill>
                <a:latin typeface="Arial"/>
              </a:rPr>
              <a:t>Sequential Flow Chart (SFC)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1596960" y="2122560"/>
            <a:ext cx="7265520" cy="2673360"/>
            <a:chOff x="1596960" y="2122560"/>
            <a:chExt cx="7265520" cy="2673360"/>
          </a:xfrm>
        </p:grpSpPr>
        <p:sp>
          <p:nvSpPr>
            <p:cNvPr id="1196" name=""/>
            <p:cNvSpPr/>
            <p:nvPr/>
          </p:nvSpPr>
          <p:spPr>
            <a:xfrm>
              <a:off x="1596960" y="2122560"/>
              <a:ext cx="7240320" cy="2647800"/>
            </a:xfrm>
            <a:prstGeom prst="rect">
              <a:avLst/>
            </a:prstGeom>
            <a:solidFill>
              <a:srgbClr val="ada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622160" y="2147760"/>
              <a:ext cx="7240320" cy="2648160"/>
            </a:xfrm>
            <a:prstGeom prst="rect">
              <a:avLst/>
            </a:prstGeom>
            <a:solidFill>
              <a:srgbClr val="47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615680" y="2141280"/>
              <a:ext cx="7227720" cy="2635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603080" y="2128680"/>
              <a:ext cx="7252920" cy="2660760"/>
            </a:xfrm>
            <a:prstGeom prst="rect">
              <a:avLst/>
            </a:prstGeom>
            <a:noFill/>
            <a:ln w="12600">
              <a:solidFill>
                <a:srgbClr val="767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0" name=""/>
          <p:cNvGrpSpPr/>
          <p:nvPr/>
        </p:nvGrpSpPr>
        <p:grpSpPr>
          <a:xfrm>
            <a:off x="2021040" y="2325600"/>
            <a:ext cx="6562080" cy="2249640"/>
            <a:chOff x="2021040" y="2325600"/>
            <a:chExt cx="6562080" cy="2249640"/>
          </a:xfrm>
        </p:grpSpPr>
        <p:sp>
          <p:nvSpPr>
            <p:cNvPr id="1201" name=""/>
            <p:cNvSpPr/>
            <p:nvPr/>
          </p:nvSpPr>
          <p:spPr>
            <a:xfrm>
              <a:off x="5371920" y="3566880"/>
              <a:ext cx="3198240" cy="5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358960" y="3554280"/>
              <a:ext cx="3224160" cy="582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866680" y="3149640"/>
              <a:ext cx="12240" cy="393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276280" y="2554200"/>
              <a:ext cx="122976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263680" y="2541600"/>
              <a:ext cx="1255320" cy="593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446360" y="3427200"/>
              <a:ext cx="12240" cy="12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842920" y="3279600"/>
              <a:ext cx="7272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830320" y="4413240"/>
              <a:ext cx="74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422600" y="4132080"/>
              <a:ext cx="12240" cy="139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315880" y="2585880"/>
              <a:ext cx="115200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303280" y="2573280"/>
              <a:ext cx="1177560" cy="528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377440" y="2717640"/>
              <a:ext cx="95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ART STE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551680" y="3222360"/>
              <a:ext cx="178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550240" y="4348080"/>
              <a:ext cx="178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06600" y="3849480"/>
              <a:ext cx="2538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393880" y="3849480"/>
              <a:ext cx="31827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582880" y="3571920"/>
              <a:ext cx="12600" cy="54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615080" y="3578040"/>
              <a:ext cx="12240" cy="54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699520" y="3635280"/>
              <a:ext cx="82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TION 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421960" y="36194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675920" y="3639960"/>
              <a:ext cx="81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1_REA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426640" y="39402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715360" y="3938400"/>
              <a:ext cx="82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TION D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680600" y="3948120"/>
              <a:ext cx="81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2_REA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021040" y="2325600"/>
              <a:ext cx="855360" cy="2249640"/>
            </a:xfrm>
            <a:custGeom>
              <a:avLst/>
              <a:gdLst/>
              <a:ahLst/>
              <a:rect l="l" t="t" r="r" b="b"/>
              <a:pathLst>
                <a:path w="539" h="1417">
                  <a:moveTo>
                    <a:pt x="531" y="129"/>
                  </a:moveTo>
                  <a:lnTo>
                    <a:pt x="532" y="132"/>
                  </a:lnTo>
                  <a:lnTo>
                    <a:pt x="535" y="133"/>
                  </a:lnTo>
                  <a:lnTo>
                    <a:pt x="538" y="132"/>
                  </a:lnTo>
                  <a:lnTo>
                    <a:pt x="539" y="129"/>
                  </a:lnTo>
                  <a:lnTo>
                    <a:pt x="539" y="4"/>
                  </a:lnTo>
                  <a:lnTo>
                    <a:pt x="538" y="1"/>
                  </a:lnTo>
                  <a:lnTo>
                    <a:pt x="535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1413"/>
                  </a:lnTo>
                  <a:lnTo>
                    <a:pt x="1" y="1416"/>
                  </a:lnTo>
                  <a:lnTo>
                    <a:pt x="4" y="1417"/>
                  </a:lnTo>
                  <a:lnTo>
                    <a:pt x="517" y="1417"/>
                  </a:lnTo>
                  <a:lnTo>
                    <a:pt x="520" y="1416"/>
                  </a:lnTo>
                  <a:lnTo>
                    <a:pt x="521" y="1413"/>
                  </a:lnTo>
                  <a:lnTo>
                    <a:pt x="526" y="1136"/>
                  </a:lnTo>
                  <a:lnTo>
                    <a:pt x="525" y="1133"/>
                  </a:lnTo>
                  <a:lnTo>
                    <a:pt x="522" y="1132"/>
                  </a:lnTo>
                  <a:lnTo>
                    <a:pt x="519" y="1133"/>
                  </a:lnTo>
                  <a:lnTo>
                    <a:pt x="518" y="1136"/>
                  </a:lnTo>
                  <a:lnTo>
                    <a:pt x="513" y="1409"/>
                  </a:lnTo>
                  <a:lnTo>
                    <a:pt x="8" y="1409"/>
                  </a:lnTo>
                  <a:lnTo>
                    <a:pt x="8" y="8"/>
                  </a:lnTo>
                  <a:lnTo>
                    <a:pt x="531" y="8"/>
                  </a:lnTo>
                  <a:lnTo>
                    <a:pt x="531" y="129"/>
                  </a:lnTo>
                  <a:close/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860640" y="3565440"/>
              <a:ext cx="12265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847680" y="3552840"/>
              <a:ext cx="1252440" cy="592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290320" y="3565440"/>
              <a:ext cx="12268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277720" y="3552840"/>
              <a:ext cx="1252080" cy="592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631240" y="3754440"/>
              <a:ext cx="55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210560" y="3754440"/>
              <a:ext cx="55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2" name=""/>
            <p:cNvGrpSpPr/>
            <p:nvPr/>
          </p:nvGrpSpPr>
          <p:grpSpPr>
            <a:xfrm>
              <a:off x="2885760" y="3408120"/>
              <a:ext cx="1571040" cy="44640"/>
              <a:chOff x="2885760" y="3408120"/>
              <a:chExt cx="1571040" cy="44640"/>
            </a:xfrm>
          </p:grpSpPr>
          <p:sp>
            <p:nvSpPr>
              <p:cNvPr id="1233" name=""/>
              <p:cNvSpPr/>
              <p:nvPr/>
            </p:nvSpPr>
            <p:spPr>
              <a:xfrm>
                <a:off x="2885760" y="3408120"/>
                <a:ext cx="156672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2890080" y="3440160"/>
                <a:ext cx="15667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5" name=""/>
            <p:cNvGrpSpPr/>
            <p:nvPr/>
          </p:nvGrpSpPr>
          <p:grpSpPr>
            <a:xfrm>
              <a:off x="2857320" y="4243320"/>
              <a:ext cx="1570680" cy="46080"/>
              <a:chOff x="2857320" y="4243320"/>
              <a:chExt cx="1570680" cy="46080"/>
            </a:xfrm>
          </p:grpSpPr>
          <p:sp>
            <p:nvSpPr>
              <p:cNvPr id="1236" name=""/>
              <p:cNvSpPr/>
              <p:nvPr/>
            </p:nvSpPr>
            <p:spPr>
              <a:xfrm>
                <a:off x="2857320" y="4243320"/>
                <a:ext cx="15663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2861640" y="4276800"/>
                <a:ext cx="15663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Sequential Flow Chart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grpSp>
        <p:nvGrpSpPr>
          <p:cNvPr id="1239" name=""/>
          <p:cNvGrpSpPr/>
          <p:nvPr/>
        </p:nvGrpSpPr>
        <p:grpSpPr>
          <a:xfrm>
            <a:off x="4686480" y="1879560"/>
            <a:ext cx="939240" cy="77760"/>
            <a:chOff x="4686480" y="1879560"/>
            <a:chExt cx="939240" cy="77760"/>
          </a:xfrm>
        </p:grpSpPr>
        <p:sp>
          <p:nvSpPr>
            <p:cNvPr id="1240" name=""/>
            <p:cNvSpPr/>
            <p:nvPr/>
          </p:nvSpPr>
          <p:spPr>
            <a:xfrm>
              <a:off x="4686480" y="1879560"/>
              <a:ext cx="179280" cy="77760"/>
            </a:xfrm>
            <a:custGeom>
              <a:avLst/>
              <a:gdLst/>
              <a:ahLst/>
              <a:rect l="l" t="t" r="r" b="b"/>
              <a:pathLst>
                <a:path w="113" h="49">
                  <a:moveTo>
                    <a:pt x="0" y="27"/>
                  </a:moveTo>
                  <a:lnTo>
                    <a:pt x="112" y="0"/>
                  </a:lnTo>
                  <a:lnTo>
                    <a:pt x="112" y="27"/>
                  </a:lnTo>
                  <a:lnTo>
                    <a:pt x="112" y="48"/>
                  </a:lnTo>
                  <a:lnTo>
                    <a:pt x="0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4876560" y="193680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2" name=""/>
          <p:cNvSpPr/>
          <p:nvPr/>
        </p:nvSpPr>
        <p:spPr>
          <a:xfrm>
            <a:off x="5511960" y="283212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850720" y="2665440"/>
            <a:ext cx="2440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 = ((varX &amp; varY) | varZ)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65680" y="4879800"/>
            <a:ext cx="705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quential program consists of states connected by transition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69640" y="5222880"/>
            <a:ext cx="9493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ate is activated by the presence of a token (the corresponding variable becomes TRU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68560" y="5540400"/>
            <a:ext cx="9356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ken leaves the state when the transition condition (event) on the state output is tru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67840" y="5857920"/>
            <a:ext cx="9441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one transition takes place at a time, the execution period is a configuration paramete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298320" y="3808440"/>
            <a:ext cx="618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699080" y="1930320"/>
            <a:ext cx="901800" cy="273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699080" y="1231920"/>
            <a:ext cx="0" cy="250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483080" y="21463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483080" y="21463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483080" y="30607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483080" y="30607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597560" y="168912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597560" y="283212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925520" y="214488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925520" y="305928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213800" y="1522440"/>
            <a:ext cx="40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1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150800" y="266544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483080" y="10033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483080" y="10033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533840" y="1054080"/>
            <a:ext cx="34308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533840" y="1054080"/>
            <a:ext cx="343080" cy="343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483080" y="39751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483080" y="39751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597560" y="374652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925520" y="4087800"/>
            <a:ext cx="39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150800" y="357984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591080" y="410832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336360" y="1692360"/>
            <a:ext cx="1220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2" name=""/>
          <p:cNvGrpSpPr/>
          <p:nvPr/>
        </p:nvGrpSpPr>
        <p:grpSpPr>
          <a:xfrm>
            <a:off x="4019400" y="4000680"/>
            <a:ext cx="668520" cy="204480"/>
            <a:chOff x="4019400" y="4000680"/>
            <a:chExt cx="668520" cy="204480"/>
          </a:xfrm>
        </p:grpSpPr>
        <p:sp>
          <p:nvSpPr>
            <p:cNvPr id="1273" name=""/>
            <p:cNvSpPr/>
            <p:nvPr/>
          </p:nvSpPr>
          <p:spPr>
            <a:xfrm>
              <a:off x="4546440" y="4127400"/>
              <a:ext cx="141480" cy="77760"/>
            </a:xfrm>
            <a:custGeom>
              <a:avLst/>
              <a:gdLst/>
              <a:ahLst/>
              <a:rect l="l" t="t" r="r" b="b"/>
              <a:pathLst>
                <a:path w="89" h="49">
                  <a:moveTo>
                    <a:pt x="88" y="48"/>
                  </a:moveTo>
                  <a:lnTo>
                    <a:pt x="0" y="48"/>
                  </a:lnTo>
                  <a:lnTo>
                    <a:pt x="7" y="21"/>
                  </a:lnTo>
                  <a:lnTo>
                    <a:pt x="22" y="0"/>
                  </a:lnTo>
                  <a:lnTo>
                    <a:pt x="8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019400" y="4000680"/>
              <a:ext cx="53352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5" name=""/>
          <p:cNvSpPr/>
          <p:nvPr/>
        </p:nvSpPr>
        <p:spPr>
          <a:xfrm>
            <a:off x="2855880" y="2898720"/>
            <a:ext cx="79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6" name=""/>
          <p:cNvGrpSpPr/>
          <p:nvPr/>
        </p:nvGrpSpPr>
        <p:grpSpPr>
          <a:xfrm>
            <a:off x="3790800" y="2387520"/>
            <a:ext cx="554040" cy="583920"/>
            <a:chOff x="3790800" y="2387520"/>
            <a:chExt cx="554040" cy="583920"/>
          </a:xfrm>
        </p:grpSpPr>
        <p:sp>
          <p:nvSpPr>
            <p:cNvPr id="1277" name=""/>
            <p:cNvSpPr/>
            <p:nvPr/>
          </p:nvSpPr>
          <p:spPr>
            <a:xfrm>
              <a:off x="4229280" y="2387520"/>
              <a:ext cx="11556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2" y="0"/>
                  </a:moveTo>
                  <a:lnTo>
                    <a:pt x="36" y="72"/>
                  </a:lnTo>
                  <a:lnTo>
                    <a:pt x="14" y="58"/>
                  </a:lnTo>
                  <a:lnTo>
                    <a:pt x="0" y="36"/>
                  </a:lnTo>
                  <a:lnTo>
                    <a:pt x="7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V="1">
              <a:off x="3790800" y="2488680"/>
              <a:ext cx="47016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9" name=""/>
          <p:cNvGrpSpPr/>
          <p:nvPr/>
        </p:nvGrpSpPr>
        <p:grpSpPr>
          <a:xfrm>
            <a:off x="3905280" y="3137040"/>
            <a:ext cx="439560" cy="90360"/>
            <a:chOff x="3905280" y="3137040"/>
            <a:chExt cx="439560" cy="90360"/>
          </a:xfrm>
        </p:grpSpPr>
        <p:sp>
          <p:nvSpPr>
            <p:cNvPr id="1280" name=""/>
            <p:cNvSpPr/>
            <p:nvPr/>
          </p:nvSpPr>
          <p:spPr>
            <a:xfrm>
              <a:off x="4216320" y="3137040"/>
              <a:ext cx="128520" cy="90360"/>
            </a:xfrm>
            <a:custGeom>
              <a:avLst/>
              <a:gdLst/>
              <a:ahLst/>
              <a:rect l="l" t="t" r="r" b="b"/>
              <a:pathLst>
                <a:path w="81" h="57">
                  <a:moveTo>
                    <a:pt x="80" y="28"/>
                  </a:moveTo>
                  <a:lnTo>
                    <a:pt x="0" y="56"/>
                  </a:lnTo>
                  <a:lnTo>
                    <a:pt x="0" y="28"/>
                  </a:lnTo>
                  <a:lnTo>
                    <a:pt x="0" y="0"/>
                  </a:lnTo>
                  <a:lnTo>
                    <a:pt x="80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905280" y="31939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3790800" y="3308400"/>
            <a:ext cx="325440" cy="554040"/>
            <a:chOff x="3790800" y="3308400"/>
            <a:chExt cx="325440" cy="554040"/>
          </a:xfrm>
        </p:grpSpPr>
        <p:sp>
          <p:nvSpPr>
            <p:cNvPr id="1283" name=""/>
            <p:cNvSpPr/>
            <p:nvPr/>
          </p:nvSpPr>
          <p:spPr>
            <a:xfrm>
              <a:off x="4013280" y="3733920"/>
              <a:ext cx="102960" cy="128520"/>
            </a:xfrm>
            <a:custGeom>
              <a:avLst/>
              <a:gdLst/>
              <a:ahLst/>
              <a:rect l="l" t="t" r="r" b="b"/>
              <a:pathLst>
                <a:path w="65" h="81">
                  <a:moveTo>
                    <a:pt x="64" y="80"/>
                  </a:moveTo>
                  <a:lnTo>
                    <a:pt x="0" y="22"/>
                  </a:lnTo>
                  <a:lnTo>
                    <a:pt x="21" y="7"/>
                  </a:lnTo>
                  <a:lnTo>
                    <a:pt x="43" y="0"/>
                  </a:lnTo>
                  <a:lnTo>
                    <a:pt x="64" y="8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790800" y="3308400"/>
              <a:ext cx="26676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5041800" y="2050920"/>
            <a:ext cx="1155600" cy="782640"/>
            <a:chOff x="5041800" y="2050920"/>
            <a:chExt cx="1155600" cy="782640"/>
          </a:xfrm>
        </p:grpSpPr>
        <p:sp>
          <p:nvSpPr>
            <p:cNvPr id="1286" name=""/>
            <p:cNvSpPr/>
            <p:nvPr/>
          </p:nvSpPr>
          <p:spPr>
            <a:xfrm>
              <a:off x="5041800" y="2730600"/>
              <a:ext cx="128520" cy="102960"/>
            </a:xfrm>
            <a:custGeom>
              <a:avLst/>
              <a:gdLst/>
              <a:ahLst/>
              <a:rect l="l" t="t" r="r" b="b"/>
              <a:pathLst>
                <a:path w="81" h="65">
                  <a:moveTo>
                    <a:pt x="0" y="64"/>
                  </a:moveTo>
                  <a:lnTo>
                    <a:pt x="51" y="0"/>
                  </a:lnTo>
                  <a:lnTo>
                    <a:pt x="65" y="21"/>
                  </a:lnTo>
                  <a:lnTo>
                    <a:pt x="80" y="36"/>
                  </a:lnTo>
                  <a:lnTo>
                    <a:pt x="0" y="6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>
              <a:off x="5155920" y="2050920"/>
              <a:ext cx="1041480" cy="72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8" name=""/>
          <p:cNvGrpSpPr/>
          <p:nvPr/>
        </p:nvGrpSpPr>
        <p:grpSpPr>
          <a:xfrm>
            <a:off x="4927680" y="1676520"/>
            <a:ext cx="1257120" cy="145800"/>
            <a:chOff x="4927680" y="1676520"/>
            <a:chExt cx="1257120" cy="145800"/>
          </a:xfrm>
        </p:grpSpPr>
        <p:sp>
          <p:nvSpPr>
            <p:cNvPr id="1289" name=""/>
            <p:cNvSpPr/>
            <p:nvPr/>
          </p:nvSpPr>
          <p:spPr>
            <a:xfrm>
              <a:off x="4927680" y="1676520"/>
              <a:ext cx="128520" cy="77760"/>
            </a:xfrm>
            <a:custGeom>
              <a:avLst/>
              <a:gdLst/>
              <a:ahLst/>
              <a:rect l="l" t="t" r="r" b="b"/>
              <a:pathLst>
                <a:path w="81" h="49">
                  <a:moveTo>
                    <a:pt x="0" y="14"/>
                  </a:moveTo>
                  <a:lnTo>
                    <a:pt x="80" y="0"/>
                  </a:lnTo>
                  <a:lnTo>
                    <a:pt x="80" y="21"/>
                  </a:lnTo>
                  <a:lnTo>
                    <a:pt x="80" y="48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 flipV="1">
              <a:off x="5067360" y="1720800"/>
              <a:ext cx="111744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1" name=""/>
          <p:cNvSpPr/>
          <p:nvPr/>
        </p:nvSpPr>
        <p:spPr>
          <a:xfrm>
            <a:off x="1758600" y="1407960"/>
            <a:ext cx="13838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ent con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755000" y="1687680"/>
            <a:ext cx="1635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"1" = always tr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949440" y="2093760"/>
            <a:ext cx="2395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 transition con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4" name=""/>
          <p:cNvGrpSpPr/>
          <p:nvPr/>
        </p:nvGrpSpPr>
        <p:grpSpPr>
          <a:xfrm>
            <a:off x="7213680" y="2400480"/>
            <a:ext cx="571320" cy="204480"/>
            <a:chOff x="7213680" y="2400480"/>
            <a:chExt cx="571320" cy="204480"/>
          </a:xfrm>
        </p:grpSpPr>
        <p:sp>
          <p:nvSpPr>
            <p:cNvPr id="1295" name=""/>
            <p:cNvSpPr/>
            <p:nvPr/>
          </p:nvSpPr>
          <p:spPr>
            <a:xfrm>
              <a:off x="7213680" y="2527200"/>
              <a:ext cx="141120" cy="77760"/>
            </a:xfrm>
            <a:custGeom>
              <a:avLst/>
              <a:gdLst/>
              <a:ahLst/>
              <a:rect l="l" t="t" r="r" b="b"/>
              <a:pathLst>
                <a:path w="89" h="49">
                  <a:moveTo>
                    <a:pt x="0" y="48"/>
                  </a:moveTo>
                  <a:lnTo>
                    <a:pt x="66" y="0"/>
                  </a:lnTo>
                  <a:lnTo>
                    <a:pt x="73" y="21"/>
                  </a:lnTo>
                  <a:lnTo>
                    <a:pt x="88" y="41"/>
                  </a:lnTo>
                  <a:lnTo>
                    <a:pt x="0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H="1">
              <a:off x="7340760" y="2400480"/>
              <a:ext cx="44424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3562200" y="1600200"/>
            <a:ext cx="554040" cy="103320"/>
            <a:chOff x="3562200" y="1600200"/>
            <a:chExt cx="554040" cy="103320"/>
          </a:xfrm>
        </p:grpSpPr>
        <p:sp>
          <p:nvSpPr>
            <p:cNvPr id="1298" name=""/>
            <p:cNvSpPr/>
            <p:nvPr/>
          </p:nvSpPr>
          <p:spPr>
            <a:xfrm>
              <a:off x="3975120" y="1625760"/>
              <a:ext cx="141120" cy="77760"/>
            </a:xfrm>
            <a:custGeom>
              <a:avLst/>
              <a:gdLst/>
              <a:ahLst/>
              <a:rect l="l" t="t" r="r" b="b"/>
              <a:pathLst>
                <a:path w="89" h="49">
                  <a:moveTo>
                    <a:pt x="88" y="41"/>
                  </a:moveTo>
                  <a:lnTo>
                    <a:pt x="0" y="48"/>
                  </a:lnTo>
                  <a:lnTo>
                    <a:pt x="7" y="27"/>
                  </a:lnTo>
                  <a:lnTo>
                    <a:pt x="15" y="0"/>
                  </a:lnTo>
                  <a:lnTo>
                    <a:pt x="88" y="4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562200" y="1600200"/>
              <a:ext cx="41940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0" name=""/>
          <p:cNvGrpSpPr/>
          <p:nvPr/>
        </p:nvGrpSpPr>
        <p:grpSpPr>
          <a:xfrm>
            <a:off x="3746520" y="1244520"/>
            <a:ext cx="598320" cy="1549080"/>
            <a:chOff x="3746520" y="1244520"/>
            <a:chExt cx="598320" cy="1549080"/>
          </a:xfrm>
        </p:grpSpPr>
        <p:sp>
          <p:nvSpPr>
            <p:cNvPr id="1301" name=""/>
            <p:cNvSpPr/>
            <p:nvPr/>
          </p:nvSpPr>
          <p:spPr>
            <a:xfrm>
              <a:off x="4267080" y="1244520"/>
              <a:ext cx="77760" cy="141480"/>
            </a:xfrm>
            <a:custGeom>
              <a:avLst/>
              <a:gdLst/>
              <a:ahLst/>
              <a:rect l="l" t="t" r="r" b="b"/>
              <a:pathLst>
                <a:path w="49" h="89">
                  <a:moveTo>
                    <a:pt x="48" y="0"/>
                  </a:moveTo>
                  <a:lnTo>
                    <a:pt x="41" y="88"/>
                  </a:lnTo>
                  <a:lnTo>
                    <a:pt x="21" y="73"/>
                  </a:lnTo>
                  <a:lnTo>
                    <a:pt x="0" y="66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V="1">
              <a:off x="3746520" y="1371240"/>
              <a:ext cx="558720" cy="142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3" name=""/>
          <p:cNvSpPr/>
          <p:nvPr/>
        </p:nvSpPr>
        <p:spPr>
          <a:xfrm>
            <a:off x="5700240" y="4087800"/>
            <a:ext cx="354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ample: Sc is true, S0, Sa, Sb are fa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4989240" y="106524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Initial state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1247040" y="1359000"/>
            <a:ext cx="691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which come into existence with a token are call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itial sta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768920" y="2130480"/>
            <a:ext cx="1440" cy="68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552920" y="2257560"/>
            <a:ext cx="469800" cy="46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540320" y="2244600"/>
            <a:ext cx="495360" cy="49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591080" y="2295360"/>
            <a:ext cx="393840" cy="3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578480" y="2282760"/>
            <a:ext cx="419040" cy="417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285200" y="3295800"/>
            <a:ext cx="734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initial states receive exactly one token, the other states receive no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320840" y="4206960"/>
            <a:ext cx="455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ization takes place explicitly at start-up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1320840" y="45244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320120" y="4840200"/>
            <a:ext cx="6837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ome systems, initialization may be triggered in a user progra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itialization pin in a function block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Switch and parallel execution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6781680" y="812880"/>
            <a:ext cx="0" cy="1244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696080" y="224784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8075160" y="204300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540480" y="149868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540480" y="149868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667560" y="127008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638680" y="224784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046640" y="163656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017760" y="266544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902920" y="1179360"/>
            <a:ext cx="40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1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217840" y="204300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603840" y="749160"/>
            <a:ext cx="34308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603840" y="749160"/>
            <a:ext cx="343080" cy="343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667560" y="384804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7046640" y="403704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2" name=""/>
          <p:cNvGrpSpPr/>
          <p:nvPr/>
        </p:nvGrpSpPr>
        <p:grpSpPr>
          <a:xfrm>
            <a:off x="4844880" y="1847880"/>
            <a:ext cx="325440" cy="274680"/>
            <a:chOff x="4844880" y="1847880"/>
            <a:chExt cx="325440" cy="274680"/>
          </a:xfrm>
        </p:grpSpPr>
        <p:sp>
          <p:nvSpPr>
            <p:cNvPr id="1333" name=""/>
            <p:cNvSpPr/>
            <p:nvPr/>
          </p:nvSpPr>
          <p:spPr>
            <a:xfrm>
              <a:off x="5041800" y="2006640"/>
              <a:ext cx="128520" cy="115920"/>
            </a:xfrm>
            <a:custGeom>
              <a:avLst/>
              <a:gdLst/>
              <a:ahLst/>
              <a:rect l="l" t="t" r="r" b="b"/>
              <a:pathLst>
                <a:path w="81" h="73">
                  <a:moveTo>
                    <a:pt x="80" y="72"/>
                  </a:moveTo>
                  <a:lnTo>
                    <a:pt x="0" y="36"/>
                  </a:lnTo>
                  <a:lnTo>
                    <a:pt x="15" y="14"/>
                  </a:lnTo>
                  <a:lnTo>
                    <a:pt x="29" y="0"/>
                  </a:lnTo>
                  <a:lnTo>
                    <a:pt x="80" y="7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844880" y="184788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5" name=""/>
          <p:cNvGrpSpPr/>
          <p:nvPr/>
        </p:nvGrpSpPr>
        <p:grpSpPr>
          <a:xfrm>
            <a:off x="4844880" y="1854360"/>
            <a:ext cx="2662560" cy="344160"/>
            <a:chOff x="4844880" y="1854360"/>
            <a:chExt cx="2662560" cy="344160"/>
          </a:xfrm>
        </p:grpSpPr>
        <p:sp>
          <p:nvSpPr>
            <p:cNvPr id="1336" name=""/>
            <p:cNvSpPr/>
            <p:nvPr/>
          </p:nvSpPr>
          <p:spPr>
            <a:xfrm>
              <a:off x="7365960" y="2120760"/>
              <a:ext cx="141480" cy="77760"/>
            </a:xfrm>
            <a:custGeom>
              <a:avLst/>
              <a:gdLst/>
              <a:ahLst/>
              <a:rect l="l" t="t" r="r" b="b"/>
              <a:pathLst>
                <a:path w="89" h="49">
                  <a:moveTo>
                    <a:pt x="88" y="34"/>
                  </a:moveTo>
                  <a:lnTo>
                    <a:pt x="0" y="48"/>
                  </a:lnTo>
                  <a:lnTo>
                    <a:pt x="7" y="27"/>
                  </a:lnTo>
                  <a:lnTo>
                    <a:pt x="7" y="0"/>
                  </a:lnTo>
                  <a:lnTo>
                    <a:pt x="88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844880" y="1854360"/>
              <a:ext cx="252756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8" name=""/>
          <p:cNvSpPr/>
          <p:nvPr/>
        </p:nvSpPr>
        <p:spPr>
          <a:xfrm>
            <a:off x="631800" y="1433520"/>
            <a:ext cx="1260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ken 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1747800" y="1433520"/>
            <a:ext cx="2892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the token crosses the first activ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17400" y="1712880"/>
            <a:ext cx="396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ition (at random if both Ea and Eb are tr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753160" y="2070000"/>
            <a:ext cx="2044800" cy="1587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511960" y="264168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511960" y="264168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569360" y="241308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7569360" y="241308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645160" y="276228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781680" y="3670200"/>
            <a:ext cx="0" cy="1130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7569360" y="309888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7569360" y="309888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7696080" y="298440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8075160" y="2779560"/>
            <a:ext cx="39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515520" y="3833640"/>
            <a:ext cx="1309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ken for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696320" y="3833640"/>
            <a:ext cx="3474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when the transition Ee is true, the tok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05440" y="4113360"/>
            <a:ext cx="29674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replicated to all connected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19120" y="4392720"/>
            <a:ext cx="1814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540480" y="401328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540480" y="401328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932160" y="369396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753160" y="4813200"/>
            <a:ext cx="2044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5753160" y="4876920"/>
            <a:ext cx="2044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667560" y="464832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987880" y="48196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994360" y="4813200"/>
            <a:ext cx="1602000" cy="916200"/>
          </a:xfrm>
          <a:custGeom>
            <a:avLst/>
            <a:gdLst/>
            <a:ahLst/>
            <a:rect l="l" t="t" r="r" b="b"/>
            <a:pathLst>
              <a:path w="1009" h="577">
                <a:moveTo>
                  <a:pt x="0" y="0"/>
                </a:moveTo>
                <a:lnTo>
                  <a:pt x="0" y="576"/>
                </a:lnTo>
                <a:lnTo>
                  <a:pt x="1008" y="576"/>
                </a:lnTo>
                <a:lnTo>
                  <a:pt x="1008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740560" y="5041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740560" y="504180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340760" y="5041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7340760" y="504180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873760" y="516240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473960" y="516240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753160" y="5727600"/>
            <a:ext cx="215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5753160" y="5727600"/>
            <a:ext cx="215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5753160" y="5791320"/>
            <a:ext cx="215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15880" y="5154480"/>
            <a:ext cx="1022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ken 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397160" y="5154480"/>
            <a:ext cx="25178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when all tokens are presen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497520" y="5433840"/>
            <a:ext cx="4785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the transition Ef is true, one single token is forward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995880" y="444348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781680" y="579132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794640" y="1397160"/>
            <a:ext cx="2516040" cy="4687560"/>
          </a:xfrm>
          <a:custGeom>
            <a:avLst/>
            <a:gdLst/>
            <a:ahLst/>
            <a:rect l="l" t="t" r="r" b="b"/>
            <a:pathLst>
              <a:path w="1585" h="2953">
                <a:moveTo>
                  <a:pt x="0" y="2776"/>
                </a:moveTo>
                <a:lnTo>
                  <a:pt x="0" y="2952"/>
                </a:lnTo>
                <a:lnTo>
                  <a:pt x="1584" y="2952"/>
                </a:lnTo>
                <a:lnTo>
                  <a:pt x="1584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781680" y="1384200"/>
            <a:ext cx="2516400" cy="4687920"/>
          </a:xfrm>
          <a:custGeom>
            <a:avLst/>
            <a:gdLst/>
            <a:ahLst/>
            <a:rect l="l" t="t" r="r" b="b"/>
            <a:pathLst>
              <a:path w="1585" h="2953">
                <a:moveTo>
                  <a:pt x="0" y="2776"/>
                </a:moveTo>
                <a:lnTo>
                  <a:pt x="0" y="2952"/>
                </a:lnTo>
                <a:lnTo>
                  <a:pt x="1584" y="2952"/>
                </a:lnTo>
                <a:lnTo>
                  <a:pt x="1584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667560" y="590544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1" name=""/>
          <p:cNvGrpSpPr/>
          <p:nvPr/>
        </p:nvGrpSpPr>
        <p:grpSpPr>
          <a:xfrm>
            <a:off x="5010120" y="4483080"/>
            <a:ext cx="668520" cy="204840"/>
            <a:chOff x="5010120" y="4483080"/>
            <a:chExt cx="668520" cy="204840"/>
          </a:xfrm>
        </p:grpSpPr>
        <p:sp>
          <p:nvSpPr>
            <p:cNvPr id="1382" name=""/>
            <p:cNvSpPr/>
            <p:nvPr/>
          </p:nvSpPr>
          <p:spPr>
            <a:xfrm>
              <a:off x="5537160" y="4610160"/>
              <a:ext cx="141480" cy="77760"/>
            </a:xfrm>
            <a:custGeom>
              <a:avLst/>
              <a:gdLst/>
              <a:ahLst/>
              <a:rect l="l" t="t" r="r" b="b"/>
              <a:pathLst>
                <a:path w="89" h="49">
                  <a:moveTo>
                    <a:pt x="88" y="48"/>
                  </a:moveTo>
                  <a:lnTo>
                    <a:pt x="0" y="48"/>
                  </a:lnTo>
                  <a:lnTo>
                    <a:pt x="7" y="21"/>
                  </a:lnTo>
                  <a:lnTo>
                    <a:pt x="22" y="0"/>
                  </a:lnTo>
                  <a:lnTo>
                    <a:pt x="8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010120" y="4483080"/>
              <a:ext cx="53352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4" name=""/>
          <p:cNvGrpSpPr/>
          <p:nvPr/>
        </p:nvGrpSpPr>
        <p:grpSpPr>
          <a:xfrm>
            <a:off x="4552920" y="5740560"/>
            <a:ext cx="1074600" cy="166680"/>
            <a:chOff x="4552920" y="5740560"/>
            <a:chExt cx="1074600" cy="166680"/>
          </a:xfrm>
        </p:grpSpPr>
        <p:sp>
          <p:nvSpPr>
            <p:cNvPr id="1385" name=""/>
            <p:cNvSpPr/>
            <p:nvPr/>
          </p:nvSpPr>
          <p:spPr>
            <a:xfrm>
              <a:off x="5486400" y="5829480"/>
              <a:ext cx="141120" cy="77760"/>
            </a:xfrm>
            <a:custGeom>
              <a:avLst/>
              <a:gdLst/>
              <a:ahLst/>
              <a:rect l="l" t="t" r="r" b="b"/>
              <a:pathLst>
                <a:path w="89" h="49">
                  <a:moveTo>
                    <a:pt x="88" y="41"/>
                  </a:moveTo>
                  <a:lnTo>
                    <a:pt x="0" y="48"/>
                  </a:lnTo>
                  <a:lnTo>
                    <a:pt x="0" y="27"/>
                  </a:lnTo>
                  <a:lnTo>
                    <a:pt x="7" y="0"/>
                  </a:lnTo>
                  <a:lnTo>
                    <a:pt x="88" y="4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552920" y="5740560"/>
              <a:ext cx="9270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7" name=""/>
          <p:cNvSpPr/>
          <p:nvPr/>
        </p:nvSpPr>
        <p:spPr>
          <a:xfrm>
            <a:off x="8075160" y="2436840"/>
            <a:ext cx="39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8075160" y="312264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246000" y="5065560"/>
            <a:ext cx="350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910280" y="506556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195240" y="5764320"/>
            <a:ext cx="350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d4"/>
                </a:solidFill>
                <a:latin typeface="Arial"/>
              </a:rPr>
              <a:t>P1, N and P0 actions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3429000" y="1147680"/>
            <a:ext cx="12193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505320" y="122400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5" name=""/>
          <p:cNvCxnSpPr>
            <a:stCxn id="1393" idx="3"/>
            <a:endCxn id="1396" idx="1"/>
          </p:cNvCxnSpPr>
          <p:nvPr/>
        </p:nvCxnSpPr>
        <p:spPr>
          <a:xfrm flipV="1">
            <a:off x="4647960" y="1409040"/>
            <a:ext cx="719640" cy="5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396" name=""/>
          <p:cNvSpPr/>
          <p:nvPr/>
        </p:nvSpPr>
        <p:spPr>
          <a:xfrm>
            <a:off x="5367240" y="1219320"/>
            <a:ext cx="38124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748480" y="1219320"/>
            <a:ext cx="255744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5335920" y="12193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5818320" y="1219320"/>
            <a:ext cx="248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tate1_P1:do at 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5367240" y="1600200"/>
            <a:ext cx="38124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748480" y="1600200"/>
            <a:ext cx="255744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5335920" y="1600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818320" y="1600200"/>
            <a:ext cx="248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tate1_N:do w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367240" y="1981080"/>
            <a:ext cx="38124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748480" y="1981080"/>
            <a:ext cx="255744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5335920" y="19810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818320" y="1981080"/>
            <a:ext cx="248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tate1_P0:do at le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659400" y="12333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tat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7600" y="2971800"/>
            <a:ext cx="768636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(pulse raise) action is executed once when the state is ent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 (pulse fall) action is executed once when the state is le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(non-stored) action is executed continuously while the token is in the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and P0 actions could be replaced by additional sta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ions are described by a code block written e.g. in Structured Text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"/>
          <p:cNvSpPr/>
          <p:nvPr/>
        </p:nvSpPr>
        <p:spPr>
          <a:xfrm>
            <a:off x="304920" y="609480"/>
            <a:ext cx="3581280" cy="1676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Exercise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401040" y="4572000"/>
            <a:ext cx="7869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lly: let vehicle until it touches I0 at reduced speed and open the trap for 5s (empty the vehicle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30920" y="5099040"/>
            <a:ext cx="290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- Let the vehicle move from I0 to I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798920" y="4800600"/>
            <a:ext cx="714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ed = 5 cm/s between I0 and I1 or between I2 and I3, speed = 1 m/s between I1 and I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29120" y="5275440"/>
            <a:ext cx="3083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- Stop the vehicle when it reaches I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32720" y="5465880"/>
            <a:ext cx="226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 Open the tank during 5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37400" y="5656320"/>
            <a:ext cx="127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 Go back to I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33080" y="5845320"/>
            <a:ext cx="235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- Open the trap and wait 5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94800" y="6035760"/>
            <a:ext cx="246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eat above steps indefinite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5442120" y="3092400"/>
            <a:ext cx="125280" cy="17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H="1">
            <a:off x="761760" y="2916360"/>
            <a:ext cx="6391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5104080" y="332100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240600" y="3092400"/>
            <a:ext cx="126720" cy="17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365880" y="332100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5492880" y="3498840"/>
            <a:ext cx="798480" cy="88920"/>
            <a:chOff x="5492880" y="3498840"/>
            <a:chExt cx="798480" cy="88920"/>
          </a:xfrm>
        </p:grpSpPr>
        <p:sp>
          <p:nvSpPr>
            <p:cNvPr id="1426" name=""/>
            <p:cNvSpPr/>
            <p:nvPr/>
          </p:nvSpPr>
          <p:spPr>
            <a:xfrm>
              <a:off x="6151680" y="3498840"/>
              <a:ext cx="139680" cy="88920"/>
            </a:xfrm>
            <a:custGeom>
              <a:avLst/>
              <a:gdLst/>
              <a:ahLst/>
              <a:rect l="l" t="t" r="r" b="b"/>
              <a:pathLst>
                <a:path w="88" h="56">
                  <a:moveTo>
                    <a:pt x="88" y="32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56"/>
                  </a:lnTo>
                  <a:lnTo>
                    <a:pt x="8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492880" y="3498840"/>
              <a:ext cx="137880" cy="88920"/>
            </a:xfrm>
            <a:custGeom>
              <a:avLst/>
              <a:gdLst/>
              <a:ahLst/>
              <a:rect l="l" t="t" r="r" b="b"/>
              <a:pathLst>
                <a:path w="87" h="56">
                  <a:moveTo>
                    <a:pt x="0" y="32"/>
                  </a:moveTo>
                  <a:lnTo>
                    <a:pt x="87" y="56"/>
                  </a:lnTo>
                  <a:lnTo>
                    <a:pt x="87" y="32"/>
                  </a:lnTo>
                  <a:lnTo>
                    <a:pt x="87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5630400" y="3549600"/>
              <a:ext cx="520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9" name=""/>
          <p:cNvSpPr/>
          <p:nvPr/>
        </p:nvSpPr>
        <p:spPr>
          <a:xfrm>
            <a:off x="6291360" y="3257640"/>
            <a:ext cx="144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492880" y="3257640"/>
            <a:ext cx="144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1" name=""/>
          <p:cNvGrpSpPr/>
          <p:nvPr/>
        </p:nvGrpSpPr>
        <p:grpSpPr>
          <a:xfrm>
            <a:off x="3500280" y="3043080"/>
            <a:ext cx="685800" cy="87480"/>
            <a:chOff x="3500280" y="3043080"/>
            <a:chExt cx="685800" cy="87480"/>
          </a:xfrm>
        </p:grpSpPr>
        <p:sp>
          <p:nvSpPr>
            <p:cNvPr id="1432" name=""/>
            <p:cNvSpPr/>
            <p:nvPr/>
          </p:nvSpPr>
          <p:spPr>
            <a:xfrm>
              <a:off x="3500280" y="3043080"/>
              <a:ext cx="139680" cy="87480"/>
            </a:xfrm>
            <a:custGeom>
              <a:avLst/>
              <a:gdLst/>
              <a:ahLst/>
              <a:rect l="l" t="t" r="r" b="b"/>
              <a:pathLst>
                <a:path w="88" h="55">
                  <a:moveTo>
                    <a:pt x="0" y="31"/>
                  </a:moveTo>
                  <a:lnTo>
                    <a:pt x="88" y="0"/>
                  </a:lnTo>
                  <a:lnTo>
                    <a:pt x="88" y="31"/>
                  </a:lnTo>
                  <a:lnTo>
                    <a:pt x="88" y="5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033800" y="3043080"/>
              <a:ext cx="152280" cy="87480"/>
            </a:xfrm>
            <a:custGeom>
              <a:avLst/>
              <a:gdLst/>
              <a:ahLst/>
              <a:rect l="l" t="t" r="r" b="b"/>
              <a:pathLst>
                <a:path w="96" h="55">
                  <a:moveTo>
                    <a:pt x="96" y="31"/>
                  </a:moveTo>
                  <a:lnTo>
                    <a:pt x="0" y="55"/>
                  </a:lnTo>
                  <a:lnTo>
                    <a:pt x="0" y="31"/>
                  </a:lnTo>
                  <a:lnTo>
                    <a:pt x="0" y="0"/>
                  </a:lnTo>
                  <a:lnTo>
                    <a:pt x="9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639960" y="3092400"/>
              <a:ext cx="393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5" name=""/>
          <p:cNvSpPr/>
          <p:nvPr/>
        </p:nvSpPr>
        <p:spPr>
          <a:xfrm>
            <a:off x="904680" y="1562040"/>
            <a:ext cx="281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ed = {+20: +1 m/s; +1: +5 cm/s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443520" y="1996920"/>
            <a:ext cx="2743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gative values: opposite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5834160" y="1090440"/>
            <a:ext cx="912600" cy="1256040"/>
          </a:xfrm>
          <a:custGeom>
            <a:avLst/>
            <a:gdLst/>
            <a:ahLst/>
            <a:rect l="l" t="t" r="r" b="b"/>
            <a:pathLst>
              <a:path w="575" h="791">
                <a:moveTo>
                  <a:pt x="328" y="615"/>
                </a:moveTo>
                <a:lnTo>
                  <a:pt x="575" y="471"/>
                </a:lnTo>
                <a:lnTo>
                  <a:pt x="575" y="0"/>
                </a:lnTo>
                <a:lnTo>
                  <a:pt x="0" y="0"/>
                </a:lnTo>
                <a:lnTo>
                  <a:pt x="0" y="471"/>
                </a:lnTo>
                <a:lnTo>
                  <a:pt x="256" y="615"/>
                </a:lnTo>
                <a:lnTo>
                  <a:pt x="256" y="791"/>
                </a:lnTo>
                <a:lnTo>
                  <a:pt x="328" y="791"/>
                </a:lnTo>
                <a:lnTo>
                  <a:pt x="328" y="615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6087960" y="2181240"/>
            <a:ext cx="406440" cy="165240"/>
          </a:xfrm>
          <a:custGeom>
            <a:avLst/>
            <a:gdLst/>
            <a:ahLst/>
            <a:rect l="l" t="t" r="r" b="b"/>
            <a:pathLst>
              <a:path w="256" h="104">
                <a:moveTo>
                  <a:pt x="256" y="0"/>
                </a:moveTo>
                <a:lnTo>
                  <a:pt x="256" y="104"/>
                </a:lnTo>
                <a:lnTo>
                  <a:pt x="0" y="0"/>
                </a:lnTo>
                <a:lnTo>
                  <a:pt x="0" y="104"/>
                </a:lnTo>
                <a:lnTo>
                  <a:pt x="2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834160" y="1090440"/>
            <a:ext cx="912600" cy="1256040"/>
          </a:xfrm>
          <a:custGeom>
            <a:avLst/>
            <a:gdLst/>
            <a:ahLst/>
            <a:rect l="l" t="t" r="r" b="b"/>
            <a:pathLst>
              <a:path w="575" h="791">
                <a:moveTo>
                  <a:pt x="328" y="615"/>
                </a:moveTo>
                <a:lnTo>
                  <a:pt x="575" y="471"/>
                </a:lnTo>
                <a:lnTo>
                  <a:pt x="575" y="471"/>
                </a:lnTo>
                <a:lnTo>
                  <a:pt x="575" y="0"/>
                </a:lnTo>
                <a:lnTo>
                  <a:pt x="575" y="0"/>
                </a:lnTo>
                <a:lnTo>
                  <a:pt x="0" y="0"/>
                </a:lnTo>
                <a:lnTo>
                  <a:pt x="0" y="0"/>
                </a:lnTo>
                <a:lnTo>
                  <a:pt x="0" y="471"/>
                </a:lnTo>
                <a:lnTo>
                  <a:pt x="0" y="471"/>
                </a:lnTo>
                <a:lnTo>
                  <a:pt x="256" y="615"/>
                </a:lnTo>
                <a:lnTo>
                  <a:pt x="256" y="615"/>
                </a:lnTo>
                <a:lnTo>
                  <a:pt x="256" y="791"/>
                </a:lnTo>
                <a:lnTo>
                  <a:pt x="256" y="791"/>
                </a:lnTo>
                <a:lnTo>
                  <a:pt x="328" y="791"/>
                </a:lnTo>
                <a:lnTo>
                  <a:pt x="328" y="791"/>
                </a:lnTo>
                <a:lnTo>
                  <a:pt x="328" y="615"/>
                </a:lnTo>
                <a:lnTo>
                  <a:pt x="328" y="615"/>
                </a:lnTo>
                <a:lnTo>
                  <a:pt x="575" y="471"/>
                </a:lnTo>
                <a:lnTo>
                  <a:pt x="575" y="0"/>
                </a:lnTo>
                <a:lnTo>
                  <a:pt x="0" y="0"/>
                </a:lnTo>
                <a:lnTo>
                  <a:pt x="0" y="471"/>
                </a:lnTo>
                <a:lnTo>
                  <a:pt x="256" y="615"/>
                </a:lnTo>
                <a:lnTo>
                  <a:pt x="256" y="791"/>
                </a:lnTo>
                <a:lnTo>
                  <a:pt x="328" y="791"/>
                </a:lnTo>
                <a:lnTo>
                  <a:pt x="328" y="615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087960" y="2181240"/>
            <a:ext cx="406440" cy="165240"/>
          </a:xfrm>
          <a:custGeom>
            <a:avLst/>
            <a:gdLst/>
            <a:ahLst/>
            <a:rect l="l" t="t" r="r" b="b"/>
            <a:pathLst>
              <a:path w="256" h="104">
                <a:moveTo>
                  <a:pt x="256" y="0"/>
                </a:moveTo>
                <a:lnTo>
                  <a:pt x="256" y="104"/>
                </a:lnTo>
                <a:lnTo>
                  <a:pt x="256" y="104"/>
                </a:lnTo>
                <a:lnTo>
                  <a:pt x="0" y="0"/>
                </a:lnTo>
                <a:lnTo>
                  <a:pt x="0" y="0"/>
                </a:lnTo>
                <a:lnTo>
                  <a:pt x="0" y="104"/>
                </a:lnTo>
                <a:lnTo>
                  <a:pt x="0" y="104"/>
                </a:lnTo>
                <a:lnTo>
                  <a:pt x="256" y="0"/>
                </a:lnTo>
                <a:lnTo>
                  <a:pt x="256" y="0"/>
                </a:lnTo>
                <a:lnTo>
                  <a:pt x="256" y="104"/>
                </a:lnTo>
                <a:lnTo>
                  <a:pt x="0" y="0"/>
                </a:lnTo>
                <a:lnTo>
                  <a:pt x="0" y="104"/>
                </a:lnTo>
                <a:lnTo>
                  <a:pt x="256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1" name=""/>
          <p:cNvGrpSpPr/>
          <p:nvPr/>
        </p:nvGrpSpPr>
        <p:grpSpPr>
          <a:xfrm>
            <a:off x="6545160" y="2232000"/>
            <a:ext cx="468360" cy="127080"/>
            <a:chOff x="6545160" y="2232000"/>
            <a:chExt cx="468360" cy="127080"/>
          </a:xfrm>
        </p:grpSpPr>
        <p:grpSp>
          <p:nvGrpSpPr>
            <p:cNvPr id="1442" name=""/>
            <p:cNvGrpSpPr/>
            <p:nvPr/>
          </p:nvGrpSpPr>
          <p:grpSpPr>
            <a:xfrm>
              <a:off x="6545160" y="2232000"/>
              <a:ext cx="341280" cy="101520"/>
              <a:chOff x="6545160" y="2232000"/>
              <a:chExt cx="341280" cy="101520"/>
            </a:xfrm>
          </p:grpSpPr>
          <p:sp>
            <p:nvSpPr>
              <p:cNvPr id="1443" name=""/>
              <p:cNvSpPr/>
              <p:nvPr/>
            </p:nvSpPr>
            <p:spPr>
              <a:xfrm>
                <a:off x="6545160" y="2232000"/>
                <a:ext cx="138240" cy="101520"/>
              </a:xfrm>
              <a:custGeom>
                <a:avLst/>
                <a:gdLst/>
                <a:ahLst/>
                <a:rect l="l" t="t" r="r" b="b"/>
                <a:pathLst>
                  <a:path w="87" h="64">
                    <a:moveTo>
                      <a:pt x="0" y="32"/>
                    </a:moveTo>
                    <a:lnTo>
                      <a:pt x="87" y="0"/>
                    </a:lnTo>
                    <a:lnTo>
                      <a:pt x="87" y="32"/>
                    </a:lnTo>
                    <a:lnTo>
                      <a:pt x="87" y="6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6683400" y="2282760"/>
                <a:ext cx="203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5" name=""/>
            <p:cNvGrpSpPr/>
            <p:nvPr/>
          </p:nvGrpSpPr>
          <p:grpSpPr>
            <a:xfrm>
              <a:off x="6835680" y="2232000"/>
              <a:ext cx="177840" cy="127080"/>
              <a:chOff x="6835680" y="2232000"/>
              <a:chExt cx="177840" cy="127080"/>
            </a:xfrm>
          </p:grpSpPr>
          <p:sp>
            <p:nvSpPr>
              <p:cNvPr id="1446" name=""/>
              <p:cNvSpPr/>
              <p:nvPr/>
            </p:nvSpPr>
            <p:spPr>
              <a:xfrm>
                <a:off x="6835680" y="2232000"/>
                <a:ext cx="76320" cy="127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6861240" y="2232000"/>
                <a:ext cx="101520" cy="114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6861240" y="2232000"/>
                <a:ext cx="101520" cy="114480"/>
              </a:xfrm>
              <a:custGeom>
                <a:avLst/>
                <a:gdLst/>
                <a:ahLst/>
                <a:rect l="l" t="t" r="r" b="b"/>
                <a:pathLst>
                  <a:path w="64" h="72">
                    <a:moveTo>
                      <a:pt x="0" y="0"/>
                    </a:moveTo>
                    <a:lnTo>
                      <a:pt x="64" y="0"/>
                    </a:lnTo>
                    <a:lnTo>
                      <a:pt x="64" y="0"/>
                    </a:lnTo>
                    <a:lnTo>
                      <a:pt x="64" y="72"/>
                    </a:lnTo>
                    <a:lnTo>
                      <a:pt x="64" y="72"/>
                    </a:lnTo>
                    <a:lnTo>
                      <a:pt x="0" y="72"/>
                    </a:lnTo>
                    <a:lnTo>
                      <a:pt x="0" y="7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6861240" y="2232000"/>
                <a:ext cx="101520" cy="114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6937200" y="2232000"/>
                <a:ext cx="76320" cy="127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1" name=""/>
          <p:cNvSpPr/>
          <p:nvPr/>
        </p:nvSpPr>
        <p:spPr>
          <a:xfrm flipH="1">
            <a:off x="761760" y="2941560"/>
            <a:ext cx="6391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3981960" y="4043520"/>
            <a:ext cx="495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s “1” as long as the tag of the vehicle (1cm) is over the senso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3" name=""/>
          <p:cNvGrpSpPr/>
          <p:nvPr/>
        </p:nvGrpSpPr>
        <p:grpSpPr>
          <a:xfrm>
            <a:off x="5897520" y="3664080"/>
            <a:ext cx="279360" cy="277560"/>
            <a:chOff x="5897520" y="3664080"/>
            <a:chExt cx="279360" cy="277560"/>
          </a:xfrm>
        </p:grpSpPr>
        <p:sp>
          <p:nvSpPr>
            <p:cNvPr id="1454" name=""/>
            <p:cNvSpPr/>
            <p:nvPr/>
          </p:nvSpPr>
          <p:spPr>
            <a:xfrm>
              <a:off x="6049800" y="3664080"/>
              <a:ext cx="127080" cy="125280"/>
            </a:xfrm>
            <a:custGeom>
              <a:avLst/>
              <a:gdLst/>
              <a:ahLst/>
              <a:rect l="l" t="t" r="r" b="b"/>
              <a:pathLst>
                <a:path w="80" h="79">
                  <a:moveTo>
                    <a:pt x="80" y="0"/>
                  </a:moveTo>
                  <a:lnTo>
                    <a:pt x="0" y="40"/>
                  </a:lnTo>
                  <a:lnTo>
                    <a:pt x="16" y="56"/>
                  </a:lnTo>
                  <a:lnTo>
                    <a:pt x="40" y="79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V="1">
              <a:off x="5897520" y="3753000"/>
              <a:ext cx="177840" cy="18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6" name=""/>
          <p:cNvGrpSpPr/>
          <p:nvPr/>
        </p:nvGrpSpPr>
        <p:grpSpPr>
          <a:xfrm>
            <a:off x="5668920" y="3664080"/>
            <a:ext cx="228240" cy="277560"/>
            <a:chOff x="5668920" y="3664080"/>
            <a:chExt cx="228240" cy="277560"/>
          </a:xfrm>
        </p:grpSpPr>
        <p:sp>
          <p:nvSpPr>
            <p:cNvPr id="1457" name=""/>
            <p:cNvSpPr/>
            <p:nvPr/>
          </p:nvSpPr>
          <p:spPr>
            <a:xfrm>
              <a:off x="5668920" y="3664080"/>
              <a:ext cx="114480" cy="125280"/>
            </a:xfrm>
            <a:custGeom>
              <a:avLst/>
              <a:gdLst/>
              <a:ahLst/>
              <a:rect l="l" t="t" r="r" b="b"/>
              <a:pathLst>
                <a:path w="72" h="79">
                  <a:moveTo>
                    <a:pt x="0" y="0"/>
                  </a:moveTo>
                  <a:lnTo>
                    <a:pt x="32" y="79"/>
                  </a:lnTo>
                  <a:lnTo>
                    <a:pt x="48" y="63"/>
                  </a:lnTo>
                  <a:lnTo>
                    <a:pt x="72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H="1" flipV="1">
              <a:off x="5744880" y="3763800"/>
              <a:ext cx="1522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9" name=""/>
          <p:cNvSpPr/>
          <p:nvPr/>
        </p:nvSpPr>
        <p:spPr>
          <a:xfrm>
            <a:off x="7129080" y="2193840"/>
            <a:ext cx="24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er = {0: closed; 1: open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442120" y="3030480"/>
            <a:ext cx="125280" cy="745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240600" y="3030480"/>
            <a:ext cx="126720" cy="745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611360" y="3030480"/>
            <a:ext cx="127080" cy="18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406520" y="327024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409840" y="3030480"/>
            <a:ext cx="127080" cy="18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2535480" y="327024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611360" y="2979720"/>
            <a:ext cx="12708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409840" y="2979720"/>
            <a:ext cx="12708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1332000" y="2409840"/>
            <a:ext cx="698400" cy="519120"/>
            <a:chOff x="1332000" y="2409840"/>
            <a:chExt cx="698400" cy="519120"/>
          </a:xfrm>
        </p:grpSpPr>
        <p:sp>
          <p:nvSpPr>
            <p:cNvPr id="1469" name=""/>
            <p:cNvSpPr/>
            <p:nvPr/>
          </p:nvSpPr>
          <p:spPr>
            <a:xfrm>
              <a:off x="1332000" y="2573280"/>
              <a:ext cx="698400" cy="241200"/>
            </a:xfrm>
            <a:prstGeom prst="rect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839960" y="2801880"/>
              <a:ext cx="127080" cy="127080"/>
            </a:xfrm>
            <a:prstGeom prst="ellipse">
              <a:avLst/>
            </a:pr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382760" y="2801880"/>
              <a:ext cx="127080" cy="127080"/>
            </a:xfrm>
            <a:prstGeom prst="ellipse">
              <a:avLst/>
            </a:pr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611360" y="2801880"/>
              <a:ext cx="127080" cy="76320"/>
            </a:xfrm>
            <a:prstGeom prst="rect">
              <a:avLst/>
            </a:pr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332000" y="2409840"/>
              <a:ext cx="685800" cy="163440"/>
            </a:xfrm>
            <a:custGeom>
              <a:avLst/>
              <a:gdLst/>
              <a:ahLst/>
              <a:rect l="l" t="t" r="r" b="b"/>
              <a:pathLst>
                <a:path w="432" h="103">
                  <a:moveTo>
                    <a:pt x="43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72" y="103"/>
                  </a:lnTo>
                  <a:lnTo>
                    <a:pt x="72" y="103"/>
                  </a:lnTo>
                  <a:lnTo>
                    <a:pt x="360" y="103"/>
                  </a:lnTo>
                  <a:lnTo>
                    <a:pt x="360" y="103"/>
                  </a:lnTo>
                  <a:lnTo>
                    <a:pt x="432" y="0"/>
                  </a:lnTo>
                  <a:lnTo>
                    <a:pt x="432" y="0"/>
                  </a:lnTo>
                  <a:lnTo>
                    <a:pt x="0" y="0"/>
                  </a:lnTo>
                  <a:lnTo>
                    <a:pt x="72" y="103"/>
                  </a:lnTo>
                  <a:lnTo>
                    <a:pt x="360" y="103"/>
                  </a:lnTo>
                  <a:lnTo>
                    <a:pt x="432" y="0"/>
                  </a:ln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4" name=""/>
          <p:cNvSpPr/>
          <p:nvPr/>
        </p:nvSpPr>
        <p:spPr>
          <a:xfrm>
            <a:off x="530640" y="74916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abl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521640" y="938160"/>
            <a:ext cx="184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: In0, In1, In2, In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30280" y="1128600"/>
            <a:ext cx="58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7" name=""/>
          <p:cNvGrpSpPr/>
          <p:nvPr/>
        </p:nvGrpSpPr>
        <p:grpSpPr>
          <a:xfrm>
            <a:off x="5948280" y="2409840"/>
            <a:ext cx="696960" cy="519120"/>
            <a:chOff x="5948280" y="2409840"/>
            <a:chExt cx="696960" cy="519120"/>
          </a:xfrm>
        </p:grpSpPr>
        <p:sp>
          <p:nvSpPr>
            <p:cNvPr id="1478" name=""/>
            <p:cNvSpPr/>
            <p:nvPr/>
          </p:nvSpPr>
          <p:spPr>
            <a:xfrm>
              <a:off x="5948280" y="2573280"/>
              <a:ext cx="696960" cy="241200"/>
            </a:xfrm>
            <a:prstGeom prst="rect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469200" y="2801880"/>
              <a:ext cx="126720" cy="127080"/>
            </a:xfrm>
            <a:prstGeom prst="ellipse">
              <a:avLst/>
            </a:pr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012000" y="2801880"/>
              <a:ext cx="126720" cy="127080"/>
            </a:xfrm>
            <a:prstGeom prst="ellipse">
              <a:avLst/>
            </a:pr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240600" y="2801880"/>
              <a:ext cx="126720" cy="76320"/>
            </a:xfrm>
            <a:prstGeom prst="rect">
              <a:avLst/>
            </a:pr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948280" y="2409840"/>
              <a:ext cx="685800" cy="163440"/>
            </a:xfrm>
            <a:custGeom>
              <a:avLst/>
              <a:gdLst/>
              <a:ahLst/>
              <a:rect l="l" t="t" r="r" b="b"/>
              <a:pathLst>
                <a:path w="432" h="103">
                  <a:moveTo>
                    <a:pt x="43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72" y="103"/>
                  </a:lnTo>
                  <a:lnTo>
                    <a:pt x="72" y="103"/>
                  </a:lnTo>
                  <a:lnTo>
                    <a:pt x="360" y="103"/>
                  </a:lnTo>
                  <a:lnTo>
                    <a:pt x="360" y="103"/>
                  </a:lnTo>
                  <a:lnTo>
                    <a:pt x="432" y="0"/>
                  </a:lnTo>
                  <a:lnTo>
                    <a:pt x="432" y="0"/>
                  </a:lnTo>
                  <a:lnTo>
                    <a:pt x="0" y="0"/>
                  </a:lnTo>
                  <a:lnTo>
                    <a:pt x="72" y="103"/>
                  </a:lnTo>
                  <a:lnTo>
                    <a:pt x="360" y="103"/>
                  </a:lnTo>
                  <a:lnTo>
                    <a:pt x="432" y="0"/>
                  </a:ln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3" name=""/>
          <p:cNvGrpSpPr/>
          <p:nvPr/>
        </p:nvGrpSpPr>
        <p:grpSpPr>
          <a:xfrm>
            <a:off x="6634080" y="2573280"/>
            <a:ext cx="519120" cy="343080"/>
            <a:chOff x="6634080" y="2573280"/>
            <a:chExt cx="519120" cy="343080"/>
          </a:xfrm>
        </p:grpSpPr>
        <p:sp>
          <p:nvSpPr>
            <p:cNvPr id="1484" name=""/>
            <p:cNvSpPr/>
            <p:nvPr/>
          </p:nvSpPr>
          <p:spPr>
            <a:xfrm>
              <a:off x="6696000" y="2637000"/>
              <a:ext cx="63720" cy="126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634080" y="2573280"/>
              <a:ext cx="74520" cy="190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746760" y="2637000"/>
              <a:ext cx="406440" cy="279360"/>
            </a:xfrm>
            <a:custGeom>
              <a:avLst/>
              <a:gdLst/>
              <a:ahLst/>
              <a:rect l="l" t="t" r="r" b="b"/>
              <a:pathLst>
                <a:path w="256" h="176">
                  <a:moveTo>
                    <a:pt x="0" y="17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256" y="144"/>
                  </a:lnTo>
                  <a:lnTo>
                    <a:pt x="256" y="144"/>
                  </a:lnTo>
                  <a:lnTo>
                    <a:pt x="256" y="176"/>
                  </a:lnTo>
                  <a:lnTo>
                    <a:pt x="256" y="176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0" y="0"/>
                  </a:lnTo>
                  <a:lnTo>
                    <a:pt x="112" y="0"/>
                  </a:lnTo>
                  <a:lnTo>
                    <a:pt x="256" y="144"/>
                  </a:lnTo>
                  <a:lnTo>
                    <a:pt x="256" y="176"/>
                  </a:lnTo>
                  <a:lnTo>
                    <a:pt x="0" y="176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7" name=""/>
          <p:cNvGrpSpPr/>
          <p:nvPr/>
        </p:nvGrpSpPr>
        <p:grpSpPr>
          <a:xfrm>
            <a:off x="812880" y="2573280"/>
            <a:ext cx="519120" cy="343080"/>
            <a:chOff x="812880" y="2573280"/>
            <a:chExt cx="519120" cy="343080"/>
          </a:xfrm>
        </p:grpSpPr>
        <p:sp>
          <p:nvSpPr>
            <p:cNvPr id="1488" name=""/>
            <p:cNvSpPr/>
            <p:nvPr/>
          </p:nvSpPr>
          <p:spPr>
            <a:xfrm>
              <a:off x="1204920" y="2637000"/>
              <a:ext cx="76320" cy="126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268280" y="2573280"/>
              <a:ext cx="63720" cy="190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812880" y="2637000"/>
              <a:ext cx="392040" cy="279360"/>
            </a:xfrm>
            <a:custGeom>
              <a:avLst/>
              <a:gdLst/>
              <a:ahLst/>
              <a:rect l="l" t="t" r="r" b="b"/>
              <a:pathLst>
                <a:path w="247" h="176">
                  <a:moveTo>
                    <a:pt x="247" y="176"/>
                  </a:moveTo>
                  <a:lnTo>
                    <a:pt x="247" y="0"/>
                  </a:lnTo>
                  <a:lnTo>
                    <a:pt x="247" y="0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247" y="176"/>
                  </a:lnTo>
                  <a:lnTo>
                    <a:pt x="247" y="176"/>
                  </a:lnTo>
                  <a:lnTo>
                    <a:pt x="247" y="0"/>
                  </a:lnTo>
                  <a:lnTo>
                    <a:pt x="143" y="0"/>
                  </a:lnTo>
                  <a:lnTo>
                    <a:pt x="0" y="144"/>
                  </a:lnTo>
                  <a:lnTo>
                    <a:pt x="0" y="176"/>
                  </a:lnTo>
                  <a:lnTo>
                    <a:pt x="247" y="176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1" name=""/>
          <p:cNvSpPr/>
          <p:nvPr/>
        </p:nvSpPr>
        <p:spPr>
          <a:xfrm>
            <a:off x="1154160" y="3714840"/>
            <a:ext cx="1027080" cy="455400"/>
          </a:xfrm>
          <a:custGeom>
            <a:avLst/>
            <a:gdLst/>
            <a:ahLst/>
            <a:rect l="l" t="t" r="r" b="b"/>
            <a:pathLst>
              <a:path w="647" h="287">
                <a:moveTo>
                  <a:pt x="0" y="0"/>
                </a:moveTo>
                <a:lnTo>
                  <a:pt x="647" y="0"/>
                </a:lnTo>
                <a:lnTo>
                  <a:pt x="647" y="0"/>
                </a:lnTo>
                <a:lnTo>
                  <a:pt x="504" y="143"/>
                </a:lnTo>
                <a:lnTo>
                  <a:pt x="504" y="143"/>
                </a:lnTo>
                <a:lnTo>
                  <a:pt x="504" y="287"/>
                </a:lnTo>
                <a:lnTo>
                  <a:pt x="504" y="287"/>
                </a:lnTo>
                <a:lnTo>
                  <a:pt x="144" y="287"/>
                </a:lnTo>
                <a:lnTo>
                  <a:pt x="144" y="287"/>
                </a:lnTo>
                <a:lnTo>
                  <a:pt x="144" y="143"/>
                </a:lnTo>
                <a:lnTo>
                  <a:pt x="144" y="143"/>
                </a:lnTo>
                <a:lnTo>
                  <a:pt x="0" y="0"/>
                </a:lnTo>
                <a:lnTo>
                  <a:pt x="0" y="0"/>
                </a:lnTo>
                <a:lnTo>
                  <a:pt x="647" y="0"/>
                </a:lnTo>
                <a:lnTo>
                  <a:pt x="504" y="143"/>
                </a:lnTo>
                <a:lnTo>
                  <a:pt x="504" y="287"/>
                </a:lnTo>
                <a:lnTo>
                  <a:pt x="144" y="287"/>
                </a:lnTo>
                <a:lnTo>
                  <a:pt x="144" y="143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2" name=""/>
          <p:cNvGrpSpPr/>
          <p:nvPr/>
        </p:nvGrpSpPr>
        <p:grpSpPr>
          <a:xfrm>
            <a:off x="3500280" y="2409840"/>
            <a:ext cx="698760" cy="519120"/>
            <a:chOff x="3500280" y="2409840"/>
            <a:chExt cx="698760" cy="519120"/>
          </a:xfrm>
        </p:grpSpPr>
        <p:sp>
          <p:nvSpPr>
            <p:cNvPr id="1493" name=""/>
            <p:cNvSpPr/>
            <p:nvPr/>
          </p:nvSpPr>
          <p:spPr>
            <a:xfrm>
              <a:off x="3500280" y="2573280"/>
              <a:ext cx="698760" cy="24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008600" y="2801880"/>
              <a:ext cx="126720" cy="12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551400" y="2801880"/>
              <a:ext cx="126720" cy="12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780000" y="2801880"/>
              <a:ext cx="126720" cy="76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500280" y="2409840"/>
              <a:ext cx="685800" cy="163440"/>
            </a:xfrm>
            <a:custGeom>
              <a:avLst/>
              <a:gdLst/>
              <a:ahLst/>
              <a:rect l="l" t="t" r="r" b="b"/>
              <a:pathLst>
                <a:path w="432" h="103">
                  <a:moveTo>
                    <a:pt x="43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72" y="103"/>
                  </a:lnTo>
                  <a:lnTo>
                    <a:pt x="72" y="103"/>
                  </a:lnTo>
                  <a:lnTo>
                    <a:pt x="360" y="103"/>
                  </a:lnTo>
                  <a:lnTo>
                    <a:pt x="360" y="103"/>
                  </a:lnTo>
                  <a:lnTo>
                    <a:pt x="432" y="0"/>
                  </a:lnTo>
                  <a:lnTo>
                    <a:pt x="432" y="0"/>
                  </a:lnTo>
                  <a:lnTo>
                    <a:pt x="0" y="0"/>
                  </a:lnTo>
                  <a:lnTo>
                    <a:pt x="72" y="103"/>
                  </a:lnTo>
                  <a:lnTo>
                    <a:pt x="360" y="103"/>
                  </a:lnTo>
                  <a:lnTo>
                    <a:pt x="43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8" name=""/>
          <p:cNvSpPr/>
          <p:nvPr/>
        </p:nvSpPr>
        <p:spPr>
          <a:xfrm>
            <a:off x="5834160" y="812880"/>
            <a:ext cx="925560" cy="29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382760" y="4056120"/>
            <a:ext cx="584280" cy="3049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0" name=""/>
          <p:cNvGrpSpPr/>
          <p:nvPr/>
        </p:nvGrpSpPr>
        <p:grpSpPr>
          <a:xfrm>
            <a:off x="4351320" y="2700360"/>
            <a:ext cx="519120" cy="88920"/>
            <a:chOff x="4351320" y="2700360"/>
            <a:chExt cx="519120" cy="88920"/>
          </a:xfrm>
        </p:grpSpPr>
        <p:sp>
          <p:nvSpPr>
            <p:cNvPr id="1501" name=""/>
            <p:cNvSpPr/>
            <p:nvPr/>
          </p:nvSpPr>
          <p:spPr>
            <a:xfrm>
              <a:off x="4718160" y="2700360"/>
              <a:ext cx="152280" cy="88920"/>
            </a:xfrm>
            <a:custGeom>
              <a:avLst/>
              <a:gdLst/>
              <a:ahLst/>
              <a:rect l="l" t="t" r="r" b="b"/>
              <a:pathLst>
                <a:path w="96" h="56">
                  <a:moveTo>
                    <a:pt x="96" y="32"/>
                  </a:moveTo>
                  <a:lnTo>
                    <a:pt x="0" y="56"/>
                  </a:lnTo>
                  <a:lnTo>
                    <a:pt x="0" y="32"/>
                  </a:lnTo>
                  <a:lnTo>
                    <a:pt x="0" y="0"/>
                  </a:lnTo>
                  <a:lnTo>
                    <a:pt x="9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351320" y="2751120"/>
              <a:ext cx="366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3" name=""/>
          <p:cNvSpPr/>
          <p:nvPr/>
        </p:nvSpPr>
        <p:spPr>
          <a:xfrm>
            <a:off x="4208040" y="2484360"/>
            <a:ext cx="590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sp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1674720" y="3435480"/>
            <a:ext cx="798480" cy="101520"/>
            <a:chOff x="1674720" y="3435480"/>
            <a:chExt cx="798480" cy="101520"/>
          </a:xfrm>
        </p:grpSpPr>
        <p:sp>
          <p:nvSpPr>
            <p:cNvPr id="1505" name=""/>
            <p:cNvSpPr/>
            <p:nvPr/>
          </p:nvSpPr>
          <p:spPr>
            <a:xfrm>
              <a:off x="2320920" y="3435480"/>
              <a:ext cx="152280" cy="101520"/>
            </a:xfrm>
            <a:custGeom>
              <a:avLst/>
              <a:gdLst/>
              <a:ahLst/>
              <a:rect l="l" t="t" r="r" b="b"/>
              <a:pathLst>
                <a:path w="96" h="64">
                  <a:moveTo>
                    <a:pt x="96" y="32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64"/>
                  </a:lnTo>
                  <a:lnTo>
                    <a:pt x="9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674720" y="3435480"/>
              <a:ext cx="139680" cy="101520"/>
            </a:xfrm>
            <a:custGeom>
              <a:avLst/>
              <a:gdLst/>
              <a:ahLst/>
              <a:rect l="l" t="t" r="r" b="b"/>
              <a:pathLst>
                <a:path w="88" h="64">
                  <a:moveTo>
                    <a:pt x="0" y="32"/>
                  </a:moveTo>
                  <a:lnTo>
                    <a:pt x="88" y="64"/>
                  </a:lnTo>
                  <a:lnTo>
                    <a:pt x="88" y="32"/>
                  </a:lnTo>
                  <a:lnTo>
                    <a:pt x="88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H="1">
              <a:off x="1814040" y="3486240"/>
              <a:ext cx="506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8" name=""/>
          <p:cNvSpPr/>
          <p:nvPr/>
        </p:nvSpPr>
        <p:spPr>
          <a:xfrm>
            <a:off x="2473200" y="3092400"/>
            <a:ext cx="180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1674720" y="3092400"/>
            <a:ext cx="180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903960" y="1371600"/>
            <a:ext cx="2102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p = {0: closed; 1: open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533520" y="2295360"/>
            <a:ext cx="798480" cy="962280"/>
          </a:xfrm>
          <a:custGeom>
            <a:avLst/>
            <a:gdLst/>
            <a:ahLst/>
            <a:rect l="l" t="t" r="r" b="b"/>
            <a:pathLst>
              <a:path w="503" h="606">
                <a:moveTo>
                  <a:pt x="0" y="0"/>
                </a:moveTo>
                <a:lnTo>
                  <a:pt x="0" y="606"/>
                </a:lnTo>
                <a:lnTo>
                  <a:pt x="0" y="606"/>
                </a:lnTo>
                <a:lnTo>
                  <a:pt x="248" y="606"/>
                </a:lnTo>
                <a:lnTo>
                  <a:pt x="248" y="606"/>
                </a:lnTo>
                <a:lnTo>
                  <a:pt x="503" y="463"/>
                </a:lnTo>
                <a:lnTo>
                  <a:pt x="503" y="46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533520" y="2295360"/>
            <a:ext cx="798480" cy="962280"/>
          </a:xfrm>
          <a:custGeom>
            <a:avLst/>
            <a:gdLst/>
            <a:ahLst/>
            <a:rect l="l" t="t" r="r" b="b"/>
            <a:pathLst>
              <a:path w="503" h="606">
                <a:moveTo>
                  <a:pt x="0" y="0"/>
                </a:moveTo>
                <a:lnTo>
                  <a:pt x="0" y="606"/>
                </a:lnTo>
                <a:lnTo>
                  <a:pt x="248" y="606"/>
                </a:lnTo>
                <a:lnTo>
                  <a:pt x="503" y="46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3" name=""/>
          <p:cNvGrpSpPr/>
          <p:nvPr/>
        </p:nvGrpSpPr>
        <p:grpSpPr>
          <a:xfrm>
            <a:off x="927000" y="3030480"/>
            <a:ext cx="405000" cy="227160"/>
            <a:chOff x="927000" y="3030480"/>
            <a:chExt cx="405000" cy="227160"/>
          </a:xfrm>
        </p:grpSpPr>
        <p:sp>
          <p:nvSpPr>
            <p:cNvPr id="1514" name=""/>
            <p:cNvSpPr/>
            <p:nvPr/>
          </p:nvSpPr>
          <p:spPr>
            <a:xfrm>
              <a:off x="1179360" y="3030480"/>
              <a:ext cx="152640" cy="112680"/>
            </a:xfrm>
            <a:custGeom>
              <a:avLst/>
              <a:gdLst/>
              <a:ahLst/>
              <a:rect l="l" t="t" r="r" b="b"/>
              <a:pathLst>
                <a:path w="96" h="71">
                  <a:moveTo>
                    <a:pt x="96" y="0"/>
                  </a:moveTo>
                  <a:lnTo>
                    <a:pt x="32" y="71"/>
                  </a:lnTo>
                  <a:lnTo>
                    <a:pt x="16" y="47"/>
                  </a:lnTo>
                  <a:lnTo>
                    <a:pt x="0" y="16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V="1">
              <a:off x="927000" y="3105000"/>
              <a:ext cx="2779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6" name=""/>
          <p:cNvSpPr/>
          <p:nvPr/>
        </p:nvSpPr>
        <p:spPr>
          <a:xfrm>
            <a:off x="902880" y="1752480"/>
            <a:ext cx="24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er = {0: closed; 1: open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d4"/>
                </a:solidFill>
                <a:latin typeface="Arial"/>
              </a:rPr>
              <a:t>Wagon SFC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pic>
        <p:nvPicPr>
          <p:cNvPr id="1518" name="Wagons" descr=""/>
          <p:cNvPicPr/>
          <p:nvPr/>
        </p:nvPicPr>
        <p:blipFill>
          <a:blip r:embed="rId1"/>
          <a:stretch/>
        </p:blipFill>
        <p:spPr>
          <a:xfrm>
            <a:off x="3376440" y="995400"/>
            <a:ext cx="31528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Complex structures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799200" y="5173560"/>
            <a:ext cx="3477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s with general network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799560" y="5491080"/>
            <a:ext cx="1207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802080" y="5808600"/>
            <a:ext cx="3424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ontrolled token multi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4216320" y="2070000"/>
            <a:ext cx="0" cy="254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3835440" y="2387520"/>
            <a:ext cx="0" cy="6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4610160" y="2387520"/>
            <a:ext cx="0" cy="6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835440" y="2857680"/>
            <a:ext cx="776160" cy="306360"/>
          </a:xfrm>
          <a:custGeom>
            <a:avLst/>
            <a:gdLst/>
            <a:ahLst/>
            <a:rect l="l" t="t" r="r" b="b"/>
            <a:pathLst>
              <a:path w="489" h="193">
                <a:moveTo>
                  <a:pt x="0" y="0"/>
                </a:moveTo>
                <a:lnTo>
                  <a:pt x="0" y="192"/>
                </a:lnTo>
                <a:lnTo>
                  <a:pt x="488" y="192"/>
                </a:lnTo>
                <a:lnTo>
                  <a:pt x="488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4025880" y="316224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4025880" y="3645000"/>
            <a:ext cx="0" cy="8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3645000" y="3746520"/>
            <a:ext cx="776160" cy="293760"/>
          </a:xfrm>
          <a:custGeom>
            <a:avLst/>
            <a:gdLst/>
            <a:ahLst/>
            <a:rect l="l" t="t" r="r" b="b"/>
            <a:pathLst>
              <a:path w="489" h="185">
                <a:moveTo>
                  <a:pt x="0" y="0"/>
                </a:moveTo>
                <a:lnTo>
                  <a:pt x="488" y="0"/>
                </a:lnTo>
                <a:lnTo>
                  <a:pt x="488" y="18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3645000" y="3746520"/>
            <a:ext cx="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645000" y="4432320"/>
            <a:ext cx="0" cy="8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4419720" y="4432320"/>
            <a:ext cx="0" cy="8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3060720" y="2743200"/>
            <a:ext cx="776160" cy="2097000"/>
          </a:xfrm>
          <a:custGeom>
            <a:avLst/>
            <a:gdLst/>
            <a:ahLst/>
            <a:rect l="l" t="t" r="r" b="b"/>
            <a:pathLst>
              <a:path w="489" h="1321">
                <a:moveTo>
                  <a:pt x="488" y="1152"/>
                </a:moveTo>
                <a:lnTo>
                  <a:pt x="488" y="1320"/>
                </a:lnTo>
                <a:lnTo>
                  <a:pt x="0" y="132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060720" y="1486080"/>
            <a:ext cx="1068480" cy="2071440"/>
          </a:xfrm>
          <a:custGeom>
            <a:avLst/>
            <a:gdLst/>
            <a:ahLst/>
            <a:rect l="l" t="t" r="r" b="b"/>
            <a:pathLst>
              <a:path w="673" h="1305">
                <a:moveTo>
                  <a:pt x="0" y="1304"/>
                </a:moveTo>
                <a:lnTo>
                  <a:pt x="0" y="0"/>
                </a:lnTo>
                <a:lnTo>
                  <a:pt x="672" y="0"/>
                </a:lnTo>
                <a:lnTo>
                  <a:pt x="672" y="12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4317840" y="1486080"/>
            <a:ext cx="1258920" cy="1182600"/>
          </a:xfrm>
          <a:custGeom>
            <a:avLst/>
            <a:gdLst/>
            <a:ahLst/>
            <a:rect l="l" t="t" r="r" b="b"/>
            <a:pathLst>
              <a:path w="793" h="745">
                <a:moveTo>
                  <a:pt x="552" y="576"/>
                </a:moveTo>
                <a:lnTo>
                  <a:pt x="552" y="744"/>
                </a:lnTo>
                <a:lnTo>
                  <a:pt x="792" y="744"/>
                </a:lnTo>
                <a:lnTo>
                  <a:pt x="792" y="0"/>
                </a:lnTo>
                <a:lnTo>
                  <a:pt x="0" y="0"/>
                </a:lnTo>
                <a:lnTo>
                  <a:pt x="0" y="12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127400" y="2209680"/>
            <a:ext cx="1778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3733920" y="3009960"/>
            <a:ext cx="190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4508640" y="3009960"/>
            <a:ext cx="1778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3543480" y="3898800"/>
            <a:ext cx="177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4317840" y="3898800"/>
            <a:ext cx="1778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733920" y="4699080"/>
            <a:ext cx="190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3517920" y="4533840"/>
            <a:ext cx="1028520" cy="25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708360" y="2349360"/>
            <a:ext cx="1600200" cy="25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419720" y="2463840"/>
            <a:ext cx="38088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419720" y="2463840"/>
            <a:ext cx="38088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4457880" y="2514600"/>
            <a:ext cx="29196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4457880" y="2514600"/>
            <a:ext cx="291960" cy="291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025880" y="1676520"/>
            <a:ext cx="380880" cy="3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025880" y="1676520"/>
            <a:ext cx="380880" cy="39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4076640" y="1727280"/>
            <a:ext cx="29232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076640" y="1727280"/>
            <a:ext cx="292320" cy="291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3645000" y="2463840"/>
            <a:ext cx="38088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645000" y="2463840"/>
            <a:ext cx="38088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835440" y="3251160"/>
            <a:ext cx="38088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3835440" y="3251160"/>
            <a:ext cx="38088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3441600" y="4038480"/>
            <a:ext cx="39384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3441600" y="4038480"/>
            <a:ext cx="39384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4216320" y="4038480"/>
            <a:ext cx="39384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4216320" y="4038480"/>
            <a:ext cx="39384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43880" y="752400"/>
            <a:ext cx="745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general rules serve to build networks, termed by DIN and IEC 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631280" y="752400"/>
            <a:ext cx="1336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low cha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482360" y="5173560"/>
            <a:ext cx="1068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4483440" y="5491080"/>
            <a:ext cx="4279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ance through the flow chart edito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Analog building blocks for continuous control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65160" y="838080"/>
            <a:ext cx="139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sic 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97240" y="83808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48920" y="1143000"/>
            <a:ext cx="311868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mmator / Subtractor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ltiplier / Divider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rator / Differentiator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ter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nimal value, Maximum valu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dix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nction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5160" y="28893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37800" y="3230640"/>
            <a:ext cx="234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ulation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48560" y="3575160"/>
            <a:ext cx="3789360" cy="27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, PI, PID, PDT2 controller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xed set-poi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io and multi-component regul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ameter variation / setting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-point regul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-point regul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put value limit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mp generator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aptive regul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Building subprograms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5175360" y="888840"/>
            <a:ext cx="1440" cy="147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 flipV="1">
            <a:off x="6392880" y="3017520"/>
            <a:ext cx="1440" cy="290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7381800" y="1344600"/>
            <a:ext cx="1800" cy="569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469200" y="1344600"/>
            <a:ext cx="1440" cy="569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8218440" y="2865600"/>
            <a:ext cx="1800" cy="1747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848640" y="3359160"/>
            <a:ext cx="1440" cy="68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5935680" y="3359160"/>
            <a:ext cx="1440" cy="68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197160" y="3244680"/>
            <a:ext cx="1800" cy="91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598760" y="3244680"/>
            <a:ext cx="1440" cy="91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598760" y="1344600"/>
            <a:ext cx="1440" cy="569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565520" y="2903400"/>
            <a:ext cx="1800" cy="1735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351320" y="3143160"/>
            <a:ext cx="468360" cy="470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338720" y="3130560"/>
            <a:ext cx="493560" cy="495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351320" y="3941640"/>
            <a:ext cx="468360" cy="468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338720" y="3929040"/>
            <a:ext cx="493560" cy="493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464000" y="3714840"/>
            <a:ext cx="241200" cy="125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4451400" y="3701880"/>
            <a:ext cx="266760" cy="150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1496880" y="1585800"/>
            <a:ext cx="241560" cy="127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1484280" y="1573200"/>
            <a:ext cx="26676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1382760" y="3486240"/>
            <a:ext cx="469800" cy="468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1370160" y="3473280"/>
            <a:ext cx="495000" cy="49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2981160" y="3486240"/>
            <a:ext cx="46836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2968560" y="3473280"/>
            <a:ext cx="493920" cy="49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719680" y="3486240"/>
            <a:ext cx="470160" cy="468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707080" y="3473280"/>
            <a:ext cx="495360" cy="49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632640" y="3486240"/>
            <a:ext cx="469800" cy="468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620040" y="3473280"/>
            <a:ext cx="495000" cy="49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8002440" y="3257640"/>
            <a:ext cx="470160" cy="4698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7989840" y="3244680"/>
            <a:ext cx="495360" cy="49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392880" y="4043520"/>
            <a:ext cx="1440" cy="34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8218440" y="3814920"/>
            <a:ext cx="343080" cy="569880"/>
          </a:xfrm>
          <a:custGeom>
            <a:avLst/>
            <a:gdLst/>
            <a:ahLst/>
            <a:rect l="l" t="t" r="r" b="b"/>
            <a:pathLst>
              <a:path w="216" h="359">
                <a:moveTo>
                  <a:pt x="0" y="0"/>
                </a:moveTo>
                <a:lnTo>
                  <a:pt x="216" y="0"/>
                </a:lnTo>
                <a:lnTo>
                  <a:pt x="216" y="35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8459640" y="4056120"/>
            <a:ext cx="239760" cy="127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8447040" y="4043520"/>
            <a:ext cx="26532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8561520" y="3017880"/>
            <a:ext cx="341280" cy="1366920"/>
          </a:xfrm>
          <a:custGeom>
            <a:avLst/>
            <a:gdLst/>
            <a:ahLst/>
            <a:rect l="l" t="t" r="r" b="b"/>
            <a:pathLst>
              <a:path w="215" h="861">
                <a:moveTo>
                  <a:pt x="0" y="861"/>
                </a:moveTo>
                <a:lnTo>
                  <a:pt x="215" y="861"/>
                </a:lnTo>
                <a:lnTo>
                  <a:pt x="215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9" name=""/>
          <p:cNvGrpSpPr/>
          <p:nvPr/>
        </p:nvGrpSpPr>
        <p:grpSpPr>
          <a:xfrm>
            <a:off x="8244000" y="2979720"/>
            <a:ext cx="658800" cy="101520"/>
            <a:chOff x="8244000" y="2979720"/>
            <a:chExt cx="658800" cy="101520"/>
          </a:xfrm>
        </p:grpSpPr>
        <p:sp>
          <p:nvSpPr>
            <p:cNvPr id="1600" name=""/>
            <p:cNvSpPr/>
            <p:nvPr/>
          </p:nvSpPr>
          <p:spPr>
            <a:xfrm>
              <a:off x="8244000" y="2979720"/>
              <a:ext cx="215640" cy="101520"/>
            </a:xfrm>
            <a:custGeom>
              <a:avLst/>
              <a:gdLst/>
              <a:ahLst/>
              <a:rect l="l" t="t" r="r" b="b"/>
              <a:pathLst>
                <a:path w="136" h="64">
                  <a:moveTo>
                    <a:pt x="0" y="32"/>
                  </a:moveTo>
                  <a:lnTo>
                    <a:pt x="136" y="0"/>
                  </a:lnTo>
                  <a:lnTo>
                    <a:pt x="136" y="32"/>
                  </a:lnTo>
                  <a:lnTo>
                    <a:pt x="136" y="6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>
              <a:off x="8447040" y="3017880"/>
              <a:ext cx="455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2" name=""/>
          <p:cNvSpPr/>
          <p:nvPr/>
        </p:nvSpPr>
        <p:spPr>
          <a:xfrm>
            <a:off x="5808600" y="3321000"/>
            <a:ext cx="1192320" cy="3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796000" y="3308400"/>
            <a:ext cx="1217520" cy="6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808600" y="4056120"/>
            <a:ext cx="1192320" cy="3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5796000" y="4043520"/>
            <a:ext cx="1217520" cy="6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728880" y="1230480"/>
            <a:ext cx="1800" cy="79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5073480" y="1117440"/>
            <a:ext cx="241560" cy="1256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5060880" y="1104840"/>
            <a:ext cx="266760" cy="150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6367320" y="1585800"/>
            <a:ext cx="239760" cy="127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6354720" y="1573200"/>
            <a:ext cx="26532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7280280" y="1585800"/>
            <a:ext cx="241200" cy="127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7267680" y="1573200"/>
            <a:ext cx="26676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H="1">
            <a:off x="6468840" y="1914480"/>
            <a:ext cx="9126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6924600" y="1914480"/>
            <a:ext cx="18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6469200" y="1344600"/>
            <a:ext cx="912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6924600" y="1117080"/>
            <a:ext cx="1800" cy="227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3589200" y="1662120"/>
            <a:ext cx="22860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 rot="10800000">
            <a:off x="2216160" y="3483360"/>
            <a:ext cx="383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 rot="10800000">
            <a:off x="2165400" y="1470600"/>
            <a:ext cx="383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3741480" y="3624120"/>
            <a:ext cx="40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5111280" y="3662280"/>
            <a:ext cx="40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4312440" y="1611360"/>
            <a:ext cx="31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5858640" y="1611360"/>
            <a:ext cx="31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09480" y="914400"/>
            <a:ext cx="107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-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09480" y="2895480"/>
            <a:ext cx="109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-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593440" y="4689360"/>
            <a:ext cx="49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210840" y="468936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-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960800" y="4689360"/>
            <a:ext cx="141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  pa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2799360" y="2408400"/>
            <a:ext cx="92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990240" y="24084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-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5361120" y="2408400"/>
            <a:ext cx="167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 pa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5086440" y="2054160"/>
            <a:ext cx="241200" cy="1270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073480" y="2041560"/>
            <a:ext cx="26676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959360" y="1420920"/>
            <a:ext cx="469800" cy="4683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4946760" y="1407960"/>
            <a:ext cx="495360" cy="49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7799760" y="4689360"/>
            <a:ext cx="43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7394040" y="3624120"/>
            <a:ext cx="40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1074240" y="5259240"/>
            <a:ext cx="684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ta-symbols T and S define structures - they may not appe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079640" y="5486400"/>
            <a:ext cx="29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elements in the flow cha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1074960" y="5897520"/>
            <a:ext cx="718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low chart may only contain the terminal symbols: state and tran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800280" y="2700360"/>
            <a:ext cx="8292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800280" y="4981680"/>
            <a:ext cx="8292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Sequential Chart rules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318960" y="990720"/>
            <a:ext cx="927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put and output flow of a state are always in the same vertical line (simplifies struc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8058240" y="15224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21480" y="1751040"/>
            <a:ext cx="7497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 paths are drawn such that no path is placed in the vertical flow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therwise would mean this is a preferential pat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2220840" y="3068640"/>
            <a:ext cx="1800" cy="569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790720" y="3068640"/>
            <a:ext cx="1800" cy="569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362400" y="2840040"/>
            <a:ext cx="1440" cy="102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2119320" y="3308400"/>
            <a:ext cx="241200" cy="127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2106720" y="3295800"/>
            <a:ext cx="26676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689200" y="3308400"/>
            <a:ext cx="241200" cy="127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2676600" y="3295800"/>
            <a:ext cx="26676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260880" y="3308400"/>
            <a:ext cx="239400" cy="127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247920" y="3295800"/>
            <a:ext cx="26532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2220840" y="3068640"/>
            <a:ext cx="5698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2220840" y="3638520"/>
            <a:ext cx="5698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2562120" y="2840040"/>
            <a:ext cx="18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2562120" y="3638520"/>
            <a:ext cx="1800" cy="227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5416560" y="3068640"/>
            <a:ext cx="1440" cy="569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5986440" y="3068640"/>
            <a:ext cx="1440" cy="569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6556320" y="3068640"/>
            <a:ext cx="1800" cy="569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5315040" y="3308400"/>
            <a:ext cx="239760" cy="127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5302080" y="3295800"/>
            <a:ext cx="26532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884920" y="3308400"/>
            <a:ext cx="241200" cy="127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5872320" y="3295800"/>
            <a:ext cx="2664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6454800" y="3308400"/>
            <a:ext cx="241200" cy="127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6442200" y="3295800"/>
            <a:ext cx="2664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5416560" y="3068640"/>
            <a:ext cx="1139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5416560" y="3638520"/>
            <a:ext cx="1139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757840" y="2498760"/>
            <a:ext cx="1440" cy="569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5757840" y="3638520"/>
            <a:ext cx="1440" cy="569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2562120" y="2840040"/>
            <a:ext cx="800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2562120" y="3865680"/>
            <a:ext cx="800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2905200" y="2498760"/>
            <a:ext cx="1440" cy="34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2905200" y="3865680"/>
            <a:ext cx="1440" cy="34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7" name=""/>
          <p:cNvGrpSpPr/>
          <p:nvPr/>
        </p:nvGrpSpPr>
        <p:grpSpPr>
          <a:xfrm>
            <a:off x="4046400" y="3232080"/>
            <a:ext cx="811440" cy="139680"/>
            <a:chOff x="4046400" y="3232080"/>
            <a:chExt cx="811440" cy="139680"/>
          </a:xfrm>
        </p:grpSpPr>
        <p:sp>
          <p:nvSpPr>
            <p:cNvPr id="1678" name=""/>
            <p:cNvSpPr/>
            <p:nvPr/>
          </p:nvSpPr>
          <p:spPr>
            <a:xfrm>
              <a:off x="4591080" y="3232080"/>
              <a:ext cx="266760" cy="139680"/>
            </a:xfrm>
            <a:custGeom>
              <a:avLst/>
              <a:gdLst/>
              <a:ahLst/>
              <a:rect l="l" t="t" r="r" b="b"/>
              <a:pathLst>
                <a:path w="168" h="88">
                  <a:moveTo>
                    <a:pt x="168" y="48"/>
                  </a:moveTo>
                  <a:lnTo>
                    <a:pt x="0" y="88"/>
                  </a:lnTo>
                  <a:lnTo>
                    <a:pt x="0" y="48"/>
                  </a:lnTo>
                  <a:lnTo>
                    <a:pt x="0" y="0"/>
                  </a:lnTo>
                  <a:lnTo>
                    <a:pt x="16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046400" y="3295800"/>
              <a:ext cx="5320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0" name=""/>
          <p:cNvSpPr/>
          <p:nvPr/>
        </p:nvSpPr>
        <p:spPr>
          <a:xfrm>
            <a:off x="4046400" y="3181320"/>
            <a:ext cx="1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865560" y="2992320"/>
            <a:ext cx="1855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tentional displacement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6866280" y="3244680"/>
            <a:ext cx="196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void optical preference of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872040" y="349884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a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1216800" y="4334040"/>
            <a:ext cx="77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2423880" y="4511520"/>
            <a:ext cx="472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lternative path most to the left has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2766240" y="4827600"/>
            <a:ext cx="522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st priority, priority decreases towards the righ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2424240" y="51451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2423880" y="5460840"/>
            <a:ext cx="4876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: exit has a higher priority than loopbac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Structuring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1482840" y="762120"/>
            <a:ext cx="6458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ery flow chart without a token generator may be redrawn as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uctured flow chart (by possibly duplicating program par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591240" y="5346720"/>
            <a:ext cx="0" cy="67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591240" y="1917720"/>
            <a:ext cx="0" cy="1587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2705040" y="2527200"/>
            <a:ext cx="0" cy="261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2476440" y="28321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2476440" y="28321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2476440" y="363204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2476440" y="363204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2476440" y="44323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2476440" y="44323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2590920" y="340344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2590920" y="431784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2705040" y="3517920"/>
            <a:ext cx="916200" cy="1487520"/>
          </a:xfrm>
          <a:custGeom>
            <a:avLst/>
            <a:gdLst/>
            <a:ahLst/>
            <a:rect l="l" t="t" r="r" b="b"/>
            <a:pathLst>
              <a:path w="577" h="937">
                <a:moveTo>
                  <a:pt x="0" y="936"/>
                </a:moveTo>
                <a:lnTo>
                  <a:pt x="576" y="936"/>
                </a:lnTo>
                <a:lnTo>
                  <a:pt x="57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3" name=""/>
          <p:cNvGrpSpPr/>
          <p:nvPr/>
        </p:nvGrpSpPr>
        <p:grpSpPr>
          <a:xfrm>
            <a:off x="2717640" y="3454560"/>
            <a:ext cx="901800" cy="102960"/>
            <a:chOff x="2717640" y="3454560"/>
            <a:chExt cx="901800" cy="102960"/>
          </a:xfrm>
        </p:grpSpPr>
        <p:sp>
          <p:nvSpPr>
            <p:cNvPr id="1704" name=""/>
            <p:cNvSpPr/>
            <p:nvPr/>
          </p:nvSpPr>
          <p:spPr>
            <a:xfrm>
              <a:off x="2717640" y="3454560"/>
              <a:ext cx="204840" cy="102960"/>
            </a:xfrm>
            <a:custGeom>
              <a:avLst/>
              <a:gdLst/>
              <a:ahLst/>
              <a:rect l="l" t="t" r="r" b="b"/>
              <a:pathLst>
                <a:path w="129" h="65">
                  <a:moveTo>
                    <a:pt x="0" y="36"/>
                  </a:moveTo>
                  <a:lnTo>
                    <a:pt x="128" y="0"/>
                  </a:lnTo>
                  <a:lnTo>
                    <a:pt x="128" y="36"/>
                  </a:lnTo>
                  <a:lnTo>
                    <a:pt x="128" y="64"/>
                  </a:lnTo>
                  <a:lnTo>
                    <a:pt x="0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H="1">
              <a:off x="2921040" y="3517920"/>
              <a:ext cx="698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6" name=""/>
          <p:cNvSpPr/>
          <p:nvPr/>
        </p:nvSpPr>
        <p:spPr>
          <a:xfrm>
            <a:off x="2705040" y="2717640"/>
            <a:ext cx="687600" cy="1487520"/>
          </a:xfrm>
          <a:custGeom>
            <a:avLst/>
            <a:gdLst/>
            <a:ahLst/>
            <a:rect l="l" t="t" r="r" b="b"/>
            <a:pathLst>
              <a:path w="433" h="937">
                <a:moveTo>
                  <a:pt x="0" y="936"/>
                </a:moveTo>
                <a:lnTo>
                  <a:pt x="432" y="936"/>
                </a:lnTo>
                <a:lnTo>
                  <a:pt x="432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7" name=""/>
          <p:cNvGrpSpPr/>
          <p:nvPr/>
        </p:nvGrpSpPr>
        <p:grpSpPr>
          <a:xfrm>
            <a:off x="2705040" y="2654280"/>
            <a:ext cx="685800" cy="103320"/>
            <a:chOff x="2705040" y="2654280"/>
            <a:chExt cx="685800" cy="103320"/>
          </a:xfrm>
        </p:grpSpPr>
        <p:sp>
          <p:nvSpPr>
            <p:cNvPr id="1708" name=""/>
            <p:cNvSpPr/>
            <p:nvPr/>
          </p:nvSpPr>
          <p:spPr>
            <a:xfrm>
              <a:off x="2705040" y="2654280"/>
              <a:ext cx="204840" cy="103320"/>
            </a:xfrm>
            <a:custGeom>
              <a:avLst/>
              <a:gdLst/>
              <a:ahLst/>
              <a:rect l="l" t="t" r="r" b="b"/>
              <a:pathLst>
                <a:path w="129" h="65">
                  <a:moveTo>
                    <a:pt x="0" y="36"/>
                  </a:moveTo>
                  <a:lnTo>
                    <a:pt x="128" y="0"/>
                  </a:lnTo>
                  <a:lnTo>
                    <a:pt x="128" y="36"/>
                  </a:lnTo>
                  <a:lnTo>
                    <a:pt x="128" y="64"/>
                  </a:lnTo>
                  <a:lnTo>
                    <a:pt x="0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H="1">
              <a:off x="2908440" y="2717640"/>
              <a:ext cx="482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0" name=""/>
          <p:cNvSpPr/>
          <p:nvPr/>
        </p:nvSpPr>
        <p:spPr>
          <a:xfrm>
            <a:off x="3505320" y="477504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3276720" y="397512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2563920" y="286056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2563920" y="367344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2550960" y="446076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2271240" y="32749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2271240" y="41893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2957040" y="383364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3185280" y="46465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1814400" y="1501920"/>
            <a:ext cx="1615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struct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6248520" y="3517920"/>
            <a:ext cx="0" cy="1816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6362640" y="21463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6362640" y="21463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6362640" y="294624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6362640" y="294624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6019920" y="386064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6019920" y="386064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6477120" y="271764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134040" y="363204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 flipV="1">
            <a:off x="7035840" y="3746520"/>
            <a:ext cx="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0" name=""/>
          <p:cNvGrpSpPr/>
          <p:nvPr/>
        </p:nvGrpSpPr>
        <p:grpSpPr>
          <a:xfrm>
            <a:off x="6261120" y="3683160"/>
            <a:ext cx="786960" cy="102960"/>
            <a:chOff x="6261120" y="3683160"/>
            <a:chExt cx="786960" cy="102960"/>
          </a:xfrm>
        </p:grpSpPr>
        <p:sp>
          <p:nvSpPr>
            <p:cNvPr id="1731" name=""/>
            <p:cNvSpPr/>
            <p:nvPr/>
          </p:nvSpPr>
          <p:spPr>
            <a:xfrm>
              <a:off x="6261120" y="3683160"/>
              <a:ext cx="204840" cy="102960"/>
            </a:xfrm>
            <a:custGeom>
              <a:avLst/>
              <a:gdLst/>
              <a:ahLst/>
              <a:rect l="l" t="t" r="r" b="b"/>
              <a:pathLst>
                <a:path w="129" h="65">
                  <a:moveTo>
                    <a:pt x="0" y="36"/>
                  </a:moveTo>
                  <a:lnTo>
                    <a:pt x="128" y="0"/>
                  </a:lnTo>
                  <a:lnTo>
                    <a:pt x="128" y="36"/>
                  </a:lnTo>
                  <a:lnTo>
                    <a:pt x="128" y="64"/>
                  </a:lnTo>
                  <a:lnTo>
                    <a:pt x="0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>
              <a:off x="6463800" y="3746520"/>
              <a:ext cx="584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3" name=""/>
          <p:cNvSpPr/>
          <p:nvPr/>
        </p:nvSpPr>
        <p:spPr>
          <a:xfrm>
            <a:off x="6248520" y="3517920"/>
            <a:ext cx="1244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 flipV="1">
            <a:off x="7835760" y="283212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5" name=""/>
          <p:cNvGrpSpPr/>
          <p:nvPr/>
        </p:nvGrpSpPr>
        <p:grpSpPr>
          <a:xfrm>
            <a:off x="6603840" y="2768760"/>
            <a:ext cx="1244520" cy="102960"/>
            <a:chOff x="6603840" y="2768760"/>
            <a:chExt cx="1244520" cy="102960"/>
          </a:xfrm>
        </p:grpSpPr>
        <p:sp>
          <p:nvSpPr>
            <p:cNvPr id="1736" name=""/>
            <p:cNvSpPr/>
            <p:nvPr/>
          </p:nvSpPr>
          <p:spPr>
            <a:xfrm>
              <a:off x="6603840" y="2768760"/>
              <a:ext cx="204840" cy="102960"/>
            </a:xfrm>
            <a:custGeom>
              <a:avLst/>
              <a:gdLst/>
              <a:ahLst/>
              <a:rect l="l" t="t" r="r" b="b"/>
              <a:pathLst>
                <a:path w="129" h="65">
                  <a:moveTo>
                    <a:pt x="0" y="36"/>
                  </a:moveTo>
                  <a:lnTo>
                    <a:pt x="128" y="0"/>
                  </a:lnTo>
                  <a:lnTo>
                    <a:pt x="128" y="36"/>
                  </a:lnTo>
                  <a:lnTo>
                    <a:pt x="128" y="64"/>
                  </a:lnTo>
                  <a:lnTo>
                    <a:pt x="0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H="1">
              <a:off x="6806880" y="2832120"/>
              <a:ext cx="1041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8" name=""/>
          <p:cNvSpPr/>
          <p:nvPr/>
        </p:nvSpPr>
        <p:spPr>
          <a:xfrm>
            <a:off x="6934320" y="488952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734240" y="580392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6450120" y="217476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6450120" y="298764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6081840" y="390204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6157440" y="25891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814720" y="35035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7414920" y="566244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6614640" y="474804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019920" y="454644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019920" y="454644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362640" y="546084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362640" y="546084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6134040" y="523224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081120" y="4587840"/>
            <a:ext cx="378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411240" y="5502240"/>
            <a:ext cx="378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5814720" y="51037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134040" y="443232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5814360" y="429084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6248520" y="5118120"/>
            <a:ext cx="787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 flipH="1">
            <a:off x="6578640" y="6032520"/>
            <a:ext cx="1270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248520" y="3517920"/>
            <a:ext cx="1258920" cy="1830240"/>
          </a:xfrm>
          <a:custGeom>
            <a:avLst/>
            <a:gdLst/>
            <a:ahLst/>
            <a:rect l="l" t="t" r="r" b="b"/>
            <a:pathLst>
              <a:path w="793" h="1153">
                <a:moveTo>
                  <a:pt x="792" y="0"/>
                </a:moveTo>
                <a:lnTo>
                  <a:pt x="792" y="1152"/>
                </a:lnTo>
                <a:lnTo>
                  <a:pt x="0" y="115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391520" y="363204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071840" y="35035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5966280" y="1501920"/>
            <a:ext cx="119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3" name=""/>
          <p:cNvGrpSpPr/>
          <p:nvPr/>
        </p:nvGrpSpPr>
        <p:grpSpPr>
          <a:xfrm>
            <a:off x="4483080" y="3772080"/>
            <a:ext cx="827280" cy="166680"/>
            <a:chOff x="4483080" y="3772080"/>
            <a:chExt cx="827280" cy="166680"/>
          </a:xfrm>
        </p:grpSpPr>
        <p:sp>
          <p:nvSpPr>
            <p:cNvPr id="1764" name=""/>
            <p:cNvSpPr/>
            <p:nvPr/>
          </p:nvSpPr>
          <p:spPr>
            <a:xfrm>
              <a:off x="5041800" y="3772080"/>
              <a:ext cx="268560" cy="166680"/>
            </a:xfrm>
            <a:custGeom>
              <a:avLst/>
              <a:gdLst/>
              <a:ahLst/>
              <a:rect l="l" t="t" r="r" b="b"/>
              <a:pathLst>
                <a:path w="169" h="105">
                  <a:moveTo>
                    <a:pt x="168" y="52"/>
                  </a:moveTo>
                  <a:lnTo>
                    <a:pt x="0" y="104"/>
                  </a:lnTo>
                  <a:lnTo>
                    <a:pt x="0" y="52"/>
                  </a:lnTo>
                  <a:lnTo>
                    <a:pt x="0" y="0"/>
                  </a:lnTo>
                  <a:lnTo>
                    <a:pt x="168" y="5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483080" y="3860640"/>
              <a:ext cx="546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Exception handling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6883560" y="1943280"/>
            <a:ext cx="0" cy="90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5969160" y="1943280"/>
            <a:ext cx="0" cy="90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2540160" y="1943280"/>
            <a:ext cx="0" cy="787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1993320" y="1379520"/>
            <a:ext cx="6079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foreseen in IEC61331 - but supported by some edi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425680" y="2286000"/>
            <a:ext cx="228600" cy="114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2425680" y="2286000"/>
            <a:ext cx="228600" cy="114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3707640" y="2212920"/>
            <a:ext cx="103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u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5118120" y="2286000"/>
            <a:ext cx="34272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5040000" y="2212920"/>
            <a:ext cx="52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5854680" y="2286000"/>
            <a:ext cx="228600" cy="11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854680" y="2286000"/>
            <a:ext cx="228600" cy="114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6730920" y="2184480"/>
            <a:ext cx="344520" cy="344520"/>
          </a:xfrm>
          <a:custGeom>
            <a:avLst/>
            <a:gdLst/>
            <a:ahLst/>
            <a:rect l="l" t="t" r="r" b="b"/>
            <a:pathLst>
              <a:path w="217" h="217">
                <a:moveTo>
                  <a:pt x="104" y="72"/>
                </a:moveTo>
                <a:lnTo>
                  <a:pt x="176" y="0"/>
                </a:lnTo>
                <a:lnTo>
                  <a:pt x="216" y="40"/>
                </a:lnTo>
                <a:lnTo>
                  <a:pt x="144" y="112"/>
                </a:lnTo>
                <a:lnTo>
                  <a:pt x="216" y="184"/>
                </a:lnTo>
                <a:lnTo>
                  <a:pt x="176" y="216"/>
                </a:lnTo>
                <a:lnTo>
                  <a:pt x="104" y="144"/>
                </a:lnTo>
                <a:lnTo>
                  <a:pt x="32" y="216"/>
                </a:lnTo>
                <a:lnTo>
                  <a:pt x="0" y="184"/>
                </a:lnTo>
                <a:lnTo>
                  <a:pt x="72" y="112"/>
                </a:lnTo>
                <a:lnTo>
                  <a:pt x="0" y="40"/>
                </a:lnTo>
                <a:lnTo>
                  <a:pt x="32" y="0"/>
                </a:lnTo>
                <a:lnTo>
                  <a:pt x="104" y="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6718320" y="2171880"/>
            <a:ext cx="344520" cy="344160"/>
          </a:xfrm>
          <a:custGeom>
            <a:avLst/>
            <a:gdLst/>
            <a:ahLst/>
            <a:rect l="l" t="t" r="r" b="b"/>
            <a:pathLst>
              <a:path w="217" h="217">
                <a:moveTo>
                  <a:pt x="104" y="72"/>
                </a:moveTo>
                <a:lnTo>
                  <a:pt x="176" y="0"/>
                </a:lnTo>
                <a:lnTo>
                  <a:pt x="216" y="40"/>
                </a:lnTo>
                <a:lnTo>
                  <a:pt x="144" y="112"/>
                </a:lnTo>
                <a:lnTo>
                  <a:pt x="216" y="184"/>
                </a:lnTo>
                <a:lnTo>
                  <a:pt x="176" y="216"/>
                </a:lnTo>
                <a:lnTo>
                  <a:pt x="104" y="144"/>
                </a:lnTo>
                <a:lnTo>
                  <a:pt x="32" y="216"/>
                </a:lnTo>
                <a:lnTo>
                  <a:pt x="0" y="184"/>
                </a:lnTo>
                <a:lnTo>
                  <a:pt x="72" y="112"/>
                </a:lnTo>
                <a:lnTo>
                  <a:pt x="0" y="40"/>
                </a:lnTo>
                <a:lnTo>
                  <a:pt x="32" y="0"/>
                </a:lnTo>
                <a:lnTo>
                  <a:pt x="104" y="7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969160" y="1943280"/>
            <a:ext cx="444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6426360" y="1828800"/>
            <a:ext cx="0" cy="10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5969160" y="2992320"/>
            <a:ext cx="90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426360" y="2992320"/>
            <a:ext cx="0" cy="101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2778480" y="2131920"/>
            <a:ext cx="56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2540160" y="3479760"/>
            <a:ext cx="0" cy="90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2387520" y="3720960"/>
            <a:ext cx="344520" cy="344520"/>
          </a:xfrm>
          <a:custGeom>
            <a:avLst/>
            <a:gdLst/>
            <a:ahLst/>
            <a:rect l="l" t="t" r="r" b="b"/>
            <a:pathLst>
              <a:path w="217" h="217">
                <a:moveTo>
                  <a:pt x="104" y="72"/>
                </a:moveTo>
                <a:lnTo>
                  <a:pt x="176" y="0"/>
                </a:lnTo>
                <a:lnTo>
                  <a:pt x="216" y="40"/>
                </a:lnTo>
                <a:lnTo>
                  <a:pt x="144" y="112"/>
                </a:lnTo>
                <a:lnTo>
                  <a:pt x="216" y="184"/>
                </a:lnTo>
                <a:lnTo>
                  <a:pt x="176" y="216"/>
                </a:lnTo>
                <a:lnTo>
                  <a:pt x="104" y="144"/>
                </a:lnTo>
                <a:lnTo>
                  <a:pt x="32" y="216"/>
                </a:lnTo>
                <a:lnTo>
                  <a:pt x="0" y="184"/>
                </a:lnTo>
                <a:lnTo>
                  <a:pt x="72" y="112"/>
                </a:lnTo>
                <a:lnTo>
                  <a:pt x="0" y="40"/>
                </a:lnTo>
                <a:lnTo>
                  <a:pt x="32" y="0"/>
                </a:lnTo>
                <a:lnTo>
                  <a:pt x="104" y="72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2374920" y="3708360"/>
            <a:ext cx="344520" cy="344520"/>
          </a:xfrm>
          <a:custGeom>
            <a:avLst/>
            <a:gdLst/>
            <a:ahLst/>
            <a:rect l="l" t="t" r="r" b="b"/>
            <a:pathLst>
              <a:path w="217" h="217">
                <a:moveTo>
                  <a:pt x="104" y="72"/>
                </a:moveTo>
                <a:lnTo>
                  <a:pt x="176" y="0"/>
                </a:lnTo>
                <a:lnTo>
                  <a:pt x="216" y="40"/>
                </a:lnTo>
                <a:lnTo>
                  <a:pt x="144" y="112"/>
                </a:lnTo>
                <a:lnTo>
                  <a:pt x="216" y="184"/>
                </a:lnTo>
                <a:lnTo>
                  <a:pt x="176" y="216"/>
                </a:lnTo>
                <a:lnTo>
                  <a:pt x="104" y="144"/>
                </a:lnTo>
                <a:lnTo>
                  <a:pt x="32" y="216"/>
                </a:lnTo>
                <a:lnTo>
                  <a:pt x="0" y="184"/>
                </a:lnTo>
                <a:lnTo>
                  <a:pt x="72" y="112"/>
                </a:lnTo>
                <a:lnTo>
                  <a:pt x="0" y="40"/>
                </a:lnTo>
                <a:lnTo>
                  <a:pt x="32" y="0"/>
                </a:lnTo>
                <a:lnTo>
                  <a:pt x="104" y="7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2905560" y="3656160"/>
            <a:ext cx="56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4254480" y="3479760"/>
            <a:ext cx="0" cy="90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 flipV="1">
            <a:off x="4140360" y="3797280"/>
            <a:ext cx="228600" cy="279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140360" y="3822840"/>
            <a:ext cx="22860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426360" y="3251160"/>
            <a:ext cx="0" cy="1587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 flipV="1">
            <a:off x="6311880" y="3568680"/>
            <a:ext cx="228600" cy="279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311880" y="3594240"/>
            <a:ext cx="22860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6197760" y="3936960"/>
            <a:ext cx="45720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6197760" y="39369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5118120" y="3772080"/>
            <a:ext cx="34272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5040000" y="3699000"/>
            <a:ext cx="52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311880" y="4508640"/>
            <a:ext cx="228600" cy="1141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6311880" y="4508640"/>
            <a:ext cx="228600" cy="114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2222640" y="4991040"/>
            <a:ext cx="67284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2144880" y="4917960"/>
            <a:ext cx="85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716280" y="4925880"/>
            <a:ext cx="946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5900760" y="4925880"/>
            <a:ext cx="1134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-sequ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432480" y="19494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6" name=""/>
          <p:cNvGrpSpPr/>
          <p:nvPr/>
        </p:nvGrpSpPr>
        <p:grpSpPr>
          <a:xfrm>
            <a:off x="6432480" y="1949400"/>
            <a:ext cx="406440" cy="0"/>
            <a:chOff x="6432480" y="1949400"/>
            <a:chExt cx="406440" cy="0"/>
          </a:xfrm>
        </p:grpSpPr>
        <p:sp>
          <p:nvSpPr>
            <p:cNvPr id="1807" name=""/>
            <p:cNvSpPr/>
            <p:nvPr/>
          </p:nvSpPr>
          <p:spPr>
            <a:xfrm>
              <a:off x="6432480" y="19494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6483240" y="19494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534000" y="19494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585120" y="19494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6635880" y="19494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6686640" y="19494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737400" y="19494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6788160" y="19494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6838920" y="19494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6" name=""/>
          <p:cNvSpPr/>
          <p:nvPr/>
        </p:nvSpPr>
        <p:spPr>
          <a:xfrm>
            <a:off x="228960" y="5427720"/>
            <a:ext cx="1246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42640" y="5808600"/>
            <a:ext cx="9531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tates which lie in alternative paths to the exception are precursor states to the excep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928080" y="838080"/>
            <a:ext cx="7825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ppens when a block is incapable of executing? (e.g. divide-by-ze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Exception handling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grpSp>
        <p:nvGrpSpPr>
          <p:cNvPr id="1820" name=""/>
          <p:cNvGrpSpPr/>
          <p:nvPr/>
        </p:nvGrpSpPr>
        <p:grpSpPr>
          <a:xfrm>
            <a:off x="7380360" y="2043000"/>
            <a:ext cx="772920" cy="1800"/>
            <a:chOff x="7380360" y="2043000"/>
            <a:chExt cx="772920" cy="1800"/>
          </a:xfrm>
        </p:grpSpPr>
        <p:sp>
          <p:nvSpPr>
            <p:cNvPr id="1821" name=""/>
            <p:cNvSpPr/>
            <p:nvPr/>
          </p:nvSpPr>
          <p:spPr>
            <a:xfrm>
              <a:off x="7380360" y="204300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431120" y="204300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7481880" y="204300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7532640" y="204300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7583400" y="2043000"/>
              <a:ext cx="12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7634160" y="2043000"/>
              <a:ext cx="12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684920" y="2043000"/>
              <a:ext cx="12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7736040" y="204300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786800" y="204300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7837560" y="204300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7888320" y="204300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7939080" y="204300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989840" y="204300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039160" y="204300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8089920" y="204300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8140680" y="204300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7" name=""/>
          <p:cNvGrpSpPr/>
          <p:nvPr/>
        </p:nvGrpSpPr>
        <p:grpSpPr>
          <a:xfrm>
            <a:off x="2778120" y="2460600"/>
            <a:ext cx="874800" cy="1440"/>
            <a:chOff x="2778120" y="2460600"/>
            <a:chExt cx="874800" cy="1440"/>
          </a:xfrm>
        </p:grpSpPr>
        <p:sp>
          <p:nvSpPr>
            <p:cNvPr id="1838" name=""/>
            <p:cNvSpPr/>
            <p:nvPr/>
          </p:nvSpPr>
          <p:spPr>
            <a:xfrm>
              <a:off x="2778120" y="246060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828880" y="246060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879640" y="2460600"/>
              <a:ext cx="12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2930400" y="2460600"/>
              <a:ext cx="12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2981160" y="2460600"/>
              <a:ext cx="12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032280" y="246060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3083040" y="246060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133800" y="246060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184560" y="246060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235320" y="246060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286080" y="246060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336840" y="2460600"/>
              <a:ext cx="12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3387600" y="2460600"/>
              <a:ext cx="12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438360" y="2460600"/>
              <a:ext cx="12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489480" y="246060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540240" y="246060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591000" y="246060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639960" y="2460600"/>
              <a:ext cx="12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6" name=""/>
          <p:cNvSpPr/>
          <p:nvPr/>
        </p:nvSpPr>
        <p:spPr>
          <a:xfrm>
            <a:off x="5327640" y="2155680"/>
            <a:ext cx="2179800" cy="3090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5668920" y="2384280"/>
            <a:ext cx="912960" cy="136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5643720" y="2359080"/>
            <a:ext cx="963360" cy="1417680"/>
          </a:xfrm>
          <a:prstGeom prst="rect">
            <a:avLst/>
          </a:pr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1473120" y="2523960"/>
            <a:ext cx="1090800" cy="2114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2461320" y="1738440"/>
            <a:ext cx="69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1854360" y="2448000"/>
            <a:ext cx="1440" cy="2279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3678120" y="2448000"/>
            <a:ext cx="1800" cy="2279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1638360" y="2687760"/>
            <a:ext cx="46836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1625760" y="2674800"/>
            <a:ext cx="493560" cy="49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1638360" y="3371760"/>
            <a:ext cx="46836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1625760" y="3359160"/>
            <a:ext cx="493560" cy="493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1638360" y="4056120"/>
            <a:ext cx="46836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1625760" y="4043520"/>
            <a:ext cx="493560" cy="493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1727280" y="3232080"/>
            <a:ext cx="226800" cy="1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1727280" y="3916440"/>
            <a:ext cx="22680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1727280" y="2549520"/>
            <a:ext cx="22680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1727280" y="4600440"/>
            <a:ext cx="226800" cy="1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1854360" y="2448000"/>
            <a:ext cx="911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1854360" y="4727520"/>
            <a:ext cx="1823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2765520" y="2104920"/>
            <a:ext cx="1440" cy="34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2765520" y="4727520"/>
            <a:ext cx="1440" cy="227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 flipH="1">
            <a:off x="3552480" y="2549520"/>
            <a:ext cx="227160" cy="227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3552840" y="2549520"/>
            <a:ext cx="227160" cy="227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3463920" y="2916360"/>
            <a:ext cx="46836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3451320" y="2903400"/>
            <a:ext cx="493560" cy="49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3463920" y="3600360"/>
            <a:ext cx="46836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3451320" y="3587760"/>
            <a:ext cx="493560" cy="493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3578400" y="3486240"/>
            <a:ext cx="23940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3552840" y="3460680"/>
            <a:ext cx="290520" cy="637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3578400" y="4170240"/>
            <a:ext cx="2394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3552840" y="4145040"/>
            <a:ext cx="290520" cy="63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2322360" y="2776680"/>
            <a:ext cx="1103400" cy="1050840"/>
          </a:xfrm>
          <a:custGeom>
            <a:avLst/>
            <a:gdLst/>
            <a:ahLst/>
            <a:rect l="l" t="t" r="r" b="b"/>
            <a:pathLst>
              <a:path w="695" h="662">
                <a:moveTo>
                  <a:pt x="695" y="0"/>
                </a:moveTo>
                <a:lnTo>
                  <a:pt x="343" y="247"/>
                </a:lnTo>
                <a:lnTo>
                  <a:pt x="343" y="247"/>
                </a:lnTo>
                <a:lnTo>
                  <a:pt x="519" y="287"/>
                </a:lnTo>
                <a:lnTo>
                  <a:pt x="519" y="287"/>
                </a:lnTo>
                <a:lnTo>
                  <a:pt x="0" y="662"/>
                </a:lnTo>
                <a:lnTo>
                  <a:pt x="0" y="662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2297160" y="2751120"/>
            <a:ext cx="1103400" cy="1050840"/>
          </a:xfrm>
          <a:custGeom>
            <a:avLst/>
            <a:gdLst/>
            <a:ahLst/>
            <a:rect l="l" t="t" r="r" b="b"/>
            <a:pathLst>
              <a:path w="695" h="662">
                <a:moveTo>
                  <a:pt x="695" y="0"/>
                </a:moveTo>
                <a:lnTo>
                  <a:pt x="343" y="248"/>
                </a:lnTo>
                <a:lnTo>
                  <a:pt x="519" y="287"/>
                </a:lnTo>
                <a:lnTo>
                  <a:pt x="0" y="662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5784480" y="1257480"/>
            <a:ext cx="1902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ion Nest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5999040" y="2257560"/>
            <a:ext cx="1800" cy="159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7139160" y="2257560"/>
            <a:ext cx="1440" cy="159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5783400" y="2498760"/>
            <a:ext cx="46980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5770440" y="2486160"/>
            <a:ext cx="493920" cy="493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5783400" y="3181320"/>
            <a:ext cx="469800" cy="46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5770440" y="3168720"/>
            <a:ext cx="493920" cy="495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5872320" y="3043080"/>
            <a:ext cx="228600" cy="1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5872320" y="3726000"/>
            <a:ext cx="22860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5872320" y="2359080"/>
            <a:ext cx="22860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5999040" y="2257560"/>
            <a:ext cx="5698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5999040" y="3852720"/>
            <a:ext cx="11401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1" name=""/>
          <p:cNvGrpSpPr/>
          <p:nvPr/>
        </p:nvGrpSpPr>
        <p:grpSpPr>
          <a:xfrm>
            <a:off x="6581880" y="2270160"/>
            <a:ext cx="558720" cy="1440"/>
            <a:chOff x="6581880" y="2270160"/>
            <a:chExt cx="558720" cy="1440"/>
          </a:xfrm>
        </p:grpSpPr>
        <p:sp>
          <p:nvSpPr>
            <p:cNvPr id="1902" name=""/>
            <p:cNvSpPr/>
            <p:nvPr/>
          </p:nvSpPr>
          <p:spPr>
            <a:xfrm>
              <a:off x="6581880" y="227016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632640" y="227016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683400" y="227016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734160" y="227016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784920" y="227016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835680" y="2270160"/>
              <a:ext cx="12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886440" y="2270160"/>
              <a:ext cx="12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937200" y="2270160"/>
              <a:ext cx="12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6988320" y="227016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7039080" y="227016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7089840" y="227016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7139160" y="22701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4" name=""/>
          <p:cNvSpPr/>
          <p:nvPr/>
        </p:nvSpPr>
        <p:spPr>
          <a:xfrm>
            <a:off x="6568920" y="2030400"/>
            <a:ext cx="1800" cy="227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6568920" y="3852720"/>
            <a:ext cx="1800" cy="148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flipH="1">
            <a:off x="7013160" y="2359080"/>
            <a:ext cx="22716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7013520" y="2359080"/>
            <a:ext cx="22716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6924600" y="2725560"/>
            <a:ext cx="46836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6912000" y="2712960"/>
            <a:ext cx="493560" cy="49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039080" y="3295800"/>
            <a:ext cx="23976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7013520" y="3270240"/>
            <a:ext cx="290520" cy="63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6353280" y="3979800"/>
            <a:ext cx="46980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6340320" y="3967200"/>
            <a:ext cx="495360" cy="493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6467400" y="4549680"/>
            <a:ext cx="2412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6442200" y="4524480"/>
            <a:ext cx="291960" cy="63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8166240" y="2030400"/>
            <a:ext cx="1440" cy="330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 flipH="1">
            <a:off x="8038800" y="2130480"/>
            <a:ext cx="22860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8039160" y="2130480"/>
            <a:ext cx="22860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7951680" y="2498760"/>
            <a:ext cx="46836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7939080" y="2486160"/>
            <a:ext cx="493560" cy="493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8064360" y="3068640"/>
            <a:ext cx="24156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8039160" y="3043080"/>
            <a:ext cx="291960" cy="637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6568920" y="2030400"/>
            <a:ext cx="9003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6353280" y="4664160"/>
            <a:ext cx="46980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6340320" y="4651200"/>
            <a:ext cx="495360" cy="49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6467400" y="5234040"/>
            <a:ext cx="24120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6442200" y="5208480"/>
            <a:ext cx="291960" cy="637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6568920" y="5334120"/>
            <a:ext cx="1597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7481880" y="5334120"/>
            <a:ext cx="144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7481880" y="1687680"/>
            <a:ext cx="1440" cy="34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6467400" y="2575080"/>
            <a:ext cx="343080" cy="493560"/>
          </a:xfrm>
          <a:custGeom>
            <a:avLst/>
            <a:gdLst/>
            <a:ahLst/>
            <a:rect l="l" t="t" r="r" b="b"/>
            <a:pathLst>
              <a:path w="216" h="311">
                <a:moveTo>
                  <a:pt x="216" y="0"/>
                </a:moveTo>
                <a:lnTo>
                  <a:pt x="72" y="95"/>
                </a:lnTo>
                <a:lnTo>
                  <a:pt x="72" y="95"/>
                </a:lnTo>
                <a:lnTo>
                  <a:pt x="216" y="167"/>
                </a:lnTo>
                <a:lnTo>
                  <a:pt x="216" y="167"/>
                </a:lnTo>
                <a:lnTo>
                  <a:pt x="0" y="311"/>
                </a:lnTo>
                <a:lnTo>
                  <a:pt x="0" y="311"/>
                </a:lnTo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6454800" y="2562120"/>
            <a:ext cx="342720" cy="493920"/>
          </a:xfrm>
          <a:custGeom>
            <a:avLst/>
            <a:gdLst/>
            <a:ahLst/>
            <a:rect l="l" t="t" r="r" b="b"/>
            <a:pathLst>
              <a:path w="216" h="311">
                <a:moveTo>
                  <a:pt x="216" y="0"/>
                </a:moveTo>
                <a:lnTo>
                  <a:pt x="72" y="95"/>
                </a:lnTo>
                <a:lnTo>
                  <a:pt x="216" y="167"/>
                </a:lnTo>
                <a:lnTo>
                  <a:pt x="0" y="311"/>
                </a:lnTo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7265880" y="2384280"/>
            <a:ext cx="622440" cy="1710000"/>
          </a:xfrm>
          <a:custGeom>
            <a:avLst/>
            <a:gdLst/>
            <a:ahLst/>
            <a:rect l="l" t="t" r="r" b="b"/>
            <a:pathLst>
              <a:path w="392" h="1077">
                <a:moveTo>
                  <a:pt x="392" y="0"/>
                </a:moveTo>
                <a:lnTo>
                  <a:pt x="216" y="287"/>
                </a:lnTo>
                <a:lnTo>
                  <a:pt x="216" y="287"/>
                </a:lnTo>
                <a:lnTo>
                  <a:pt x="360" y="215"/>
                </a:lnTo>
                <a:lnTo>
                  <a:pt x="360" y="215"/>
                </a:lnTo>
                <a:lnTo>
                  <a:pt x="0" y="1077"/>
                </a:lnTo>
                <a:lnTo>
                  <a:pt x="0" y="107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7253280" y="2371680"/>
            <a:ext cx="622440" cy="1709640"/>
          </a:xfrm>
          <a:custGeom>
            <a:avLst/>
            <a:gdLst/>
            <a:ahLst/>
            <a:rect l="l" t="t" r="r" b="b"/>
            <a:pathLst>
              <a:path w="392" h="1077">
                <a:moveTo>
                  <a:pt x="392" y="0"/>
                </a:moveTo>
                <a:lnTo>
                  <a:pt x="216" y="287"/>
                </a:lnTo>
                <a:lnTo>
                  <a:pt x="360" y="215"/>
                </a:lnTo>
                <a:lnTo>
                  <a:pt x="0" y="107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5" name=""/>
          <p:cNvGrpSpPr/>
          <p:nvPr/>
        </p:nvGrpSpPr>
        <p:grpSpPr>
          <a:xfrm>
            <a:off x="2854080" y="2662200"/>
            <a:ext cx="711360" cy="482760"/>
            <a:chOff x="2854080" y="2662200"/>
            <a:chExt cx="711360" cy="482760"/>
          </a:xfrm>
        </p:grpSpPr>
        <p:sp>
          <p:nvSpPr>
            <p:cNvPr id="1946" name=""/>
            <p:cNvSpPr/>
            <p:nvPr/>
          </p:nvSpPr>
          <p:spPr>
            <a:xfrm>
              <a:off x="3273480" y="2662200"/>
              <a:ext cx="291960" cy="241200"/>
            </a:xfrm>
            <a:custGeom>
              <a:avLst/>
              <a:gdLst/>
              <a:ahLst/>
              <a:rect l="l" t="t" r="r" b="b"/>
              <a:pathLst>
                <a:path w="184" h="152">
                  <a:moveTo>
                    <a:pt x="184" y="0"/>
                  </a:moveTo>
                  <a:lnTo>
                    <a:pt x="56" y="152"/>
                  </a:lnTo>
                  <a:lnTo>
                    <a:pt x="24" y="112"/>
                  </a:lnTo>
                  <a:lnTo>
                    <a:pt x="0" y="72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H="1">
              <a:off x="2854080" y="2814480"/>
              <a:ext cx="431640" cy="33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8" name=""/>
          <p:cNvGrpSpPr/>
          <p:nvPr/>
        </p:nvGrpSpPr>
        <p:grpSpPr>
          <a:xfrm>
            <a:off x="6594480" y="2460600"/>
            <a:ext cx="380880" cy="239760"/>
            <a:chOff x="6594480" y="2460600"/>
            <a:chExt cx="380880" cy="239760"/>
          </a:xfrm>
        </p:grpSpPr>
        <p:sp>
          <p:nvSpPr>
            <p:cNvPr id="1949" name=""/>
            <p:cNvSpPr/>
            <p:nvPr/>
          </p:nvSpPr>
          <p:spPr>
            <a:xfrm>
              <a:off x="6683400" y="2460600"/>
              <a:ext cx="291960" cy="239760"/>
            </a:xfrm>
            <a:custGeom>
              <a:avLst/>
              <a:gdLst/>
              <a:ahLst/>
              <a:rect l="l" t="t" r="r" b="b"/>
              <a:pathLst>
                <a:path w="184" h="151">
                  <a:moveTo>
                    <a:pt x="184" y="0"/>
                  </a:moveTo>
                  <a:lnTo>
                    <a:pt x="56" y="151"/>
                  </a:lnTo>
                  <a:lnTo>
                    <a:pt x="24" y="111"/>
                  </a:lnTo>
                  <a:lnTo>
                    <a:pt x="0" y="72"/>
                  </a:lnTo>
                  <a:lnTo>
                    <a:pt x="184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flipH="1">
              <a:off x="6594480" y="2611440"/>
              <a:ext cx="101520" cy="76320"/>
            </a:xfrm>
            <a:prstGeom prst="line">
              <a:avLst/>
            </a:prstGeom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1" name=""/>
          <p:cNvGrpSpPr/>
          <p:nvPr/>
        </p:nvGrpSpPr>
        <p:grpSpPr>
          <a:xfrm>
            <a:off x="7710480" y="2282760"/>
            <a:ext cx="241200" cy="292320"/>
            <a:chOff x="7710480" y="2282760"/>
            <a:chExt cx="241200" cy="292320"/>
          </a:xfrm>
        </p:grpSpPr>
        <p:sp>
          <p:nvSpPr>
            <p:cNvPr id="1952" name=""/>
            <p:cNvSpPr/>
            <p:nvPr/>
          </p:nvSpPr>
          <p:spPr>
            <a:xfrm>
              <a:off x="7710480" y="2282760"/>
              <a:ext cx="241200" cy="292320"/>
            </a:xfrm>
            <a:custGeom>
              <a:avLst/>
              <a:gdLst/>
              <a:ahLst/>
              <a:rect l="l" t="t" r="r" b="b"/>
              <a:pathLst>
                <a:path w="152" h="184">
                  <a:moveTo>
                    <a:pt x="152" y="0"/>
                  </a:moveTo>
                  <a:lnTo>
                    <a:pt x="80" y="184"/>
                  </a:lnTo>
                  <a:lnTo>
                    <a:pt x="40" y="160"/>
                  </a:lnTo>
                  <a:lnTo>
                    <a:pt x="0" y="136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 flipV="1">
              <a:off x="7748640" y="2473200"/>
              <a:ext cx="25200" cy="38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4" name=""/>
          <p:cNvSpPr/>
          <p:nvPr/>
        </p:nvSpPr>
        <p:spPr>
          <a:xfrm>
            <a:off x="154080" y="5638680"/>
            <a:ext cx="9527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ion handling is a neglected issue. However, exceptions most often ar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incomplete and misunderstood specifications, catching them afterwards is symptom c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Function blocks And Flow Chart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1886400" y="1484280"/>
            <a:ext cx="1675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Block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1639800" y="1859040"/>
            <a:ext cx="2612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 (time) contro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6197760" y="1522440"/>
            <a:ext cx="134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 Chart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5988960" y="1859040"/>
            <a:ext cx="234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rete (time) Contro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1526040" y="2624040"/>
            <a:ext cx="6035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PLC applications mix continuous and discrete contro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1523880" y="28526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1522440" y="3079800"/>
            <a:ext cx="653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LC may execute alternatively function blocks and flow char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1523880" y="33084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1527120" y="3535200"/>
            <a:ext cx="662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mmunication between these program parts must be poss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1448640" y="4267080"/>
            <a:ext cx="93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716840" y="4903920"/>
            <a:ext cx="6253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low chart taken as a whole can be considered a fun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1712520" y="5130720"/>
            <a:ext cx="650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with binary inputs (transitions) and binary outputs (state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1536840" y="4827600"/>
            <a:ext cx="6781680" cy="69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9" name=""/>
          <p:cNvGrpSpPr/>
          <p:nvPr/>
        </p:nvGrpSpPr>
        <p:grpSpPr>
          <a:xfrm>
            <a:off x="4984920" y="1320840"/>
            <a:ext cx="836280" cy="303120"/>
            <a:chOff x="4984920" y="1320840"/>
            <a:chExt cx="836280" cy="303120"/>
          </a:xfrm>
        </p:grpSpPr>
        <p:sp>
          <p:nvSpPr>
            <p:cNvPr id="1970" name=""/>
            <p:cNvSpPr/>
            <p:nvPr/>
          </p:nvSpPr>
          <p:spPr>
            <a:xfrm>
              <a:off x="5668920" y="1523880"/>
              <a:ext cx="152280" cy="100080"/>
            </a:xfrm>
            <a:custGeom>
              <a:avLst/>
              <a:gdLst/>
              <a:ahLst/>
              <a:rect l="l" t="t" r="r" b="b"/>
              <a:pathLst>
                <a:path w="96" h="63">
                  <a:moveTo>
                    <a:pt x="96" y="63"/>
                  </a:moveTo>
                  <a:lnTo>
                    <a:pt x="0" y="55"/>
                  </a:lnTo>
                  <a:lnTo>
                    <a:pt x="16" y="31"/>
                  </a:lnTo>
                  <a:lnTo>
                    <a:pt x="24" y="0"/>
                  </a:lnTo>
                  <a:lnTo>
                    <a:pt x="9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4984920" y="1320840"/>
              <a:ext cx="709560" cy="2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2" name=""/>
          <p:cNvGrpSpPr/>
          <p:nvPr/>
        </p:nvGrpSpPr>
        <p:grpSpPr>
          <a:xfrm>
            <a:off x="4071960" y="1320840"/>
            <a:ext cx="836280" cy="303120"/>
            <a:chOff x="4071960" y="1320840"/>
            <a:chExt cx="836280" cy="303120"/>
          </a:xfrm>
        </p:grpSpPr>
        <p:sp>
          <p:nvSpPr>
            <p:cNvPr id="1973" name=""/>
            <p:cNvSpPr/>
            <p:nvPr/>
          </p:nvSpPr>
          <p:spPr>
            <a:xfrm>
              <a:off x="4071960" y="1523880"/>
              <a:ext cx="152280" cy="100080"/>
            </a:xfrm>
            <a:custGeom>
              <a:avLst/>
              <a:gdLst/>
              <a:ahLst/>
              <a:rect l="l" t="t" r="r" b="b"/>
              <a:pathLst>
                <a:path w="96" h="63">
                  <a:moveTo>
                    <a:pt x="0" y="63"/>
                  </a:moveTo>
                  <a:lnTo>
                    <a:pt x="96" y="55"/>
                  </a:lnTo>
                  <a:lnTo>
                    <a:pt x="80" y="31"/>
                  </a:lnTo>
                  <a:lnTo>
                    <a:pt x="7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 flipH="1">
              <a:off x="4198680" y="1320840"/>
              <a:ext cx="709560" cy="2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Executing Flow Charts As blocks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6912000" y="3270240"/>
            <a:ext cx="861840" cy="1152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6899400" y="3257640"/>
            <a:ext cx="887400" cy="1177920"/>
          </a:xfrm>
          <a:prstGeom prst="rect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7240680" y="3435480"/>
            <a:ext cx="1440" cy="84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629240" y="3422520"/>
            <a:ext cx="1280880" cy="1013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2398680" y="3422520"/>
            <a:ext cx="1685880" cy="1013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2016720" y="1231920"/>
            <a:ext cx="621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nction block may be implemented in three different way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4211640" y="1738440"/>
            <a:ext cx="228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4211640" y="1967040"/>
            <a:ext cx="228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4211640" y="2193840"/>
            <a:ext cx="2286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896000" y="2193840"/>
            <a:ext cx="2286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6" name=""/>
          <p:cNvGrpSpPr/>
          <p:nvPr/>
        </p:nvGrpSpPr>
        <p:grpSpPr>
          <a:xfrm>
            <a:off x="2843280" y="2536920"/>
            <a:ext cx="4511520" cy="531720"/>
            <a:chOff x="2843280" y="2536920"/>
            <a:chExt cx="4511520" cy="531720"/>
          </a:xfrm>
        </p:grpSpPr>
        <p:sp>
          <p:nvSpPr>
            <p:cNvPr id="1987" name=""/>
            <p:cNvSpPr/>
            <p:nvPr/>
          </p:nvSpPr>
          <p:spPr>
            <a:xfrm>
              <a:off x="4667400" y="2536920"/>
              <a:ext cx="1440" cy="26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2843280" y="2801880"/>
              <a:ext cx="4511520" cy="266760"/>
            </a:xfrm>
            <a:custGeom>
              <a:avLst/>
              <a:gdLst/>
              <a:ahLst/>
              <a:rect l="l" t="t" r="r" b="b"/>
              <a:pathLst>
                <a:path w="2842" h="168">
                  <a:moveTo>
                    <a:pt x="0" y="0"/>
                  </a:moveTo>
                  <a:lnTo>
                    <a:pt x="2842" y="0"/>
                  </a:lnTo>
                  <a:lnTo>
                    <a:pt x="2842" y="16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238720" y="2801880"/>
              <a:ext cx="1440" cy="26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843280" y="2801880"/>
              <a:ext cx="1440" cy="26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1" name=""/>
          <p:cNvSpPr/>
          <p:nvPr/>
        </p:nvSpPr>
        <p:spPr>
          <a:xfrm>
            <a:off x="2523960" y="3486240"/>
            <a:ext cx="1067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edu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2523960" y="3662280"/>
            <a:ext cx="85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y(...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2524680" y="384012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2524680" y="401796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2524320" y="41940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 x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2766960" y="4675320"/>
            <a:ext cx="63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4616280" y="3751200"/>
            <a:ext cx="2797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4616280" y="3638520"/>
            <a:ext cx="2797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4616280" y="3929040"/>
            <a:ext cx="622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781520" y="3751200"/>
            <a:ext cx="457200" cy="292320"/>
          </a:xfrm>
          <a:custGeom>
            <a:avLst/>
            <a:gdLst/>
            <a:ahLst/>
            <a:rect l="l" t="t" r="r" b="b"/>
            <a:pathLst>
              <a:path w="288" h="184">
                <a:moveTo>
                  <a:pt x="0" y="0"/>
                </a:moveTo>
                <a:lnTo>
                  <a:pt x="0" y="184"/>
                </a:lnTo>
                <a:lnTo>
                  <a:pt x="288" y="18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5010120" y="3751200"/>
            <a:ext cx="2286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5353200" y="3751200"/>
            <a:ext cx="1760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5353200" y="4043520"/>
            <a:ext cx="1760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5643720" y="4043520"/>
            <a:ext cx="228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7189920" y="3384720"/>
            <a:ext cx="126720" cy="12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7176960" y="3371760"/>
            <a:ext cx="152640" cy="15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7189920" y="3726000"/>
            <a:ext cx="126720" cy="12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7176960" y="3713040"/>
            <a:ext cx="152640" cy="15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7189920" y="4068720"/>
            <a:ext cx="12672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7176960" y="4056120"/>
            <a:ext cx="15264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7240680" y="3664080"/>
            <a:ext cx="279360" cy="618840"/>
          </a:xfrm>
          <a:custGeom>
            <a:avLst/>
            <a:gdLst/>
            <a:ahLst/>
            <a:rect l="l" t="t" r="r" b="b"/>
            <a:pathLst>
              <a:path w="176" h="390">
                <a:moveTo>
                  <a:pt x="0" y="390"/>
                </a:moveTo>
                <a:lnTo>
                  <a:pt x="176" y="390"/>
                </a:lnTo>
                <a:lnTo>
                  <a:pt x="176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2" name=""/>
          <p:cNvGrpSpPr/>
          <p:nvPr/>
        </p:nvGrpSpPr>
        <p:grpSpPr>
          <a:xfrm>
            <a:off x="7265880" y="3625920"/>
            <a:ext cx="254160" cy="100080"/>
            <a:chOff x="7265880" y="3625920"/>
            <a:chExt cx="254160" cy="100080"/>
          </a:xfrm>
        </p:grpSpPr>
        <p:sp>
          <p:nvSpPr>
            <p:cNvPr id="2013" name=""/>
            <p:cNvSpPr/>
            <p:nvPr/>
          </p:nvSpPr>
          <p:spPr>
            <a:xfrm>
              <a:off x="7265880" y="3625920"/>
              <a:ext cx="190440" cy="100080"/>
            </a:xfrm>
            <a:custGeom>
              <a:avLst/>
              <a:gdLst/>
              <a:ahLst/>
              <a:rect l="l" t="t" r="r" b="b"/>
              <a:pathLst>
                <a:path w="120" h="63">
                  <a:moveTo>
                    <a:pt x="0" y="32"/>
                  </a:moveTo>
                  <a:lnTo>
                    <a:pt x="120" y="0"/>
                  </a:lnTo>
                  <a:lnTo>
                    <a:pt x="120" y="32"/>
                  </a:lnTo>
                  <a:lnTo>
                    <a:pt x="120" y="63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 flipH="1">
              <a:off x="7443720" y="3664080"/>
              <a:ext cx="763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5" name=""/>
          <p:cNvSpPr/>
          <p:nvPr/>
        </p:nvSpPr>
        <p:spPr>
          <a:xfrm>
            <a:off x="7176960" y="3941640"/>
            <a:ext cx="1144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7176960" y="3600360"/>
            <a:ext cx="1144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7469280" y="4170240"/>
            <a:ext cx="1141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4655160" y="4675320"/>
            <a:ext cx="150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6707880" y="467532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 ch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1640160" y="5295960"/>
            <a:ext cx="658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blocks and flow chart communicate over binary signa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4452840" y="1636560"/>
            <a:ext cx="468360" cy="6969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4440240" y="1623960"/>
            <a:ext cx="493560" cy="722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4908600" y="3600360"/>
            <a:ext cx="127080" cy="239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4896000" y="3587760"/>
            <a:ext cx="152280" cy="264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5251320" y="3713040"/>
            <a:ext cx="125640" cy="127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5238720" y="3700440"/>
            <a:ext cx="15084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5251320" y="3878280"/>
            <a:ext cx="125640" cy="241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5238720" y="3865680"/>
            <a:ext cx="150840" cy="26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5541840" y="3713040"/>
            <a:ext cx="127080" cy="406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5529240" y="3700440"/>
            <a:ext cx="152280" cy="43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Flow Charts Or Function blocks ?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2739960" y="3181320"/>
            <a:ext cx="1800" cy="250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887760" y="1130400"/>
            <a:ext cx="807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ask can sometimes be written indifferently as function blocks or as flow cha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1067760" y="1446120"/>
            <a:ext cx="7035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pplication may decide which representation is more appropria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2523960" y="4106880"/>
            <a:ext cx="47016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2511360" y="4094280"/>
            <a:ext cx="495360" cy="493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2523960" y="5018040"/>
            <a:ext cx="47016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2511360" y="5005440"/>
            <a:ext cx="495360" cy="493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2739960" y="3865680"/>
            <a:ext cx="912960" cy="1823760"/>
          </a:xfrm>
          <a:custGeom>
            <a:avLst/>
            <a:gdLst/>
            <a:ahLst/>
            <a:rect l="l" t="t" r="r" b="b"/>
            <a:pathLst>
              <a:path w="575" h="1149">
                <a:moveTo>
                  <a:pt x="0" y="1149"/>
                </a:moveTo>
                <a:lnTo>
                  <a:pt x="575" y="1149"/>
                </a:lnTo>
                <a:lnTo>
                  <a:pt x="575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0" name=""/>
          <p:cNvGrpSpPr/>
          <p:nvPr/>
        </p:nvGrpSpPr>
        <p:grpSpPr>
          <a:xfrm>
            <a:off x="2727360" y="3827520"/>
            <a:ext cx="925200" cy="101520"/>
            <a:chOff x="2727360" y="3827520"/>
            <a:chExt cx="925200" cy="101520"/>
          </a:xfrm>
        </p:grpSpPr>
        <p:sp>
          <p:nvSpPr>
            <p:cNvPr id="2041" name=""/>
            <p:cNvSpPr/>
            <p:nvPr/>
          </p:nvSpPr>
          <p:spPr>
            <a:xfrm>
              <a:off x="2727360" y="3827520"/>
              <a:ext cx="228600" cy="101520"/>
            </a:xfrm>
            <a:custGeom>
              <a:avLst/>
              <a:gdLst/>
              <a:ahLst/>
              <a:rect l="l" t="t" r="r" b="b"/>
              <a:pathLst>
                <a:path w="144" h="64">
                  <a:moveTo>
                    <a:pt x="0" y="32"/>
                  </a:moveTo>
                  <a:lnTo>
                    <a:pt x="144" y="0"/>
                  </a:lnTo>
                  <a:lnTo>
                    <a:pt x="144" y="32"/>
                  </a:lnTo>
                  <a:lnTo>
                    <a:pt x="144" y="6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H="1">
              <a:off x="2943000" y="3865680"/>
              <a:ext cx="709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3" name=""/>
          <p:cNvSpPr/>
          <p:nvPr/>
        </p:nvSpPr>
        <p:spPr>
          <a:xfrm>
            <a:off x="2600280" y="3613320"/>
            <a:ext cx="22860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2600280" y="4753080"/>
            <a:ext cx="22860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3513240" y="5437080"/>
            <a:ext cx="22860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3120120" y="42958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3121920" y="5208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2411640" y="356220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1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2461320" y="47023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375720" y="5384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4908600" y="3295800"/>
            <a:ext cx="457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4908600" y="3751200"/>
            <a:ext cx="4572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5821200" y="3751200"/>
            <a:ext cx="11415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6012000" y="3751200"/>
            <a:ext cx="228600" cy="45720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0" y="0"/>
                </a:moveTo>
                <a:lnTo>
                  <a:pt x="0" y="288"/>
                </a:lnTo>
                <a:lnTo>
                  <a:pt x="144" y="28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6620040" y="4208400"/>
            <a:ext cx="3427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4718880" y="3257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4718880" y="3713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7101360" y="3713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7103160" y="4168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2252160" y="2244600"/>
            <a:ext cx="110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 Ch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5036040" y="2244600"/>
            <a:ext cx="149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253200" y="3992400"/>
            <a:ext cx="46836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6240600" y="3979800"/>
            <a:ext cx="493560" cy="49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6363720" y="4145040"/>
            <a:ext cx="37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5378400" y="3081240"/>
            <a:ext cx="468360" cy="92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5365800" y="3068640"/>
            <a:ext cx="493560" cy="949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5520240" y="31431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5465880" y="3422520"/>
            <a:ext cx="1015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5515560" y="37004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2523960" y="2967120"/>
            <a:ext cx="47016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2511360" y="2954160"/>
            <a:ext cx="495360" cy="49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2587680" y="3030480"/>
            <a:ext cx="355680" cy="35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2575080" y="3017880"/>
            <a:ext cx="380880" cy="379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Flow Charts Or Blocks ? (2)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1194480" y="5219640"/>
            <a:ext cx="600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example,  flow chart seems to be more appropriate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1751040" y="1992240"/>
            <a:ext cx="1440" cy="34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1839960" y="2219400"/>
            <a:ext cx="8240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1751040" y="2562120"/>
            <a:ext cx="1440" cy="227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1751040" y="2219400"/>
            <a:ext cx="912960" cy="1431720"/>
          </a:xfrm>
          <a:custGeom>
            <a:avLst/>
            <a:gdLst/>
            <a:ahLst/>
            <a:rect l="l" t="t" r="r" b="b"/>
            <a:pathLst>
              <a:path w="575" h="902">
                <a:moveTo>
                  <a:pt x="0" y="503"/>
                </a:moveTo>
                <a:lnTo>
                  <a:pt x="0" y="902"/>
                </a:lnTo>
                <a:lnTo>
                  <a:pt x="575" y="902"/>
                </a:lnTo>
                <a:lnTo>
                  <a:pt x="575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1700280" y="2104920"/>
            <a:ext cx="1141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1700280" y="2674800"/>
            <a:ext cx="1141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2612880" y="3473280"/>
            <a:ext cx="1144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1649520" y="1776240"/>
            <a:ext cx="24120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1638360" y="1763640"/>
            <a:ext cx="264960" cy="26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1649520" y="2346480"/>
            <a:ext cx="241200" cy="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1638360" y="2333520"/>
            <a:ext cx="264960" cy="26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649520" y="2801880"/>
            <a:ext cx="241200" cy="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1638360" y="2789280"/>
            <a:ext cx="264960" cy="26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1700280" y="3132000"/>
            <a:ext cx="1141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1649520" y="3257640"/>
            <a:ext cx="241200" cy="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638360" y="3244680"/>
            <a:ext cx="264960" cy="26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1966680" y="24224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1966680" y="287820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1967040" y="33336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1408680" y="206676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1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1459800" y="2624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1459800" y="3079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2423520" y="3384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1700280" y="1827360"/>
            <a:ext cx="15228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4603680" y="1763640"/>
            <a:ext cx="266760" cy="49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5175360" y="1992240"/>
            <a:ext cx="264960" cy="49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5745240" y="2448000"/>
            <a:ext cx="266760" cy="493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6316560" y="2903400"/>
            <a:ext cx="265320" cy="49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4870440" y="2104920"/>
            <a:ext cx="3049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4148280" y="1878120"/>
            <a:ext cx="455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4376880" y="2104920"/>
            <a:ext cx="2268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5440320" y="2333520"/>
            <a:ext cx="3043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4946760" y="2333520"/>
            <a:ext cx="1369800" cy="684360"/>
          </a:xfrm>
          <a:custGeom>
            <a:avLst/>
            <a:gdLst/>
            <a:ahLst/>
            <a:rect l="l" t="t" r="r" b="b"/>
            <a:pathLst>
              <a:path w="863" h="431">
                <a:moveTo>
                  <a:pt x="144" y="0"/>
                </a:moveTo>
                <a:lnTo>
                  <a:pt x="0" y="0"/>
                </a:lnTo>
                <a:lnTo>
                  <a:pt x="0" y="431"/>
                </a:lnTo>
                <a:lnTo>
                  <a:pt x="863" y="4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6012000" y="278928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144"/>
                </a:moveTo>
                <a:lnTo>
                  <a:pt x="48" y="0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5276160" y="20797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5276520" y="23335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4705200" y="1852560"/>
            <a:ext cx="8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5846040" y="25351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6415920" y="2992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6416280" y="32446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5516640" y="233352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144"/>
                </a:moveTo>
                <a:lnTo>
                  <a:pt x="0" y="144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 flipH="1">
            <a:off x="4148280" y="2789280"/>
            <a:ext cx="1596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6581880" y="3244680"/>
            <a:ext cx="190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6886440" y="3359160"/>
            <a:ext cx="266760" cy="493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7456320" y="3814920"/>
            <a:ext cx="266760" cy="493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7153200" y="370044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144"/>
                </a:moveTo>
                <a:lnTo>
                  <a:pt x="48" y="0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6987600" y="3448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7557480" y="3903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7557840" y="41562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6657840" y="324468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144"/>
                </a:moveTo>
                <a:lnTo>
                  <a:pt x="0" y="144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6087960" y="3244680"/>
            <a:ext cx="1368360" cy="684360"/>
          </a:xfrm>
          <a:custGeom>
            <a:avLst/>
            <a:gdLst/>
            <a:ahLst/>
            <a:rect l="l" t="t" r="r" b="b"/>
            <a:pathLst>
              <a:path w="862" h="431">
                <a:moveTo>
                  <a:pt x="862" y="431"/>
                </a:moveTo>
                <a:lnTo>
                  <a:pt x="0" y="431"/>
                </a:ln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 flipH="1">
            <a:off x="4148280" y="3700440"/>
            <a:ext cx="2738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7723080" y="4157640"/>
            <a:ext cx="7606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8028000" y="4270320"/>
            <a:ext cx="264960" cy="49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8292960" y="4613400"/>
            <a:ext cx="76320" cy="226800"/>
          </a:xfrm>
          <a:custGeom>
            <a:avLst/>
            <a:gdLst/>
            <a:ahLst/>
            <a:rect l="l" t="t" r="r" b="b"/>
            <a:pathLst>
              <a:path w="48" h="143">
                <a:moveTo>
                  <a:pt x="48" y="143"/>
                </a:moveTo>
                <a:lnTo>
                  <a:pt x="48" y="0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8128800" y="435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7799400" y="4157640"/>
            <a:ext cx="228600" cy="227160"/>
          </a:xfrm>
          <a:custGeom>
            <a:avLst/>
            <a:gdLst/>
            <a:ahLst/>
            <a:rect l="l" t="t" r="r" b="b"/>
            <a:pathLst>
              <a:path w="144" h="143">
                <a:moveTo>
                  <a:pt x="144" y="143"/>
                </a:moveTo>
                <a:lnTo>
                  <a:pt x="0" y="143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 flipH="1">
            <a:off x="4147920" y="4613400"/>
            <a:ext cx="38797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4376880" y="2104920"/>
            <a:ext cx="3992400" cy="2735280"/>
          </a:xfrm>
          <a:custGeom>
            <a:avLst/>
            <a:gdLst/>
            <a:ahLst/>
            <a:rect l="l" t="t" r="r" b="b"/>
            <a:pathLst>
              <a:path w="2515" h="1723">
                <a:moveTo>
                  <a:pt x="2515" y="1723"/>
                </a:moveTo>
                <a:lnTo>
                  <a:pt x="0" y="1723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5" name=""/>
          <p:cNvGrpSpPr/>
          <p:nvPr/>
        </p:nvGrpSpPr>
        <p:grpSpPr>
          <a:xfrm>
            <a:off x="6075360" y="4802040"/>
            <a:ext cx="228600" cy="114480"/>
            <a:chOff x="6075360" y="4802040"/>
            <a:chExt cx="228600" cy="114480"/>
          </a:xfrm>
        </p:grpSpPr>
        <p:sp>
          <p:nvSpPr>
            <p:cNvPr id="2136" name=""/>
            <p:cNvSpPr/>
            <p:nvPr/>
          </p:nvSpPr>
          <p:spPr>
            <a:xfrm>
              <a:off x="6075360" y="4802040"/>
              <a:ext cx="228600" cy="114480"/>
            </a:xfrm>
            <a:custGeom>
              <a:avLst/>
              <a:gdLst/>
              <a:ahLst/>
              <a:rect l="l" t="t" r="r" b="b"/>
              <a:pathLst>
                <a:path w="144" h="72">
                  <a:moveTo>
                    <a:pt x="0" y="32"/>
                  </a:moveTo>
                  <a:lnTo>
                    <a:pt x="144" y="0"/>
                  </a:lnTo>
                  <a:lnTo>
                    <a:pt x="144" y="32"/>
                  </a:lnTo>
                  <a:lnTo>
                    <a:pt x="144" y="7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 flipH="1">
              <a:off x="6202080" y="484020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8" name=""/>
          <p:cNvGrpSpPr/>
          <p:nvPr/>
        </p:nvGrpSpPr>
        <p:grpSpPr>
          <a:xfrm>
            <a:off x="5504040" y="2979720"/>
            <a:ext cx="228600" cy="114480"/>
            <a:chOff x="5504040" y="2979720"/>
            <a:chExt cx="228600" cy="114480"/>
          </a:xfrm>
        </p:grpSpPr>
        <p:sp>
          <p:nvSpPr>
            <p:cNvPr id="2139" name=""/>
            <p:cNvSpPr/>
            <p:nvPr/>
          </p:nvSpPr>
          <p:spPr>
            <a:xfrm>
              <a:off x="5504040" y="2979720"/>
              <a:ext cx="228600" cy="114480"/>
            </a:xfrm>
            <a:custGeom>
              <a:avLst/>
              <a:gdLst/>
              <a:ahLst/>
              <a:rect l="l" t="t" r="r" b="b"/>
              <a:pathLst>
                <a:path w="144" h="72">
                  <a:moveTo>
                    <a:pt x="0" y="32"/>
                  </a:moveTo>
                  <a:lnTo>
                    <a:pt x="144" y="0"/>
                  </a:lnTo>
                  <a:lnTo>
                    <a:pt x="144" y="32"/>
                  </a:lnTo>
                  <a:lnTo>
                    <a:pt x="144" y="7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 flipH="1">
              <a:off x="5516640" y="3017880"/>
              <a:ext cx="2030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1" name=""/>
          <p:cNvGrpSpPr/>
          <p:nvPr/>
        </p:nvGrpSpPr>
        <p:grpSpPr>
          <a:xfrm>
            <a:off x="6645240" y="3890880"/>
            <a:ext cx="228600" cy="114480"/>
            <a:chOff x="6645240" y="3890880"/>
            <a:chExt cx="228600" cy="114480"/>
          </a:xfrm>
        </p:grpSpPr>
        <p:sp>
          <p:nvSpPr>
            <p:cNvPr id="2142" name=""/>
            <p:cNvSpPr/>
            <p:nvPr/>
          </p:nvSpPr>
          <p:spPr>
            <a:xfrm>
              <a:off x="6645240" y="3890880"/>
              <a:ext cx="228600" cy="114480"/>
            </a:xfrm>
            <a:custGeom>
              <a:avLst/>
              <a:gdLst/>
              <a:ahLst/>
              <a:rect l="l" t="t" r="r" b="b"/>
              <a:pathLst>
                <a:path w="144" h="72">
                  <a:moveTo>
                    <a:pt x="0" y="32"/>
                  </a:moveTo>
                  <a:lnTo>
                    <a:pt x="144" y="0"/>
                  </a:lnTo>
                  <a:lnTo>
                    <a:pt x="144" y="32"/>
                  </a:lnTo>
                  <a:lnTo>
                    <a:pt x="144" y="7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 flipH="1">
              <a:off x="6771960" y="3929040"/>
              <a:ext cx="88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4" name=""/>
          <p:cNvSpPr/>
          <p:nvPr/>
        </p:nvSpPr>
        <p:spPr>
          <a:xfrm>
            <a:off x="3893040" y="185256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3893400" y="2763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893400" y="36752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3893760" y="45878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839412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8343360" y="3219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8343720" y="41306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1472760" y="1308240"/>
            <a:ext cx="110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 Ch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5428080" y="1384200"/>
            <a:ext cx="1611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Assessment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515160" y="1665360"/>
            <a:ext cx="887904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are programming languages defined in IEC 61331 and for what are they used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 function block language, which are the two elements of programming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a PLC program executed and why is it that way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a ladder diagram and the corresponding function cha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a sequential chart implementing a 2-bit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a saw tooth waveform generator with function 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are inputs and outputs to the process treated in a function chart languag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a sequencer for a simple chewing-gum coi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a ramp generator for a ventilator speed control (soft start and stop in 5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353880" y="3965400"/>
            <a:ext cx="181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Discrete Plant (reminder)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62560" y="1413000"/>
            <a:ext cx="2389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: Elevator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1641600"/>
            <a:ext cx="1830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fic signaling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78560" y="1870200"/>
            <a:ext cx="1906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ehous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0080" y="4106880"/>
            <a:ext cx="7842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rete plants are normally reversible, but not monotone,  i.e. negating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1520" y="4335480"/>
            <a:ext cx="7958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which caused a transition will not revert the plant to the previous sta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6240" y="4838760"/>
            <a:ext cx="6815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:  an elevator don't return to the previous floor when the button is releas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9000" y="5249880"/>
            <a:ext cx="9049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rete plants are described by finite state machines, Petri nets or computer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400" y="3294000"/>
            <a:ext cx="8659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lant is described by variables which take well-defined, non-overlapping value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nsition from one state to another is abrupt, it is caused by an external ev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6840" y="5884920"/>
            <a:ext cx="8276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task of a control system with discrete plants is its sequential contro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403440" y="800280"/>
            <a:ext cx="3378240" cy="18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Functions of PLCs for discrete plants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081520" y="1332000"/>
            <a:ext cx="460764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combinations (AND, OR, NOT, EXO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p-flo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or m-out-of-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xer m-to-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00920" y="990720"/>
            <a:ext cx="126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16360" y="404172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19600" y="4371840"/>
            <a:ext cx="267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al input, touchsc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17080" y="4702320"/>
            <a:ext cx="2727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fety blocks (interlock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19240" y="5364000"/>
            <a:ext cx="81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89040" y="3726000"/>
            <a:ext cx="1812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aborated 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83240" y="5032440"/>
            <a:ext cx="155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arm signa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Discrete Control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60600" y="2660760"/>
            <a:ext cx="457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17800" y="2610000"/>
            <a:ext cx="144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70080" y="2610000"/>
            <a:ext cx="180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70080" y="2660760"/>
            <a:ext cx="4557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25840" y="2610000"/>
            <a:ext cx="144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78120" y="2610000"/>
            <a:ext cx="144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78120" y="2660760"/>
            <a:ext cx="457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92240" y="2444760"/>
            <a:ext cx="12708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02600" y="2457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76600" y="2444760"/>
            <a:ext cx="12708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86960" y="2457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30400" y="2874960"/>
            <a:ext cx="74772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14960" y="2887560"/>
            <a:ext cx="76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 = A ·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57480" y="3421080"/>
            <a:ext cx="823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81160" y="3370320"/>
            <a:ext cx="1800" cy="11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33440" y="3370320"/>
            <a:ext cx="1800" cy="11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81160" y="3762360"/>
            <a:ext cx="180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33440" y="3762360"/>
            <a:ext cx="180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93760" y="3597120"/>
            <a:ext cx="12708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04480" y="3610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52560" y="3421080"/>
            <a:ext cx="228600" cy="404640"/>
          </a:xfrm>
          <a:custGeom>
            <a:avLst/>
            <a:gdLst/>
            <a:ahLst/>
            <a:rect l="l" t="t" r="r" b="b"/>
            <a:pathLst>
              <a:path w="144" h="255">
                <a:moveTo>
                  <a:pt x="0" y="0"/>
                </a:moveTo>
                <a:lnTo>
                  <a:pt x="0" y="255"/>
                </a:lnTo>
                <a:lnTo>
                  <a:pt x="0" y="255"/>
                </a:lnTo>
                <a:lnTo>
                  <a:pt x="144" y="255"/>
                </a:lnTo>
                <a:lnTo>
                  <a:pt x="144" y="25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52560" y="3421080"/>
            <a:ext cx="228600" cy="404640"/>
          </a:xfrm>
          <a:custGeom>
            <a:avLst/>
            <a:gdLst/>
            <a:ahLst/>
            <a:rect l="l" t="t" r="r" b="b"/>
            <a:pathLst>
              <a:path w="144" h="255">
                <a:moveTo>
                  <a:pt x="0" y="0"/>
                </a:moveTo>
                <a:lnTo>
                  <a:pt x="0" y="255"/>
                </a:lnTo>
                <a:lnTo>
                  <a:pt x="144" y="25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33440" y="3421080"/>
            <a:ext cx="227160" cy="404640"/>
          </a:xfrm>
          <a:custGeom>
            <a:avLst/>
            <a:gdLst/>
            <a:ahLst/>
            <a:rect l="l" t="t" r="r" b="b"/>
            <a:pathLst>
              <a:path w="143" h="255">
                <a:moveTo>
                  <a:pt x="0" y="255"/>
                </a:moveTo>
                <a:lnTo>
                  <a:pt x="143" y="255"/>
                </a:lnTo>
                <a:lnTo>
                  <a:pt x="143" y="255"/>
                </a:lnTo>
                <a:lnTo>
                  <a:pt x="143" y="0"/>
                </a:lnTo>
                <a:lnTo>
                  <a:pt x="14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33440" y="3421080"/>
            <a:ext cx="227160" cy="404640"/>
          </a:xfrm>
          <a:custGeom>
            <a:avLst/>
            <a:gdLst/>
            <a:ahLst/>
            <a:rect l="l" t="t" r="r" b="b"/>
            <a:pathLst>
              <a:path w="143" h="255">
                <a:moveTo>
                  <a:pt x="0" y="255"/>
                </a:moveTo>
                <a:lnTo>
                  <a:pt x="143" y="255"/>
                </a:lnTo>
                <a:lnTo>
                  <a:pt x="14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042640" y="3370320"/>
            <a:ext cx="228600" cy="11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03680" y="3370320"/>
            <a:ext cx="1440" cy="11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55960" y="3370320"/>
            <a:ext cx="1440" cy="11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03680" y="3205080"/>
            <a:ext cx="13968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666880" y="3124080"/>
            <a:ext cx="47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955960" y="3421080"/>
            <a:ext cx="658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233440" y="3421080"/>
            <a:ext cx="570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04480" y="3218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47720" y="4008600"/>
            <a:ext cx="1145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 = (A + B) ·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66880" y="39798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2343240"/>
            <a:ext cx="3182760" cy="2305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94480" y="749160"/>
            <a:ext cx="2687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tial, memory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27320" y="762120"/>
            <a:ext cx="271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orial, memory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97520" y="762120"/>
            <a:ext cx="1440" cy="516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66280" y="305280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d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23240" y="3281400"/>
            <a:ext cx="46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28880" y="1281240"/>
            <a:ext cx="7683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73800" y="2954160"/>
            <a:ext cx="1440" cy="155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45200" y="3143160"/>
            <a:ext cx="469800" cy="470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40360" y="2117880"/>
            <a:ext cx="470160" cy="46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78520" y="2155680"/>
            <a:ext cx="393840" cy="392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97480" y="3713040"/>
            <a:ext cx="152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932600" y="3713040"/>
            <a:ext cx="152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08920" y="2954160"/>
            <a:ext cx="1440" cy="155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80320" y="3143160"/>
            <a:ext cx="469800" cy="470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145200" y="3827520"/>
            <a:ext cx="469800" cy="46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780320" y="3827520"/>
            <a:ext cx="469800" cy="46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42920" y="1471680"/>
            <a:ext cx="153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GRAFC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3320" y="5018040"/>
            <a:ext cx="469800" cy="46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56" idx="0"/>
            <a:endCxn id="257" idx="0"/>
          </p:cNvCxnSpPr>
          <p:nvPr/>
        </p:nvCxnSpPr>
        <p:spPr>
          <a:xfrm rot="5400000">
            <a:off x="6353280" y="5134680"/>
            <a:ext cx="75240" cy="1391040"/>
          </a:xfrm>
          <a:prstGeom prst="bentConnector3">
            <a:avLst>
              <a:gd name="adj1" fmla="val 40625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57" name=""/>
          <p:cNvSpPr/>
          <p:nvPr/>
        </p:nvSpPr>
        <p:spPr>
          <a:xfrm>
            <a:off x="5657760" y="5791320"/>
            <a:ext cx="76320" cy="75960"/>
          </a:xfrm>
          <a:custGeom>
            <a:avLst/>
            <a:gdLst/>
            <a:ahLst/>
            <a:rect l="l" t="t" r="r" b="b"/>
            <a:pathLst>
              <a:path w="96" h="96">
                <a:moveTo>
                  <a:pt x="48" y="0"/>
                </a:moveTo>
                <a:lnTo>
                  <a:pt x="0" y="96"/>
                </a:lnTo>
                <a:lnTo>
                  <a:pt x="48" y="96"/>
                </a:lnTo>
                <a:lnTo>
                  <a:pt x="96" y="96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stCxn id="257" idx="1"/>
            <a:endCxn id="245" idx="0"/>
          </p:cNvCxnSpPr>
          <p:nvPr/>
        </p:nvCxnSpPr>
        <p:spPr>
          <a:xfrm flipH="1" flipV="1" rot="5400000">
            <a:off x="4548600" y="3264480"/>
            <a:ext cx="3674160" cy="1380240"/>
          </a:xfrm>
          <a:prstGeom prst="bentConnector3">
            <a:avLst>
              <a:gd name="adj1" fmla="val 106212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59" name=""/>
          <p:cNvCxnSpPr>
            <a:stCxn id="254" idx="2"/>
            <a:endCxn id="256" idx="1"/>
          </p:cNvCxnSpPr>
          <p:nvPr/>
        </p:nvCxnSpPr>
        <p:spPr>
          <a:xfrm rot="5400000">
            <a:off x="6970680" y="5601600"/>
            <a:ext cx="232560" cy="2160"/>
          </a:xfrm>
          <a:prstGeom prst="bentConnector3">
            <a:avLst>
              <a:gd name="adj1" fmla="val 49302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56" name=""/>
          <p:cNvSpPr/>
          <p:nvPr/>
        </p:nvSpPr>
        <p:spPr>
          <a:xfrm flipV="1">
            <a:off x="6975360" y="5716440"/>
            <a:ext cx="223920" cy="74880"/>
          </a:xfrm>
          <a:custGeom>
            <a:avLst/>
            <a:gdLst/>
            <a:ahLst/>
            <a:rect l="l" t="t" r="r" b="b"/>
            <a:pathLst>
              <a:path w="96" h="48">
                <a:moveTo>
                  <a:pt x="0" y="0"/>
                </a:moveTo>
                <a:lnTo>
                  <a:pt x="48" y="0"/>
                </a:lnTo>
                <a:lnTo>
                  <a:pt x="96" y="0"/>
                </a:lnTo>
                <a:lnTo>
                  <a:pt x="96" y="48"/>
                </a:lnTo>
                <a:lnTo>
                  <a:pt x="48" y="48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45" idx="2"/>
            <a:endCxn id="261" idx="0"/>
          </p:cNvCxnSpPr>
          <p:nvPr/>
        </p:nvCxnSpPr>
        <p:spPr>
          <a:xfrm rot="5400000">
            <a:off x="7033680" y="2625120"/>
            <a:ext cx="81360" cy="2160"/>
          </a:xfrm>
          <a:prstGeom prst="bentConnector3">
            <a:avLst>
              <a:gd name="adj1" fmla="val 48888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 flipV="1">
            <a:off x="6962760" y="2666880"/>
            <a:ext cx="223920" cy="76320"/>
          </a:xfrm>
          <a:custGeom>
            <a:avLst/>
            <a:gdLst/>
            <a:ahLst/>
            <a:rect l="l" t="t" r="r" b="b"/>
            <a:pathLst>
              <a:path w="96" h="48">
                <a:moveTo>
                  <a:pt x="0" y="0"/>
                </a:moveTo>
                <a:lnTo>
                  <a:pt x="48" y="0"/>
                </a:lnTo>
                <a:lnTo>
                  <a:pt x="96" y="0"/>
                </a:lnTo>
                <a:lnTo>
                  <a:pt x="96" y="48"/>
                </a:lnTo>
                <a:lnTo>
                  <a:pt x="48" y="48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54680" y="2870280"/>
            <a:ext cx="2743200" cy="75960"/>
          </a:xfrm>
          <a:custGeom>
            <a:avLst/>
            <a:gdLst/>
            <a:ahLst/>
            <a:rect l="l" t="t" r="r" b="b"/>
            <a:pathLst>
              <a:path w="1728" h="48">
                <a:moveTo>
                  <a:pt x="0" y="0"/>
                </a:moveTo>
                <a:lnTo>
                  <a:pt x="768" y="0"/>
                </a:lnTo>
                <a:lnTo>
                  <a:pt x="1728" y="0"/>
                </a:lnTo>
                <a:lnTo>
                  <a:pt x="1728" y="48"/>
                </a:lnTo>
                <a:lnTo>
                  <a:pt x="1344" y="48"/>
                </a:lnTo>
                <a:lnTo>
                  <a:pt x="288" y="48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1" idx="1"/>
            <a:endCxn id="262" idx="0"/>
          </p:cNvCxnSpPr>
          <p:nvPr/>
        </p:nvCxnSpPr>
        <p:spPr>
          <a:xfrm>
            <a:off x="7073640" y="2742840"/>
            <a:ext cx="1080" cy="1278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 flipV="1">
            <a:off x="6975360" y="4800600"/>
            <a:ext cx="223920" cy="76320"/>
          </a:xfrm>
          <a:custGeom>
            <a:avLst/>
            <a:gdLst/>
            <a:ahLst/>
            <a:rect l="l" t="t" r="r" b="b"/>
            <a:pathLst>
              <a:path w="96" h="48">
                <a:moveTo>
                  <a:pt x="0" y="0"/>
                </a:moveTo>
                <a:lnTo>
                  <a:pt x="48" y="0"/>
                </a:lnTo>
                <a:lnTo>
                  <a:pt x="96" y="0"/>
                </a:lnTo>
                <a:lnTo>
                  <a:pt x="96" y="48"/>
                </a:lnTo>
                <a:lnTo>
                  <a:pt x="48" y="48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5867280" y="4495680"/>
            <a:ext cx="2743200" cy="76320"/>
          </a:xfrm>
          <a:custGeom>
            <a:avLst/>
            <a:gdLst/>
            <a:ahLst/>
            <a:rect l="l" t="t" r="r" b="b"/>
            <a:pathLst>
              <a:path w="1728" h="48">
                <a:moveTo>
                  <a:pt x="0" y="0"/>
                </a:moveTo>
                <a:lnTo>
                  <a:pt x="768" y="0"/>
                </a:lnTo>
                <a:lnTo>
                  <a:pt x="1728" y="0"/>
                </a:lnTo>
                <a:lnTo>
                  <a:pt x="1728" y="48"/>
                </a:lnTo>
                <a:lnTo>
                  <a:pt x="1344" y="48"/>
                </a:lnTo>
                <a:lnTo>
                  <a:pt x="288" y="48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65" idx="0"/>
            <a:endCxn id="264" idx="0"/>
          </p:cNvCxnSpPr>
          <p:nvPr/>
        </p:nvCxnSpPr>
        <p:spPr>
          <a:xfrm>
            <a:off x="7085160" y="4571640"/>
            <a:ext cx="2160" cy="229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67" name=""/>
          <p:cNvCxnSpPr>
            <a:stCxn id="264" idx="1"/>
            <a:endCxn id="254" idx="0"/>
          </p:cNvCxnSpPr>
          <p:nvPr/>
        </p:nvCxnSpPr>
        <p:spPr>
          <a:xfrm>
            <a:off x="7086600" y="4876920"/>
            <a:ext cx="2160" cy="1418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68" name=""/>
          <p:cNvSpPr/>
          <p:nvPr/>
        </p:nvSpPr>
        <p:spPr>
          <a:xfrm>
            <a:off x="1373040" y="1371600"/>
            <a:ext cx="1609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ladder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Real-Time languages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066680"/>
            <a:ext cx="4192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procedural languages to express ti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02160" y="1693800"/>
            <a:ext cx="4101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“introduce programming constructs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03600" y="1998720"/>
            <a:ext cx="405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luence scheduling and control flow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4120" y="1066680"/>
            <a:ext cx="3595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s developed for cycl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893200" y="1387440"/>
            <a:ext cx="2551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and real-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75520" y="1693800"/>
            <a:ext cx="3596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"application-oriented languag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9360" y="1149480"/>
            <a:ext cx="0" cy="486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562720" y="2517840"/>
            <a:ext cx="1345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dder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560920" y="2746440"/>
            <a:ext cx="181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563440" y="2975040"/>
            <a:ext cx="2575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block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60920" y="3203640"/>
            <a:ext cx="181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61640" y="3432240"/>
            <a:ext cx="1677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 l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0920" y="3660840"/>
            <a:ext cx="181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0560" y="3889440"/>
            <a:ext cx="1274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FC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60920" y="4118040"/>
            <a:ext cx="181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61280" y="4346640"/>
            <a:ext cx="624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60920" y="4575240"/>
            <a:ext cx="181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560200" y="4803840"/>
            <a:ext cx="6782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03000" y="2517840"/>
            <a:ext cx="262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103720" y="2746440"/>
            <a:ext cx="181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03000" y="2975040"/>
            <a:ext cx="262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103720" y="3203640"/>
            <a:ext cx="181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03000" y="3432240"/>
            <a:ext cx="262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03720" y="3660840"/>
            <a:ext cx="181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03000" y="3889440"/>
            <a:ext cx="262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03720" y="4118040"/>
            <a:ext cx="181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03000" y="4346640"/>
            <a:ext cx="26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35200" y="5692680"/>
            <a:ext cx="3654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ide-spread in the control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93840" y="2441520"/>
            <a:ext cx="65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3840" y="2670120"/>
            <a:ext cx="181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95640" y="2898720"/>
            <a:ext cx="1778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18960" y="3352680"/>
            <a:ext cx="2010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S (TU Wi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93480" y="3584520"/>
            <a:ext cx="245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93480" y="3813120"/>
            <a:ext cx="714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93840" y="4041720"/>
            <a:ext cx="181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94200" y="4270320"/>
            <a:ext cx="2807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” with real-time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93840" y="4498920"/>
            <a:ext cx="181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93480" y="4727520"/>
            <a:ext cx="71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94560" y="5692680"/>
            <a:ext cx="3122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ld not impose themsel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4959360" y="851040"/>
            <a:ext cx="592200" cy="204480"/>
            <a:chOff x="4959360" y="851040"/>
            <a:chExt cx="592200" cy="204480"/>
          </a:xfrm>
        </p:grpSpPr>
        <p:sp>
          <p:nvSpPr>
            <p:cNvPr id="310" name=""/>
            <p:cNvSpPr/>
            <p:nvPr/>
          </p:nvSpPr>
          <p:spPr>
            <a:xfrm>
              <a:off x="5410080" y="965160"/>
              <a:ext cx="141480" cy="90360"/>
            </a:xfrm>
            <a:custGeom>
              <a:avLst/>
              <a:gdLst/>
              <a:ahLst/>
              <a:rect l="l" t="t" r="r" b="b"/>
              <a:pathLst>
                <a:path w="89" h="57">
                  <a:moveTo>
                    <a:pt x="88" y="56"/>
                  </a:moveTo>
                  <a:lnTo>
                    <a:pt x="0" y="49"/>
                  </a:lnTo>
                  <a:lnTo>
                    <a:pt x="7" y="28"/>
                  </a:lnTo>
                  <a:lnTo>
                    <a:pt x="15" y="0"/>
                  </a:lnTo>
                  <a:lnTo>
                    <a:pt x="88" y="5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959360" y="851040"/>
              <a:ext cx="45720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4267080" y="851040"/>
            <a:ext cx="609480" cy="204480"/>
            <a:chOff x="4267080" y="851040"/>
            <a:chExt cx="609480" cy="204480"/>
          </a:xfrm>
        </p:grpSpPr>
        <p:sp>
          <p:nvSpPr>
            <p:cNvPr id="313" name=""/>
            <p:cNvSpPr/>
            <p:nvPr/>
          </p:nvSpPr>
          <p:spPr>
            <a:xfrm>
              <a:off x="4267080" y="965160"/>
              <a:ext cx="128880" cy="90360"/>
            </a:xfrm>
            <a:custGeom>
              <a:avLst/>
              <a:gdLst/>
              <a:ahLst/>
              <a:rect l="l" t="t" r="r" b="b"/>
              <a:pathLst>
                <a:path w="81" h="57">
                  <a:moveTo>
                    <a:pt x="0" y="56"/>
                  </a:moveTo>
                  <a:lnTo>
                    <a:pt x="80" y="49"/>
                  </a:lnTo>
                  <a:lnTo>
                    <a:pt x="73" y="28"/>
                  </a:lnTo>
                  <a:lnTo>
                    <a:pt x="65" y="0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4393800" y="851040"/>
              <a:ext cx="48276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064520" y="2441520"/>
            <a:ext cx="262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65240" y="2670120"/>
            <a:ext cx="181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64520" y="2898720"/>
            <a:ext cx="262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65240" y="3127320"/>
            <a:ext cx="181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064520" y="3355920"/>
            <a:ext cx="262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065240" y="3584520"/>
            <a:ext cx="181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64520" y="3813120"/>
            <a:ext cx="262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065240" y="4041720"/>
            <a:ext cx="181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064520" y="4270320"/>
            <a:ext cx="262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65240" y="4498920"/>
            <a:ext cx="181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4520" y="4727520"/>
            <a:ext cx="26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4880" y="201600"/>
            <a:ext cx="95756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The five IEC 61131-3 Programming languages</a:t>
            </a:r>
            <a:endParaRPr b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979160" y="3962520"/>
            <a:ext cx="2448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e0043"/>
                </a:solidFill>
                <a:latin typeface="Arial"/>
              </a:rPr>
              <a:t>Structured Text (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5257800" y="4309920"/>
            <a:ext cx="3962520" cy="2057400"/>
            <a:chOff x="5257800" y="4309920"/>
            <a:chExt cx="3962520" cy="2057400"/>
          </a:xfrm>
        </p:grpSpPr>
        <p:sp>
          <p:nvSpPr>
            <p:cNvPr id="329" name=""/>
            <p:cNvSpPr/>
            <p:nvPr/>
          </p:nvSpPr>
          <p:spPr>
            <a:xfrm>
              <a:off x="5334120" y="4385880"/>
              <a:ext cx="3886200" cy="1981440"/>
            </a:xfrm>
            <a:prstGeom prst="rect">
              <a:avLst/>
            </a:prstGeom>
            <a:solidFill>
              <a:srgbClr val="47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257800" y="4309920"/>
              <a:ext cx="3908520" cy="1995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438520" y="4346280"/>
              <a:ext cx="330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VAR CONSTANT X : REAL := 53.8 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40680" y="4557600"/>
              <a:ext cx="181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Z : REAL; END_V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38160" y="4770360"/>
              <a:ext cx="3414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VAR aFB, bFB :  FB_type; END_V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40320" y="5154480"/>
              <a:ext cx="202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bFB(A:=1, B:=‘OK’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38160" y="5367240"/>
              <a:ext cx="3414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Z := X - INT_TO_REAL (bFB.OUT1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37800" y="5578200"/>
              <a:ext cx="373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F Z&gt;57.0 THEN aFB(A:=0, B:=“ERR”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38520" y="5789520"/>
              <a:ext cx="320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LSE  aFB(A:=1, B:=“Z is OK”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442480" y="6002280"/>
              <a:ext cx="64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_I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52440" y="2928960"/>
            <a:ext cx="2518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e0043"/>
                </a:solidFill>
                <a:latin typeface="Arial"/>
              </a:rPr>
              <a:t>Ladder Diagram (L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8480" y="3298680"/>
            <a:ext cx="4318200" cy="1730520"/>
          </a:xfrm>
          <a:prstGeom prst="rect">
            <a:avLst/>
          </a:prstGeom>
          <a:solidFill>
            <a:srgbClr val="47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0680" y="3233880"/>
            <a:ext cx="4317840" cy="1717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85760" y="3643200"/>
            <a:ext cx="533520" cy="270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180080" y="3684600"/>
            <a:ext cx="43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"/>
              </a:rPr>
              <a:t>AU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90720" y="4403880"/>
            <a:ext cx="722160" cy="26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75320" y="4443480"/>
            <a:ext cx="68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"/>
              </a:rPr>
              <a:t>MAN_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135080" y="4032360"/>
            <a:ext cx="436680" cy="26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39840" y="4071960"/>
            <a:ext cx="29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"/>
              </a:rPr>
              <a:t>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93600" y="3968640"/>
            <a:ext cx="244800" cy="1296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246320" y="3933720"/>
            <a:ext cx="25200" cy="856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30280" y="3933720"/>
            <a:ext cx="25560" cy="856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90720" y="4340160"/>
            <a:ext cx="244440" cy="1260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243080" y="4305240"/>
            <a:ext cx="25200" cy="856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25600" y="4305240"/>
            <a:ext cx="25200" cy="856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68440" y="3968640"/>
            <a:ext cx="365040" cy="1296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455840" y="4336920"/>
            <a:ext cx="371520" cy="1296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998640" y="4735440"/>
            <a:ext cx="242640" cy="1260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49200" y="4700520"/>
            <a:ext cx="25560" cy="856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432080" y="4700520"/>
            <a:ext cx="25200" cy="856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460520" y="4735440"/>
            <a:ext cx="1593720" cy="1260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59280" y="3987720"/>
            <a:ext cx="12600" cy="74304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684520" y="3968640"/>
            <a:ext cx="768240" cy="1296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624120" y="3968640"/>
            <a:ext cx="439920" cy="1296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16160" y="4275000"/>
            <a:ext cx="55440" cy="152640"/>
          </a:xfrm>
          <a:custGeom>
            <a:avLst/>
            <a:gdLst/>
            <a:ahLst/>
            <a:rect l="l" t="t" r="r" b="b"/>
            <a:pathLst>
              <a:path w="35" h="96">
                <a:moveTo>
                  <a:pt x="0" y="94"/>
                </a:moveTo>
                <a:lnTo>
                  <a:pt x="7" y="96"/>
                </a:lnTo>
                <a:lnTo>
                  <a:pt x="35" y="2"/>
                </a:lnTo>
                <a:lnTo>
                  <a:pt x="28" y="0"/>
                </a:lnTo>
                <a:lnTo>
                  <a:pt x="0" y="94"/>
                </a:lnTo>
                <a:close/>
              </a:path>
            </a:pathLst>
          </a:cu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78320" y="3921120"/>
            <a:ext cx="114120" cy="1094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452760" y="3895560"/>
            <a:ext cx="165240" cy="160560"/>
          </a:xfrm>
          <a:prstGeom prst="ellipse">
            <a:avLst/>
          </a:prstGeom>
          <a:noFill/>
          <a:ln w="2556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02080" y="3868560"/>
            <a:ext cx="73080" cy="22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78040" y="3400560"/>
            <a:ext cx="596880" cy="26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035080" y="3336840"/>
            <a:ext cx="47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"/>
              </a:rPr>
              <a:t>CAL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00160" y="3638520"/>
            <a:ext cx="528840" cy="270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12120" y="3679920"/>
            <a:ext cx="387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"/>
              </a:rPr>
              <a:t>CA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832040" y="3859200"/>
            <a:ext cx="374760" cy="271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909440" y="3900600"/>
            <a:ext cx="27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"/>
              </a:rPr>
              <a:t>I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832040" y="4214880"/>
            <a:ext cx="374760" cy="271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09440" y="4255920"/>
            <a:ext cx="27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"/>
              </a:rPr>
              <a:t>I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81320" y="3868560"/>
            <a:ext cx="442800" cy="271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373120" y="3909960"/>
            <a:ext cx="326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"/>
              </a:rPr>
              <a:t>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87880" y="3624120"/>
            <a:ext cx="542880" cy="270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73200" y="3665520"/>
            <a:ext cx="45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"/>
              </a:rPr>
              <a:t>P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968400" y="3365640"/>
            <a:ext cx="25200" cy="150624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827360" y="3587760"/>
            <a:ext cx="855360" cy="961920"/>
          </a:xfrm>
          <a:prstGeom prst="rect">
            <a:avLst/>
          </a:prstGeom>
          <a:noFill/>
          <a:ln w="2556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070520" y="3362400"/>
            <a:ext cx="25200" cy="150660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919280" y="380880"/>
            <a:ext cx="1726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sagraf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51360" y="795240"/>
            <a:ext cx="369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e0043"/>
                </a:solidFill>
                <a:latin typeface="Arial"/>
              </a:rPr>
              <a:t>Function Block Diagram (FB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28480" y="1219320"/>
            <a:ext cx="4318200" cy="1676160"/>
          </a:xfrm>
          <a:prstGeom prst="rect">
            <a:avLst/>
          </a:prstGeom>
          <a:solidFill>
            <a:srgbClr val="000000"/>
          </a:solidFill>
          <a:ln w="12600">
            <a:solidFill>
              <a:srgbClr val="767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0680" y="1176480"/>
            <a:ext cx="431784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155600" y="1973160"/>
            <a:ext cx="646200" cy="1296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51240" y="1973160"/>
            <a:ext cx="755640" cy="1296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68640" y="2184480"/>
            <a:ext cx="133200" cy="1260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618000" y="2190600"/>
            <a:ext cx="339480" cy="1296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566720" y="2416320"/>
            <a:ext cx="160560" cy="1260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749600" y="2389320"/>
            <a:ext cx="31680" cy="680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724040" y="2363760"/>
            <a:ext cx="82440" cy="119160"/>
          </a:xfrm>
          <a:prstGeom prst="ellipse">
            <a:avLst/>
          </a:prstGeom>
          <a:noFill/>
          <a:ln w="2556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77960" y="1309680"/>
            <a:ext cx="596880" cy="270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877760" y="1279440"/>
            <a:ext cx="47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"/>
              </a:rPr>
              <a:t>CAL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851120" y="1536840"/>
            <a:ext cx="527040" cy="26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62720" y="1576440"/>
            <a:ext cx="387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"/>
              </a:rPr>
              <a:t>CA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752480" y="1841400"/>
            <a:ext cx="374760" cy="270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830240" y="1882800"/>
            <a:ext cx="27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"/>
              </a:rPr>
              <a:t>I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752480" y="2286000"/>
            <a:ext cx="374760" cy="270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830240" y="2325600"/>
            <a:ext cx="27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"/>
              </a:rPr>
              <a:t>I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81160" y="1859040"/>
            <a:ext cx="444600" cy="26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173320" y="1898640"/>
            <a:ext cx="326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"/>
              </a:rPr>
              <a:t>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28960" y="1549440"/>
            <a:ext cx="542880" cy="270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12840" y="1508040"/>
            <a:ext cx="45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"/>
              </a:rPr>
              <a:t>P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00200" y="1203480"/>
            <a:ext cx="533160" cy="26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94520" y="1243080"/>
            <a:ext cx="43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"/>
              </a:rPr>
              <a:t>AU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500200" y="2077920"/>
            <a:ext cx="722520" cy="271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84800" y="2119320"/>
            <a:ext cx="68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"/>
              </a:rPr>
              <a:t>MAN_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12840" y="2308320"/>
            <a:ext cx="436680" cy="26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317600" y="2347920"/>
            <a:ext cx="29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"/>
              </a:rPr>
              <a:t>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14800" y="1808280"/>
            <a:ext cx="395280" cy="26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98320" y="1849320"/>
            <a:ext cx="26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"/>
              </a:rPr>
              <a:t>&gt;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39880" y="1506600"/>
            <a:ext cx="352440" cy="26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950400" y="1547640"/>
            <a:ext cx="17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"/>
              </a:rPr>
              <a:t>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50760" y="1859040"/>
            <a:ext cx="265320" cy="26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046160" y="1898640"/>
            <a:ext cx="9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951360" y="1785960"/>
            <a:ext cx="368280" cy="270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038480" y="1827360"/>
            <a:ext cx="235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"/>
              </a:rPr>
              <a:t>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075200" y="2046240"/>
            <a:ext cx="264960" cy="271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170240" y="2087640"/>
            <a:ext cx="9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329000" y="2162160"/>
            <a:ext cx="90720" cy="1260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26920" y="1509840"/>
            <a:ext cx="358920" cy="690480"/>
          </a:xfrm>
          <a:prstGeom prst="rect">
            <a:avLst/>
          </a:prstGeom>
          <a:noFill/>
          <a:ln w="2556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28840" y="1751040"/>
            <a:ext cx="393840" cy="674640"/>
          </a:xfrm>
          <a:prstGeom prst="rect">
            <a:avLst/>
          </a:prstGeom>
          <a:noFill/>
          <a:ln w="2556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2800" y="1751040"/>
            <a:ext cx="365040" cy="666720"/>
          </a:xfrm>
          <a:prstGeom prst="rect">
            <a:avLst/>
          </a:prstGeom>
          <a:noFill/>
          <a:ln w="2556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801800" y="1525680"/>
            <a:ext cx="741240" cy="1119240"/>
          </a:xfrm>
          <a:prstGeom prst="rect">
            <a:avLst/>
          </a:prstGeom>
          <a:noFill/>
          <a:ln w="2556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3160" y="5081760"/>
            <a:ext cx="207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e0043"/>
                </a:solidFill>
                <a:latin typeface="Arial"/>
              </a:rPr>
              <a:t>Instruction List (I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8480" y="5446800"/>
            <a:ext cx="4318200" cy="936360"/>
          </a:xfrm>
          <a:prstGeom prst="rect">
            <a:avLst/>
          </a:prstGeom>
          <a:solidFill>
            <a:srgbClr val="47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0680" y="5410080"/>
            <a:ext cx="4317840" cy="901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04520" y="5465880"/>
            <a:ext cx="365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: LD   %IX1 (* PUSH BUTTON *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04880" y="5708520"/>
            <a:ext cx="390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NDN %MX5 (* NOT INHIBITED *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03440" y="5952960"/>
            <a:ext cx="3048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   %QX2 (* FAN ON *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951080" y="816120"/>
            <a:ext cx="307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e0043"/>
                </a:solidFill>
                <a:latin typeface="Arial"/>
              </a:rPr>
              <a:t>Sequential Flow Chart (SF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5203800" y="1197000"/>
            <a:ext cx="4549680" cy="2536920"/>
            <a:chOff x="5203800" y="1197000"/>
            <a:chExt cx="4549680" cy="2536920"/>
          </a:xfrm>
        </p:grpSpPr>
        <p:sp>
          <p:nvSpPr>
            <p:cNvPr id="434" name=""/>
            <p:cNvSpPr/>
            <p:nvPr/>
          </p:nvSpPr>
          <p:spPr>
            <a:xfrm>
              <a:off x="5257800" y="1295640"/>
              <a:ext cx="4495680" cy="2438280"/>
            </a:xfrm>
            <a:prstGeom prst="rect">
              <a:avLst/>
            </a:prstGeom>
            <a:solidFill>
              <a:srgbClr val="47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03800" y="1197000"/>
              <a:ext cx="4495680" cy="2482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56280" y="2748240"/>
              <a:ext cx="2438280" cy="582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956280" y="2035440"/>
              <a:ext cx="2438280" cy="582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97280" y="1273320"/>
              <a:ext cx="1255680" cy="501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7240" y="1327320"/>
              <a:ext cx="1177920" cy="393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736600" y="1425600"/>
              <a:ext cx="9500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ART STE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812920" y="1852920"/>
              <a:ext cx="178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812920" y="2568600"/>
              <a:ext cx="178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325360" y="2111400"/>
              <a:ext cx="81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1_REA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330040" y="2419560"/>
              <a:ext cx="81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2_REA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597280" y="2111400"/>
              <a:ext cx="125568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949000" y="2187720"/>
              <a:ext cx="5522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7" name=""/>
            <p:cNvCxnSpPr>
              <a:stCxn id="438" idx="2"/>
              <a:endCxn id="448" idx="0"/>
            </p:cNvCxnSpPr>
            <p:nvPr/>
          </p:nvCxnSpPr>
          <p:spPr>
            <a:xfrm flipV="1" rot="10800000">
              <a:off x="6225480" y="1774440"/>
              <a:ext cx="1080" cy="18504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449" name=""/>
            <p:cNvCxnSpPr>
              <a:stCxn id="445" idx="2"/>
              <a:endCxn id="450" idx="0"/>
            </p:cNvCxnSpPr>
            <p:nvPr/>
          </p:nvCxnSpPr>
          <p:spPr>
            <a:xfrm flipV="1" rot="10800000">
              <a:off x="6225480" y="2492280"/>
              <a:ext cx="1080" cy="15300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451" name=""/>
            <p:cNvSpPr/>
            <p:nvPr/>
          </p:nvSpPr>
          <p:spPr>
            <a:xfrm>
              <a:off x="7203960" y="2049480"/>
              <a:ext cx="12600" cy="54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238960" y="2055960"/>
              <a:ext cx="12600" cy="54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320600" y="2113200"/>
              <a:ext cx="82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TION 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43400" y="20973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048080" y="2417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36440" y="2416320"/>
              <a:ext cx="82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TION D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597280" y="2797200"/>
              <a:ext cx="125568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949000" y="2895840"/>
              <a:ext cx="5522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099120" y="3407040"/>
              <a:ext cx="2538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0" name=""/>
            <p:cNvCxnSpPr>
              <a:stCxn id="448" idx="2"/>
              <a:endCxn id="445" idx="0"/>
            </p:cNvCxnSpPr>
            <p:nvPr/>
          </p:nvCxnSpPr>
          <p:spPr>
            <a:xfrm flipV="1" rot="10800000">
              <a:off x="6225480" y="1971360"/>
              <a:ext cx="1080" cy="14040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461" name=""/>
            <p:cNvCxnSpPr>
              <a:stCxn id="459" idx="0"/>
              <a:endCxn id="457" idx="2"/>
            </p:cNvCxnSpPr>
            <p:nvPr/>
          </p:nvCxnSpPr>
          <p:spPr>
            <a:xfrm flipV="1">
              <a:off x="6225840" y="3177720"/>
              <a:ext cx="1080" cy="2293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462" name=""/>
            <p:cNvSpPr/>
            <p:nvPr/>
          </p:nvSpPr>
          <p:spPr>
            <a:xfrm>
              <a:off x="8325360" y="2824200"/>
              <a:ext cx="81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3_REA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330040" y="3132360"/>
              <a:ext cx="81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4_REA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203960" y="2762280"/>
              <a:ext cx="12600" cy="54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238960" y="2768760"/>
              <a:ext cx="12600" cy="54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20600" y="2826000"/>
              <a:ext cx="82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TION D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043400" y="2810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048080" y="31305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36440" y="3129120"/>
              <a:ext cx="82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TION D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9120" y="2644920"/>
              <a:ext cx="2538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0" name=""/>
            <p:cNvCxnSpPr>
              <a:stCxn id="450" idx="2"/>
              <a:endCxn id="457" idx="0"/>
            </p:cNvCxnSpPr>
            <p:nvPr/>
          </p:nvCxnSpPr>
          <p:spPr>
            <a:xfrm flipV="1" rot="10800000">
              <a:off x="6225480" y="2657160"/>
              <a:ext cx="1080" cy="14040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448" name=""/>
            <p:cNvSpPr/>
            <p:nvPr/>
          </p:nvSpPr>
          <p:spPr>
            <a:xfrm>
              <a:off x="6099120" y="1959120"/>
              <a:ext cx="2538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736600" y="3330720"/>
              <a:ext cx="178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2" name=""/>
            <p:cNvCxnSpPr>
              <a:stCxn id="445" idx="0"/>
              <a:endCxn id="459" idx="2"/>
            </p:cNvCxnSpPr>
            <p:nvPr/>
          </p:nvCxnSpPr>
          <p:spPr>
            <a:xfrm flipH="1" rot="16200000">
              <a:off x="5572800" y="2764440"/>
              <a:ext cx="1308960" cy="2160"/>
            </a:xfrm>
            <a:prstGeom prst="bentConnector5">
              <a:avLst>
                <a:gd name="adj1" fmla="val -7152"/>
                <a:gd name="adj2" fmla="val -52100000"/>
                <a:gd name="adj3" fmla="val 109215"/>
              </a:avLst>
            </a:prstGeom>
            <a:ln w="12600">
              <a:solidFill>
                <a:srgbClr val="000000"/>
              </a:solidFill>
              <a:miter/>
            </a:ln>
          </p:spPr>
        </p:cxn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2T19:29:44Z</dcterms:created>
  <dc:creator>Hubert Kirrmann</dc:creator>
  <dc:description>Programmable Logic Controllers
Software (without communication)</dc:description>
  <cp:keywords>Function Blocs IEC 61331 1131 SPS PLC Automates programmables</cp:keywords>
  <dc:language>en-US</dc:language>
  <cp:lastModifiedBy>Hubert Kirrmann</cp:lastModifiedBy>
  <cp:lastPrinted>2001-03-13T20:21:47Z</cp:lastPrinted>
  <dcterms:modified xsi:type="dcterms:W3CDTF">2003-07-31T16:40:17Z</dcterms:modified>
  <cp:revision>76</cp:revision>
  <dc:subject>Programming Logic Controllers</dc:subject>
  <dc:title>Industrial Automation</dc:title>
</cp:coreProperties>
</file>