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B83B-A649-43D7-AB25-75BF58055855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8AF082CF-A0C5-4A0B-8860-5135DAFEE9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Need for alternativ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2209680"/>
          <a:ext cx="4957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09680"/>
                    <a:ext cx="4957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950400"/>
            <a:ext cx="723096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OR-divergen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95288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86760"/>
            <a:ext cx="723132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OR-divergen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0" y="2438280"/>
          <a:ext cx="495288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438280"/>
                    <a:ext cx="49528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913680"/>
            <a:ext cx="723132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OR-Jo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95324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986760"/>
            <a:ext cx="723132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OR-Jo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62320" y="2514600"/>
          <a:ext cx="457200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5720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17:18:14Z</dcterms:modified>
  <cp:revision>73</cp:revision>
  <dc:subject/>
  <dc:title>SFC_Trainer</dc:title>
</cp:coreProperties>
</file>