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0160" y="62197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88C6-839C-4E69-A554-C2D5469E576D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348325FE-6BE0-41CE-9C9F-0153BF5D99E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732720" y="404640"/>
            <a:ext cx="192384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ne Transition ist enabled, wenn alle direkt vorangehenden Schritte markiert sind. Ansonsten ist die Transition ‚disabled‘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alten einer Transition: Wenn die Transitionsbedingung war ist, so kann eine Transition schalten, d.h. die Markierungen der direkt vorangehenden Schritte fliessen über die Transition und die folgenden Schritte werden marki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3560" y="1034640"/>
            <a:ext cx="705492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abled Tran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66680" y="2286000"/>
          <a:ext cx="358164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358164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715000" y="3332160"/>
            <a:ext cx="281952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712" y="5763"/>
                </a:moveTo>
                <a:lnTo>
                  <a:pt x="-584" y="5254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Transition ist en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4800600"/>
            <a:ext cx="281916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713" y="5763"/>
                </a:moveTo>
                <a:lnTo>
                  <a:pt x="-584" y="5254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Transition  ist 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altreg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Eine Transition kann schalten, wenn sie enabled ist und die Transitionsbedingung war 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2360" y="1228680"/>
            <a:ext cx="6839280" cy="6508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Times New Roman"/>
              </a:rPr>
              <a:t>Bearbeitung des Ablaufdiagram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earch for stabilit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Transitionen werden geschaltet bis ein stabiler Zustand erreicht ist, d.h. keine Transition mehr schalten kann. Erst wenn ein stabiler Zustand erreicht ist, werden die zur stabile Markierung gehörenden Aktionen ausgefüh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2360" y="1228680"/>
            <a:ext cx="6839280" cy="6508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Times New Roman"/>
              </a:rPr>
              <a:t>Bearbeitung des Ablaufdiagram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No Search for stabilit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In einem Iterationsschritt werden nur diejenigen Transitionen geschaltet, die zu Beginn des Zyklus schaltbar waren. Dadurch werden alle Aktionen eines markierten Schrittes mindestens zweimal durchgeführt – ein erstes und ein letztes 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607212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Vergleich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2670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Search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0120" y="167652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No Search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14400" y="411444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148360" y="1413000"/>
          <a:ext cx="22860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413000"/>
                    <a:ext cx="2286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71640" y="1413000"/>
          <a:ext cx="2581200" cy="45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413000"/>
                    <a:ext cx="2581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J.P. Keller</dc:creator>
  <dc:description/>
  <dc:language>en-US</dc:language>
  <cp:lastModifiedBy>Keller</cp:lastModifiedBy>
  <cp:lastPrinted>1995-10-13T13:45:16Z</cp:lastPrinted>
  <dcterms:modified xsi:type="dcterms:W3CDTF">2006-03-17T21:43:13Z</dcterms:modified>
  <cp:revision>74</cp:revision>
  <dc:subject/>
  <dc:title>Ablaufsprache</dc:title>
</cp:coreProperties>
</file>