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651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651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833400"/>
            <a:ext cx="68392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216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12960" y="4286160"/>
            <a:ext cx="9155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2600" y="4438800"/>
            <a:ext cx="9153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12960" y="4591080"/>
            <a:ext cx="9156600" cy="0"/>
          </a:xfrm>
          <a:prstGeom prst="line">
            <a:avLst/>
          </a:prstGeom>
          <a:ln w="25560">
            <a:solidFill>
              <a:srgbClr val="e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12960" y="4743360"/>
            <a:ext cx="9156600" cy="0"/>
          </a:xfrm>
          <a:prstGeom prst="line">
            <a:avLst/>
          </a:prstGeom>
          <a:ln w="25560">
            <a:solidFill>
              <a:srgbClr val="d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2960" y="4896000"/>
            <a:ext cx="9156600" cy="0"/>
          </a:xfrm>
          <a:prstGeom prst="line">
            <a:avLst/>
          </a:prstGeom>
          <a:ln w="25560">
            <a:solidFill>
              <a:srgbClr val="9c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2960" y="5048280"/>
            <a:ext cx="9156600" cy="0"/>
          </a:xfrm>
          <a:prstGeom prst="line">
            <a:avLst/>
          </a:prstGeom>
          <a:ln w="25560">
            <a:solidFill>
              <a:srgbClr val="75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2960" y="5200560"/>
            <a:ext cx="9156600" cy="0"/>
          </a:xfrm>
          <a:prstGeom prst="line">
            <a:avLst/>
          </a:prstGeom>
          <a:ln w="25560">
            <a:solidFill>
              <a:srgbClr val="5d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2960" y="5353200"/>
            <a:ext cx="9156600" cy="0"/>
          </a:xfrm>
          <a:prstGeom prst="line">
            <a:avLst/>
          </a:prstGeom>
          <a:ln w="25560">
            <a:solidFill>
              <a:srgbClr val="46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2960" y="5505480"/>
            <a:ext cx="9156600" cy="0"/>
          </a:xfrm>
          <a:prstGeom prst="line">
            <a:avLst/>
          </a:prstGeom>
          <a:ln w="25560">
            <a:solidFill>
              <a:srgbClr val="2e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960" y="5657760"/>
            <a:ext cx="9156600" cy="0"/>
          </a:xfrm>
          <a:prstGeom prst="line">
            <a:avLst/>
          </a:prstGeom>
          <a:ln w="25560">
            <a:solidFill>
              <a:srgbClr val="19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2960" y="5810400"/>
            <a:ext cx="91566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5080" y="311040"/>
            <a:ext cx="8597880" cy="61596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152360" y="833400"/>
            <a:ext cx="6839280" cy="14414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0160" y="62197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9799-062C-4C4F-8730-AF130A1F41FE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72200" y="62197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7DD0A69B-07ED-4F64-83DE-774764F3DC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2420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059080"/>
            <a:ext cx="79660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e von Ablaufdiagra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3870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14200"/>
            <a:ext cx="8381880" cy="10764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fteilung eines Ablaufdiagramms in Komponenten (Zustandsautoma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743200"/>
            <a:ext cx="3505320" cy="838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886200"/>
            <a:ext cx="3200400" cy="7621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447920"/>
          <a:ext cx="333864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333864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191120" y="3886200"/>
          <a:ext cx="222084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886200"/>
                    <a:ext cx="22208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477120" y="2590920"/>
          <a:ext cx="2220840" cy="16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590920"/>
                    <a:ext cx="222084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ückwärtskonflik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3880" y="2666880"/>
          <a:ext cx="602460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02460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5120" y="2438280"/>
          <a:ext cx="523404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523404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ösung des Konflik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47920" y="2209680"/>
          <a:ext cx="601956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60195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wärtskonflik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43200" y="2438280"/>
          <a:ext cx="37530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7530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1198440"/>
            <a:ext cx="6839280" cy="711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se von Ablaufdiagram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ormalisierung in Ta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mpon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nfli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ebend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ad-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cherheit und Ueberdeckbar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20120" cy="6508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ispiel: Alarmierung mit Selbsthal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0" y="1981080"/>
          <a:ext cx="464832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81080"/>
                    <a:ext cx="464832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s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ritte numer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en numer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le erstellen mit Schritte als Zeilen und Transitionen als Spa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elle ausfü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ür jede Transition angeben, um wieviel sich die Anzahl Markierungen in den Schritten ändert, wenn Transition schaltet. Zahl in der entsprechenden Zeile eintr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514600" y="685800"/>
          <a:ext cx="378144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85800"/>
                    <a:ext cx="37814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827360" y="4422600"/>
          <a:ext cx="5238720" cy="1806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7360" y="4422600"/>
                    <a:ext cx="5238720" cy="18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flipH="1">
            <a:off x="3886200" y="1447920"/>
            <a:ext cx="457200" cy="2971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066680"/>
            <a:ext cx="152280" cy="3733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038120" y="1066680"/>
            <a:ext cx="1219320" cy="4496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1981080"/>
            <a:ext cx="152280" cy="3048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440" y="1981080"/>
            <a:ext cx="1143000" cy="3886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2360" y="1168200"/>
            <a:ext cx="683928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pone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ieviele Marken in einem Ablaufdiagram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önnen Ablaufdiagramme aufgeteilt w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as ist der Zustand eines Ablaufdiagram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714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ustand eines Ablaufdiagram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er der Markier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2971800"/>
          <a:ext cx="378144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37814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800600" y="2895480"/>
          <a:ext cx="3781440" cy="26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95480"/>
                    <a:ext cx="37814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914400" y="57913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standsbezeich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57150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standsbezeich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6838920" cy="21114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60606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in Ablaufdiagramm mit immer nur einer Markierung ist ein Zustandsauto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zige Markierung gibt den Zustand des Systems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06060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ustandsnamen = Schrittna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4T10:06:24Z</dcterms:created>
  <dc:creator>J.P. Keller</dc:creator>
  <dc:description/>
  <dc:language>en-US</dc:language>
  <cp:lastModifiedBy>Keller</cp:lastModifiedBy>
  <cp:lastPrinted>1995-10-13T13:45:16Z</cp:lastPrinted>
  <dcterms:modified xsi:type="dcterms:W3CDTF">2006-03-17T21:46:05Z</dcterms:modified>
  <cp:revision>83</cp:revision>
  <dc:subject/>
  <dc:title>Ablaufsprache</dc:title>
</cp:coreProperties>
</file>