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7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8651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09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7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8651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2360" y="833400"/>
            <a:ext cx="68392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-12960" y="4286160"/>
            <a:ext cx="91551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-12600" y="4438800"/>
            <a:ext cx="9153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12960" y="4591080"/>
            <a:ext cx="9156600" cy="0"/>
          </a:xfrm>
          <a:prstGeom prst="line">
            <a:avLst/>
          </a:prstGeom>
          <a:ln w="25560">
            <a:solidFill>
              <a:srgbClr val="e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-12960" y="4743360"/>
            <a:ext cx="9156600" cy="0"/>
          </a:xfrm>
          <a:prstGeom prst="line">
            <a:avLst/>
          </a:prstGeom>
          <a:ln w="25560">
            <a:solidFill>
              <a:srgbClr val="d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-12960" y="4896000"/>
            <a:ext cx="9156600" cy="0"/>
          </a:xfrm>
          <a:prstGeom prst="line">
            <a:avLst/>
          </a:prstGeom>
          <a:ln w="25560">
            <a:solidFill>
              <a:srgbClr val="9c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-12960" y="5048280"/>
            <a:ext cx="9156600" cy="0"/>
          </a:xfrm>
          <a:prstGeom prst="line">
            <a:avLst/>
          </a:prstGeom>
          <a:ln w="25560">
            <a:solidFill>
              <a:srgbClr val="75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12960" y="5200560"/>
            <a:ext cx="9156600" cy="0"/>
          </a:xfrm>
          <a:prstGeom prst="line">
            <a:avLst/>
          </a:prstGeom>
          <a:ln w="25560">
            <a:solidFill>
              <a:srgbClr val="5d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-12960" y="5353200"/>
            <a:ext cx="9156600" cy="0"/>
          </a:xfrm>
          <a:prstGeom prst="line">
            <a:avLst/>
          </a:prstGeom>
          <a:ln w="25560">
            <a:solidFill>
              <a:srgbClr val="4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-12960" y="5505480"/>
            <a:ext cx="9156600" cy="0"/>
          </a:xfrm>
          <a:prstGeom prst="line">
            <a:avLst/>
          </a:prstGeom>
          <a:ln w="25560">
            <a:solidFill>
              <a:srgbClr val="2e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-12960" y="5657760"/>
            <a:ext cx="9156600" cy="0"/>
          </a:xfrm>
          <a:prstGeom prst="line">
            <a:avLst/>
          </a:prstGeom>
          <a:ln w="25560">
            <a:solidFill>
              <a:srgbClr val="19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12960" y="5810400"/>
            <a:ext cx="91566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35080" y="311040"/>
            <a:ext cx="8597880" cy="61596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90160" y="6219720"/>
            <a:ext cx="714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4D93-3435-4759-BC33-CD25C2A6801B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72200" y="6219720"/>
            <a:ext cx="115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ite </a:t>
            </a:r>
            <a:fld id="{3940673B-DFC2-43F7-959C-964137EB966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6804000" y="404640"/>
            <a:ext cx="1924200" cy="41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fe/bounded SFC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mber of tokens in a step is limi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2057400"/>
          <a:ext cx="2514600" cy="24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251460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276720" y="2057400"/>
          <a:ext cx="2514600" cy="245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057400"/>
                    <a:ext cx="251460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867280" y="2057400"/>
          <a:ext cx="2514600" cy="245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2057400"/>
                    <a:ext cx="251460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5407200" y="5181480"/>
            <a:ext cx="322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Leads to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tokens in ‚Temp.control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05720" y="464832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98644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fe/bounded S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19160" y="2936880"/>
            <a:ext cx="142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s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34290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00200" y="44197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er cond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ing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marked step in the SFC on the right is also marked on the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09480" y="1371600"/>
          <a:ext cx="2971800" cy="290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2971800" cy="29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562720" y="1447920"/>
          <a:ext cx="2895480" cy="283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447920"/>
                    <a:ext cx="2895480" cy="28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13080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fe/bounded S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SFC is safe, if, when simulated, there are no marking that covers another ma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066680" y="2438280"/>
          <a:ext cx="3124440" cy="30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3124440" cy="30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c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2438280"/>
            <a:ext cx="2819520" cy="234324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71320" y="2781360"/>
            <a:ext cx="2971800" cy="234324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36576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105520" y="2514600"/>
          <a:ext cx="3510000" cy="299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514600"/>
                    <a:ext cx="351000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214200"/>
            <a:ext cx="6359400" cy="10764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for boundedness with the Reachability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85840" y="287640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19400" y="279720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29400" y="277812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36576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629400" y="3752640"/>
            <a:ext cx="5716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80880" y="2057400"/>
          <a:ext cx="157824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57400"/>
                    <a:ext cx="15782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2438280" y="1981080"/>
          <a:ext cx="157824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81080"/>
                    <a:ext cx="15782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648320" y="1905120"/>
          <a:ext cx="157788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1905120"/>
                    <a:ext cx="157788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648320" y="4038480"/>
          <a:ext cx="1577880" cy="1905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4038480"/>
                    <a:ext cx="15778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162920" y="2057400"/>
          <a:ext cx="1577880" cy="1905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62920" y="2057400"/>
                    <a:ext cx="15778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116000" y="1498680"/>
            <a:ext cx="6885000" cy="492120"/>
          </a:xfrm>
          <a:custGeom>
            <a:avLst/>
            <a:gdLst/>
            <a:ahLst/>
            <a:rect l="l" t="t" r="r" b="b"/>
            <a:pathLst>
              <a:path w="4337" h="310">
                <a:moveTo>
                  <a:pt x="4337" y="256"/>
                </a:moveTo>
                <a:cubicBezTo>
                  <a:pt x="3789" y="136"/>
                  <a:pt x="3170" y="32"/>
                  <a:pt x="2561" y="16"/>
                </a:cubicBezTo>
                <a:cubicBezTo>
                  <a:pt x="1952" y="0"/>
                  <a:pt x="1112" y="110"/>
                  <a:pt x="685" y="159"/>
                </a:cubicBezTo>
                <a:cubicBezTo>
                  <a:pt x="258" y="208"/>
                  <a:pt x="143" y="279"/>
                  <a:pt x="0" y="3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4T10:06:24Z</dcterms:created>
  <dc:creator>J.P. Keller</dc:creator>
  <dc:description/>
  <dc:language>en-US</dc:language>
  <cp:lastModifiedBy>Keller</cp:lastModifiedBy>
  <cp:lastPrinted>1995-10-13T13:45:16Z</cp:lastPrinted>
  <dcterms:modified xsi:type="dcterms:W3CDTF">2006-03-25T20:08:02Z</dcterms:modified>
  <cp:revision>79</cp:revision>
  <dc:subject>Sicherheit</dc:subject>
  <dc:title>SFC Trainer</dc:title>
</cp:coreProperties>
</file>