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6648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2E01-CF0A-499B-9EC4-47C98429CEB6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F7AE852B-5769-4109-B0DB-BE96EAF5D4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92200" y="2433600"/>
            <a:ext cx="5240520" cy="3803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Wie bediene ich den SFC-Train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42920" y="2819520"/>
            <a:ext cx="2952720" cy="2124000"/>
            <a:chOff x="1042920" y="2819520"/>
            <a:chExt cx="2952720" cy="2124000"/>
          </a:xfrm>
        </p:grpSpPr>
        <p:sp>
          <p:nvSpPr>
            <p:cNvPr id="57" name=""/>
            <p:cNvSpPr/>
            <p:nvPr/>
          </p:nvSpPr>
          <p:spPr>
            <a:xfrm>
              <a:off x="1797120" y="2819520"/>
              <a:ext cx="2198520" cy="21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ff0066"/>
                  </a:solidFill>
                  <a:latin typeface="Times New Roman"/>
                </a:rPr>
                <a:t>Auswahl der Lek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2920" y="342900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809880" y="2781360"/>
            <a:ext cx="2819520" cy="571320"/>
            <a:chOff x="3809880" y="2781360"/>
            <a:chExt cx="2819520" cy="571320"/>
          </a:xfrm>
        </p:grpSpPr>
        <p:sp>
          <p:nvSpPr>
            <p:cNvPr id="60" name=""/>
            <p:cNvSpPr/>
            <p:nvPr/>
          </p:nvSpPr>
          <p:spPr>
            <a:xfrm>
              <a:off x="4140360" y="2781360"/>
              <a:ext cx="24890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Inha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809880" y="3048120"/>
              <a:ext cx="304920" cy="304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809880" y="3357720"/>
            <a:ext cx="2819520" cy="305280"/>
            <a:chOff x="3809880" y="3357720"/>
            <a:chExt cx="2819520" cy="305280"/>
          </a:xfrm>
        </p:grpSpPr>
        <p:sp>
          <p:nvSpPr>
            <p:cNvPr id="63" name=""/>
            <p:cNvSpPr/>
            <p:nvPr/>
          </p:nvSpPr>
          <p:spPr>
            <a:xfrm>
              <a:off x="4140360" y="3357720"/>
              <a:ext cx="24890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33cc33"/>
                  </a:solidFill>
                  <a:latin typeface="Times New Roman"/>
                </a:rPr>
                <a:t>Lernz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9880" y="3581280"/>
              <a:ext cx="30492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09880" y="3809880"/>
            <a:ext cx="2819520" cy="2215800"/>
            <a:chOff x="3809880" y="3809880"/>
            <a:chExt cx="2819520" cy="2215800"/>
          </a:xfrm>
        </p:grpSpPr>
        <p:sp>
          <p:nvSpPr>
            <p:cNvPr id="66" name=""/>
            <p:cNvSpPr/>
            <p:nvPr/>
          </p:nvSpPr>
          <p:spPr>
            <a:xfrm>
              <a:off x="4140360" y="3990960"/>
              <a:ext cx="2489040" cy="203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Beschreibung 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Übungsaufga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9880" y="3809880"/>
              <a:ext cx="304920" cy="9144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73360" y="1700280"/>
            <a:ext cx="5246640" cy="380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600200" y="609480"/>
            <a:ext cx="3657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. Theori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5320" y="1844640"/>
            <a:ext cx="3459960" cy="2808360"/>
            <a:chOff x="535320" y="1844640"/>
            <a:chExt cx="3459960" cy="2808360"/>
          </a:xfrm>
        </p:grpSpPr>
        <p:sp>
          <p:nvSpPr>
            <p:cNvPr id="71" name=""/>
            <p:cNvSpPr/>
            <p:nvPr/>
          </p:nvSpPr>
          <p:spPr>
            <a:xfrm>
              <a:off x="535320" y="18446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Sk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62120" y="2225520"/>
              <a:ext cx="3233160" cy="2427480"/>
              <a:chOff x="762120" y="2225520"/>
              <a:chExt cx="3233160" cy="2427480"/>
            </a:xfrm>
          </p:grpSpPr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2225520"/>
                <a:ext cx="1439640" cy="126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 flipH="1" flipV="1">
                <a:off x="2361960" y="2987640"/>
                <a:ext cx="1633320" cy="16653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460800" y="3645000"/>
            <a:ext cx="3390120" cy="1577880"/>
            <a:chOff x="460800" y="3645000"/>
            <a:chExt cx="3390120" cy="1577880"/>
          </a:xfrm>
        </p:grpSpPr>
        <p:sp>
          <p:nvSpPr>
            <p:cNvPr id="76" name=""/>
            <p:cNvSpPr/>
            <p:nvPr/>
          </p:nvSpPr>
          <p:spPr>
            <a:xfrm>
              <a:off x="460800" y="364500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nimierte Foli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62120" y="4025880"/>
              <a:ext cx="3088800" cy="1197000"/>
              <a:chOff x="762120" y="4025880"/>
              <a:chExt cx="3088800" cy="1197000"/>
            </a:xfrm>
          </p:grpSpPr>
          <p:pic>
            <p:nvPicPr>
              <p:cNvPr id="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120" y="4025880"/>
                <a:ext cx="1582560" cy="119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flipH="1" flipV="1">
                <a:off x="2437920" y="4711680"/>
                <a:ext cx="1413000" cy="856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2914560" y="5157720"/>
            <a:ext cx="2030760" cy="1110600"/>
            <a:chOff x="2914560" y="5157720"/>
            <a:chExt cx="2030760" cy="1110600"/>
          </a:xfrm>
        </p:grpSpPr>
        <p:sp>
          <p:nvSpPr>
            <p:cNvPr id="81" name=""/>
            <p:cNvSpPr/>
            <p:nvPr/>
          </p:nvSpPr>
          <p:spPr>
            <a:xfrm>
              <a:off x="3995640" y="5157720"/>
              <a:ext cx="0" cy="576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14560" y="5808600"/>
              <a:ext cx="2030760" cy="459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lbstkontro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335240" y="4941720"/>
            <a:ext cx="2562120" cy="930240"/>
            <a:chOff x="1335240" y="4941720"/>
            <a:chExt cx="2562120" cy="930240"/>
          </a:xfrm>
        </p:grpSpPr>
        <p:sp>
          <p:nvSpPr>
            <p:cNvPr id="84" name=""/>
            <p:cNvSpPr/>
            <p:nvPr/>
          </p:nvSpPr>
          <p:spPr>
            <a:xfrm flipH="1">
              <a:off x="2556000" y="4941720"/>
              <a:ext cx="1341360" cy="4190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5240" y="5503680"/>
              <a:ext cx="97776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5246640" cy="3808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00200" y="380880"/>
            <a:ext cx="4419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. Uebe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14000" y="2230560"/>
            <a:ext cx="4386600" cy="2646360"/>
            <a:chOff x="414000" y="2230560"/>
            <a:chExt cx="4386600" cy="2646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914400" y="2590920"/>
              <a:ext cx="17794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14000" y="2230560"/>
              <a:ext cx="22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blauf konfigurie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2590920" y="3505320"/>
              <a:ext cx="2209680" cy="1371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5680" y="4724280"/>
            <a:ext cx="4264560" cy="1575000"/>
            <a:chOff x="535680" y="4724280"/>
            <a:chExt cx="4264560" cy="1575000"/>
          </a:xfrm>
        </p:grpSpPr>
        <p:sp>
          <p:nvSpPr>
            <p:cNvPr id="93" name=""/>
            <p:cNvSpPr/>
            <p:nvPr/>
          </p:nvSpPr>
          <p:spPr>
            <a:xfrm flipH="1">
              <a:off x="2361960" y="5105520"/>
              <a:ext cx="2438280" cy="457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914400" y="5105520"/>
              <a:ext cx="1295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5680" y="472428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blauf tes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391640" y="1036800"/>
            <a:ext cx="3449880" cy="2247480"/>
            <a:chOff x="4391640" y="1036800"/>
            <a:chExt cx="3449880" cy="2247480"/>
          </a:xfrm>
        </p:grpSpPr>
        <p:sp>
          <p:nvSpPr>
            <p:cNvPr id="97" name=""/>
            <p:cNvSpPr/>
            <p:nvPr/>
          </p:nvSpPr>
          <p:spPr>
            <a:xfrm>
              <a:off x="4391640" y="1036800"/>
              <a:ext cx="34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Vorschau auf Simulationsan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148360" y="1341360"/>
              <a:ext cx="2303280" cy="1942920"/>
              <a:chOff x="5148360" y="1341360"/>
              <a:chExt cx="2303280" cy="1942920"/>
            </a:xfrm>
          </p:grpSpPr>
          <p:sp>
            <p:nvSpPr>
              <p:cNvPr id="99" name=""/>
              <p:cNvSpPr/>
              <p:nvPr/>
            </p:nvSpPr>
            <p:spPr>
              <a:xfrm flipH="1" flipV="1">
                <a:off x="6567480" y="2311200"/>
                <a:ext cx="884160" cy="9730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8360" y="1341360"/>
                <a:ext cx="1471680" cy="97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1" name=""/>
          <p:cNvGrpSpPr/>
          <p:nvPr/>
        </p:nvGrpSpPr>
        <p:grpSpPr>
          <a:xfrm>
            <a:off x="1549440" y="1484280"/>
            <a:ext cx="3382920" cy="3312720"/>
            <a:chOff x="1549440" y="1484280"/>
            <a:chExt cx="3382920" cy="3312720"/>
          </a:xfrm>
        </p:grpSpPr>
        <p:sp>
          <p:nvSpPr>
            <p:cNvPr id="102" name=""/>
            <p:cNvSpPr/>
            <p:nvPr/>
          </p:nvSpPr>
          <p:spPr>
            <a:xfrm>
              <a:off x="1549440" y="1484280"/>
              <a:ext cx="29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Ev. Vorlage kopieren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203640" y="1915920"/>
              <a:ext cx="1728720" cy="2881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5246640" cy="3808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38080" y="4800600"/>
            <a:ext cx="4647960" cy="1333440"/>
            <a:chOff x="838080" y="4800600"/>
            <a:chExt cx="4647960" cy="1333440"/>
          </a:xfrm>
        </p:grpSpPr>
        <p:sp>
          <p:nvSpPr>
            <p:cNvPr id="106" name=""/>
            <p:cNvSpPr/>
            <p:nvPr/>
          </p:nvSpPr>
          <p:spPr>
            <a:xfrm flipH="1">
              <a:off x="2590560" y="5105520"/>
              <a:ext cx="289548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838080" y="4800600"/>
              <a:ext cx="1447920" cy="13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838080" y="2819520"/>
            <a:ext cx="4647960" cy="1981080"/>
            <a:chOff x="838080" y="2819520"/>
            <a:chExt cx="4647960" cy="1981080"/>
          </a:xfrm>
        </p:grpSpPr>
        <p:sp>
          <p:nvSpPr>
            <p:cNvPr id="109" name=""/>
            <p:cNvSpPr/>
            <p:nvPr/>
          </p:nvSpPr>
          <p:spPr>
            <a:xfrm flipH="1" flipV="1">
              <a:off x="2590560" y="3505320"/>
              <a:ext cx="2895480" cy="1295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838080" y="2819520"/>
              <a:ext cx="16732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 txBox="1"/>
          <p:nvPr/>
        </p:nvSpPr>
        <p:spPr>
          <a:xfrm>
            <a:off x="1371600" y="53352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3. Vergleich mit Lösung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92200" y="2433600"/>
            <a:ext cx="5240520" cy="3803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Wie bediene ich den SFC-Train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11280" y="4149720"/>
            <a:ext cx="4105440" cy="1871280"/>
            <a:chOff x="2411280" y="4149720"/>
            <a:chExt cx="4105440" cy="1871280"/>
          </a:xfrm>
        </p:grpSpPr>
        <p:sp>
          <p:nvSpPr>
            <p:cNvPr id="115" name=""/>
            <p:cNvSpPr/>
            <p:nvPr/>
          </p:nvSpPr>
          <p:spPr>
            <a:xfrm>
              <a:off x="2411280" y="4149720"/>
              <a:ext cx="4105440" cy="1191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Einstellung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Wahl der Anzeigeprogram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Wahl der Spr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843280" y="5373360"/>
              <a:ext cx="1081080" cy="647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0" y="4653000"/>
            <a:ext cx="1979640" cy="1368000"/>
            <a:chOff x="0" y="4653000"/>
            <a:chExt cx="1979640" cy="1368000"/>
          </a:xfrm>
        </p:grpSpPr>
        <p:sp>
          <p:nvSpPr>
            <p:cNvPr id="118" name=""/>
            <p:cNvSpPr/>
            <p:nvPr/>
          </p:nvSpPr>
          <p:spPr>
            <a:xfrm>
              <a:off x="0" y="4653000"/>
              <a:ext cx="1979640" cy="825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Anzei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der Anleit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1081080" y="5444640"/>
              <a:ext cx="682560" cy="576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Viel Erfol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2909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Ingenieurschule Oensingen</dc:creator>
  <dc:description/>
  <dc:language>en-US</dc:language>
  <cp:lastModifiedBy>Keller</cp:lastModifiedBy>
  <cp:lastPrinted>1995-10-13T13:45:16Z</cp:lastPrinted>
  <dcterms:modified xsi:type="dcterms:W3CDTF">2006-03-30T16:11:50Z</dcterms:modified>
  <cp:revision>73</cp:revision>
  <dc:subject/>
  <dc:title>Ablaufsprache</dc:title>
</cp:coreProperties>
</file>